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86E-C104-4CDC-8B6D-D582E237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D96B-F8EA-4AA4-9FEA-DC0D2538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2079-1CC4-4FC9-B5C3-8ACFDEE7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1ACF-FA1B-422C-B73C-32B5EAD6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96A-5078-44FA-9A0D-DE4F854A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781E-A9E9-4A43-9990-0151AE63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65D-4FEB-48EA-B5C7-E0573580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F2E-4FA8-445D-9D68-F8FBAD13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7B7-2A9E-46FB-9780-55A9166A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4AA1-50A7-4670-BB9F-9681D023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CD84-B17E-4BC5-881C-6AE27E7A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BA03-0CBD-4210-916D-42515678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B36A-4E67-4841-93DF-14F733B0D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SEGURIDAD%20E%20HIGIENE%20INDUSTRIAL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914400"/>
            <a:ext cx="14475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5040" y="976320"/>
            <a:ext cx="136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Catalicador de la pérdida d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33440" y="923760"/>
            <a:ext cx="1184400" cy="914400"/>
            <a:chOff x="2233440" y="923760"/>
            <a:chExt cx="1184400" cy="914400"/>
          </a:xfrm>
        </p:grpSpPr>
        <p:sp>
          <p:nvSpPr>
            <p:cNvPr id="44" name=""/>
            <p:cNvSpPr/>
            <p:nvPr/>
          </p:nvSpPr>
          <p:spPr>
            <a:xfrm>
              <a:off x="2233440" y="923760"/>
              <a:ext cx="118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95360" y="1000080"/>
              <a:ext cx="1118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Causas media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836880" y="914400"/>
            <a:ext cx="1290600" cy="914400"/>
            <a:chOff x="3836880" y="914400"/>
            <a:chExt cx="1290600" cy="914400"/>
          </a:xfrm>
        </p:grpSpPr>
        <p:sp>
          <p:nvSpPr>
            <p:cNvPr id="47" name=""/>
            <p:cNvSpPr/>
            <p:nvPr/>
          </p:nvSpPr>
          <p:spPr>
            <a:xfrm>
              <a:off x="3836880" y="914400"/>
              <a:ext cx="12906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36880" y="990720"/>
              <a:ext cx="1218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Causas inmedia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5605560" y="914400"/>
            <a:ext cx="1371600" cy="914400"/>
            <a:chOff x="5605560" y="914400"/>
            <a:chExt cx="1371600" cy="914400"/>
          </a:xfrm>
        </p:grpSpPr>
        <p:sp>
          <p:nvSpPr>
            <p:cNvPr id="50" name=""/>
            <p:cNvSpPr/>
            <p:nvPr/>
          </p:nvSpPr>
          <p:spPr>
            <a:xfrm>
              <a:off x="5605560" y="914400"/>
              <a:ext cx="13716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7200" y="990720"/>
              <a:ext cx="1294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Hecho (accident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7478640" y="923760"/>
            <a:ext cx="1247760" cy="914400"/>
            <a:chOff x="7478640" y="923760"/>
            <a:chExt cx="1247760" cy="914400"/>
          </a:xfrm>
        </p:grpSpPr>
        <p:sp>
          <p:nvSpPr>
            <p:cNvPr id="53" name=""/>
            <p:cNvSpPr/>
            <p:nvPr/>
          </p:nvSpPr>
          <p:spPr>
            <a:xfrm>
              <a:off x="7478640" y="923760"/>
              <a:ext cx="124776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43800" y="1000080"/>
              <a:ext cx="1178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Lesión o dañ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752480" y="1441440"/>
            <a:ext cx="4809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17840" y="1441440"/>
            <a:ext cx="41904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27480" y="1441440"/>
            <a:ext cx="549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72480" y="1441440"/>
            <a:ext cx="4809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838160"/>
            <a:ext cx="1447560" cy="28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2880" y="1844640"/>
            <a:ext cx="14590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rograma inadecu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Normas de trabajo inadecu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Incumplimiento de las  norm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33440" y="1828800"/>
            <a:ext cx="1184400" cy="287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95360" y="1928880"/>
            <a:ext cx="1119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Factores pers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Factores del trabaj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36880" y="1828800"/>
            <a:ext cx="1290600" cy="287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36880" y="1828800"/>
            <a:ext cx="129060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Ac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Condiciones anorma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05560" y="1828800"/>
            <a:ext cx="1371600" cy="289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05560" y="1828800"/>
            <a:ext cx="1366920" cy="25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Contacto 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Material o equipo energiz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Acto fuera d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78640" y="1828800"/>
            <a:ext cx="1247760" cy="29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78640" y="1801800"/>
            <a:ext cx="124308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erso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Instalaciones y equi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Maquinaria y mater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40040" y="228600"/>
            <a:ext cx="52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CADENA DE LOS ACCI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14400" y="3191040"/>
            <a:ext cx="4809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17840" y="3191040"/>
            <a:ext cx="41904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27480" y="3191040"/>
            <a:ext cx="549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97680" y="3191040"/>
            <a:ext cx="4809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/>
          </p:cNvPr>
          <p:cNvSpPr/>
          <p:nvPr/>
        </p:nvSpPr>
        <p:spPr>
          <a:xfrm>
            <a:off x="8308800" y="6141960"/>
            <a:ext cx="412920" cy="298440"/>
          </a:xfrm>
          <a:custGeom>
            <a:avLst/>
            <a:gdLst>
              <a:gd name="textAreaLeft" fmla="*/ 19080 w 412920"/>
              <a:gd name="textAreaRight" fmla="*/ 393840 w 412920"/>
              <a:gd name="textAreaTop" fmla="*/ 19080 h 298440"/>
              <a:gd name="textAreaBottom" fmla="*/ 279360 h 298440"/>
            </a:gdLst>
            <a:ahLst/>
            <a:rect l="textAreaLeft" t="textAreaTop" r="textAreaRight" b="textAreaBottom"/>
            <a:pathLst>
              <a:path w="29876" h="21600">
                <a:moveTo>
                  <a:pt x="0" y="0"/>
                </a:moveTo>
                <a:lnTo>
                  <a:pt x="29876" y="0"/>
                </a:lnTo>
                <a:lnTo>
                  <a:pt x="29876" y="21600"/>
                </a:lnTo>
                <a:lnTo>
                  <a:pt x="0" y="21600"/>
                </a:lnTo>
                <a:close/>
              </a:path>
              <a:path fill="lightenLess" w="29876" h="21600">
                <a:moveTo>
                  <a:pt x="0" y="0"/>
                </a:moveTo>
                <a:lnTo>
                  <a:pt x="29876" y="0"/>
                </a:lnTo>
                <a:lnTo>
                  <a:pt x="28476" y="1400"/>
                </a:lnTo>
                <a:lnTo>
                  <a:pt x="1400" y="1400"/>
                </a:lnTo>
                <a:close/>
              </a:path>
              <a:path fill="darken" w="29876" h="21600">
                <a:moveTo>
                  <a:pt x="29876" y="0"/>
                </a:moveTo>
                <a:lnTo>
                  <a:pt x="29876" y="21600"/>
                </a:lnTo>
                <a:lnTo>
                  <a:pt x="28476" y="20200"/>
                </a:lnTo>
                <a:lnTo>
                  <a:pt x="28476" y="1400"/>
                </a:lnTo>
                <a:close/>
              </a:path>
              <a:path fill="darkenLess" w="29876" h="21600">
                <a:moveTo>
                  <a:pt x="29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76" y="20200"/>
                </a:lnTo>
                <a:close/>
              </a:path>
              <a:path fill="lighten" w="29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9876" h="21600">
                <a:moveTo>
                  <a:pt x="9411" y="3985"/>
                </a:moveTo>
                <a:lnTo>
                  <a:pt x="16409" y="3985"/>
                </a:lnTo>
                <a:lnTo>
                  <a:pt x="20465" y="7484"/>
                </a:lnTo>
                <a:lnTo>
                  <a:pt x="20465" y="17615"/>
                </a:lnTo>
                <a:lnTo>
                  <a:pt x="9411" y="17615"/>
                </a:lnTo>
                <a:close/>
              </a:path>
              <a:path fill="darken" w="29876" h="21600">
                <a:moveTo>
                  <a:pt x="16409" y="3985"/>
                </a:moveTo>
                <a:lnTo>
                  <a:pt x="20465" y="7484"/>
                </a:lnTo>
                <a:lnTo>
                  <a:pt x="16409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249120" y="255600"/>
            <a:ext cx="8604360" cy="6226200"/>
            <a:chOff x="249120" y="255600"/>
            <a:chExt cx="8604360" cy="6226200"/>
          </a:xfrm>
        </p:grpSpPr>
        <p:sp>
          <p:nvSpPr>
            <p:cNvPr id="76" name=""/>
            <p:cNvSpPr/>
            <p:nvPr/>
          </p:nvSpPr>
          <p:spPr>
            <a:xfrm>
              <a:off x="2984400" y="255600"/>
              <a:ext cx="313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Riesgos mecáni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4400" y="765360"/>
              <a:ext cx="3137040" cy="143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Se originan por la manifestación de energía en la operación de maquinaria, equipos y herramienta y en el manejo de material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Actúan por contacto y alc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8600" y="1489320"/>
              <a:ext cx="1517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Daño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15160" y="1489320"/>
              <a:ext cx="1517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Lesion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9120" y="2367000"/>
              <a:ext cx="2162160" cy="121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Ro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Frac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Explos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Derrum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inund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464160" y="2367000"/>
              <a:ext cx="2162160" cy="121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Quemadur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Cortadur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Escoria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Fractur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contus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25680" y="2853000"/>
              <a:ext cx="24512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Fuentes comunes de ries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98600" y="3751560"/>
              <a:ext cx="7834320" cy="368280"/>
              <a:chOff x="498600" y="3751560"/>
              <a:chExt cx="7834320" cy="368280"/>
            </a:xfrm>
          </p:grpSpPr>
          <p:sp>
            <p:nvSpPr>
              <p:cNvPr id="84" name=""/>
              <p:cNvSpPr/>
              <p:nvPr/>
            </p:nvSpPr>
            <p:spPr>
              <a:xfrm>
                <a:off x="498600" y="3751560"/>
                <a:ext cx="151740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Fuente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794040" y="3751560"/>
                <a:ext cx="151776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Operacione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15160" y="3751560"/>
                <a:ext cx="151776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Prevención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49120" y="4233960"/>
              <a:ext cx="2162160" cy="22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Elementos de máqui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Vehícul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Grúas y montacarg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Transmis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Temperaturas extrem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Pres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Veloc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Posi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87600" y="4233960"/>
              <a:ext cx="2389320" cy="22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Manejo de materi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Desbast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Cor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Soldad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Fundi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Operación de equi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Equipos a pres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64160" y="4233960"/>
              <a:ext cx="2389320" cy="22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Guardas o barrer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Interrupto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Dispositivos de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Dispositivos de desaho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E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Capacit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señaliz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16000" y="1677960"/>
              <a:ext cx="96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21440" y="1677960"/>
              <a:ext cx="69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52920" y="2211480"/>
              <a:ext cx="0" cy="64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52920" y="3198960"/>
              <a:ext cx="0" cy="55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04920" y="3630600"/>
              <a:ext cx="646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04920" y="363060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669080" y="3630600"/>
              <a:ext cx="0" cy="1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69080" y="3630600"/>
              <a:ext cx="0" cy="1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69080" y="412776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52920" y="412776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04920" y="412776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7594560" y="1865160"/>
            <a:ext cx="0" cy="5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79440" y="1865160"/>
            <a:ext cx="0" cy="5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49120" y="255600"/>
            <a:ext cx="8604360" cy="6217920"/>
            <a:chOff x="249120" y="255600"/>
            <a:chExt cx="8604360" cy="6217920"/>
          </a:xfrm>
        </p:grpSpPr>
        <p:sp>
          <p:nvSpPr>
            <p:cNvPr id="104" name=""/>
            <p:cNvSpPr/>
            <p:nvPr/>
          </p:nvSpPr>
          <p:spPr>
            <a:xfrm>
              <a:off x="2984400" y="255600"/>
              <a:ext cx="313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Riesgos eléctri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84400" y="765000"/>
              <a:ext cx="3137040" cy="192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Se originan por la presencia de la energía eléctrica en instalaciones de control, transmisión o aplicación, o por la fuga de la misma a través de elementos mal aislados o aterrizado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Actúan por contacto o por alc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8600" y="1488960"/>
              <a:ext cx="1517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Daño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15160" y="1488960"/>
              <a:ext cx="1517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Lesion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9120" y="2367000"/>
              <a:ext cx="2162160" cy="46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Incen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Explos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64160" y="2220840"/>
              <a:ext cx="2162160" cy="961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Quemadur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Paro cardia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Paro respirator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muer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25680" y="2852640"/>
              <a:ext cx="24512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Fuentes comunes de ries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9120" y="4795920"/>
              <a:ext cx="2162160" cy="167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Tableros de 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Instalaciones domé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Instalaciones indu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de operación norm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Instalaciones alumb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Líneas de tier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87600" y="4795920"/>
              <a:ext cx="2389320" cy="139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Subesta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Líneas de transmis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Plantas de gene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Transformador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21440" y="4808520"/>
              <a:ext cx="2732040" cy="155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Equipos en movi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Tuberías y ductos con fluidos en movi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Tanques de almacenami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Elementos de fric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Times New Roman"/>
                </a:rPr>
                <a:t>Elementos de induc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16000" y="1677960"/>
              <a:ext cx="96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21440" y="1677960"/>
              <a:ext cx="69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52920" y="27003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52920" y="3198960"/>
              <a:ext cx="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5040" y="3444840"/>
              <a:ext cx="1517760" cy="78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Bajo volt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24 a 66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94040" y="3444840"/>
              <a:ext cx="15177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Alto voltaje 1000</a:t>
              </a:r>
              <a:r>
                <a:rPr b="0" lang="es-MX" sz="1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51600" y="3444840"/>
              <a:ext cx="151776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Corriente estát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41360" y="3324240"/>
              <a:ext cx="625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41360" y="33242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93760" y="1865160"/>
              <a:ext cx="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94560" y="186516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41360" y="423396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52920" y="4095720"/>
              <a:ext cx="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94560" y="332424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94560" y="4095720"/>
              <a:ext cx="0" cy="7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984400" y="255600"/>
            <a:ext cx="31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iesgos quí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84400" y="765000"/>
            <a:ext cx="3137040" cy="143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Se originan en la producción, aplicación y  manejo de sustancias químic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Actúan por contacto, inhalación e in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8600" y="1488960"/>
            <a:ext cx="151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añ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5160" y="1488960"/>
            <a:ext cx="151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es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9120" y="2367000"/>
            <a:ext cx="2162160" cy="71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Corro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xplo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conta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64160" y="2098800"/>
            <a:ext cx="2162160" cy="121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Quemadu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ntoxicación, asfix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nven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ermatitis, neurit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cán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25680" y="2852640"/>
            <a:ext cx="2451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Fuentes comunes de ries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9120" y="4795920"/>
            <a:ext cx="2162160" cy="12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Síntesis orgá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ndustria farmacéu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etro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laboración de sustancias intermed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7720" y="4233960"/>
            <a:ext cx="2388960" cy="23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laboración y aplicación de pintu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laboración  y  aplicación de insectic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esengrasado y lavado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Agroindust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esinfectación y sanit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ndustria alimenti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21440" y="4808520"/>
            <a:ext cx="2732040" cy="82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Almac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Aplicación man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16000" y="1677960"/>
            <a:ext cx="9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21440" y="1677960"/>
            <a:ext cx="69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52920" y="2211480"/>
            <a:ext cx="0" cy="64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93760" y="1865160"/>
            <a:ext cx="0" cy="5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94560" y="1865160"/>
            <a:ext cx="0" cy="2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41360" y="406728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52920" y="406728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52920" y="3198960"/>
            <a:ext cx="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5040" y="3691080"/>
            <a:ext cx="151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ínt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4040" y="3691080"/>
            <a:ext cx="151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51600" y="3691080"/>
            <a:ext cx="1517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anej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41360" y="3570120"/>
            <a:ext cx="625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41360" y="3570120"/>
            <a:ext cx="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94560" y="3570120"/>
            <a:ext cx="0" cy="12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94560" y="4067280"/>
            <a:ext cx="0" cy="74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3533760" y="723960"/>
            <a:ext cx="1252440" cy="1191600"/>
            <a:chOff x="3533760" y="723960"/>
            <a:chExt cx="1252440" cy="1191600"/>
          </a:xfrm>
        </p:grpSpPr>
        <p:sp>
          <p:nvSpPr>
            <p:cNvPr id="155" name=""/>
            <p:cNvSpPr/>
            <p:nvPr/>
          </p:nvSpPr>
          <p:spPr>
            <a:xfrm>
              <a:off x="3533760" y="723960"/>
              <a:ext cx="1252440" cy="11905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92160" y="816120"/>
              <a:ext cx="934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600" spc="-1" strike="noStrike">
                  <a:solidFill>
                    <a:srgbClr val="ffffff"/>
                  </a:solidFill>
                  <a:latin typeface="Albertus Medium"/>
                </a:rPr>
                <a:t>A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051600" y="2486160"/>
            <a:ext cx="1252440" cy="1213200"/>
            <a:chOff x="6051600" y="2486160"/>
            <a:chExt cx="1252440" cy="1213200"/>
          </a:xfrm>
        </p:grpSpPr>
        <p:sp>
          <p:nvSpPr>
            <p:cNvPr id="158" name=""/>
            <p:cNvSpPr/>
            <p:nvPr/>
          </p:nvSpPr>
          <p:spPr>
            <a:xfrm>
              <a:off x="6051600" y="2486160"/>
              <a:ext cx="1252440" cy="12110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94240" y="2508120"/>
              <a:ext cx="850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200" spc="-1" strike="noStrike">
                  <a:solidFill>
                    <a:srgbClr val="ffffff"/>
                  </a:solidFill>
                  <a:latin typeface="Albertus Medium"/>
                </a:rPr>
                <a:t>B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900000" y="2486160"/>
            <a:ext cx="1519200" cy="1532880"/>
            <a:chOff x="900000" y="2486160"/>
            <a:chExt cx="1519200" cy="1532880"/>
          </a:xfrm>
        </p:grpSpPr>
        <p:sp>
          <p:nvSpPr>
            <p:cNvPr id="161" name=""/>
            <p:cNvSpPr/>
            <p:nvPr/>
          </p:nvSpPr>
          <p:spPr>
            <a:xfrm>
              <a:off x="900000" y="2486160"/>
              <a:ext cx="1519200" cy="15318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70000" y="2584440"/>
              <a:ext cx="9572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8800" spc="-1" strike="noStrike">
                  <a:solidFill>
                    <a:srgbClr val="ffffff"/>
                  </a:solidFill>
                  <a:latin typeface="Albertus Medium"/>
                </a:rPr>
                <a:t>C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232080" y="555480"/>
            <a:ext cx="187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12640"/>
            <a:ext cx="178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OMBUSTI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1914480"/>
            <a:ext cx="178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OMU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5440" y="2235240"/>
            <a:ext cx="2084400" cy="20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5440" y="2235240"/>
            <a:ext cx="208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EQUI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5440" y="4078440"/>
            <a:ext cx="208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ELÉCTR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84840" y="2235240"/>
            <a:ext cx="1785960" cy="18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84840" y="2235240"/>
            <a:ext cx="17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LÍQ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84840" y="3773520"/>
            <a:ext cx="17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COMBUSTI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043080" y="4017960"/>
            <a:ext cx="2251080" cy="2087640"/>
            <a:chOff x="3043080" y="4017960"/>
            <a:chExt cx="2251080" cy="2087640"/>
          </a:xfrm>
        </p:grpSpPr>
        <p:grpSp>
          <p:nvGrpSpPr>
            <p:cNvPr id="173" name=""/>
            <p:cNvGrpSpPr/>
            <p:nvPr/>
          </p:nvGrpSpPr>
          <p:grpSpPr>
            <a:xfrm>
              <a:off x="3236760" y="4322880"/>
              <a:ext cx="1828800" cy="1433520"/>
              <a:chOff x="3236760" y="4322880"/>
              <a:chExt cx="1828800" cy="1433520"/>
            </a:xfrm>
          </p:grpSpPr>
          <p:sp>
            <p:nvSpPr>
              <p:cNvPr id="174" name=""/>
              <p:cNvSpPr/>
              <p:nvPr/>
            </p:nvSpPr>
            <p:spPr>
              <a:xfrm>
                <a:off x="3236760" y="4322880"/>
                <a:ext cx="1828800" cy="1433520"/>
              </a:xfrm>
              <a:prstGeom prst="star5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870360" y="4653000"/>
                <a:ext cx="680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5400" spc="-1" strike="noStrike">
                    <a:solidFill>
                      <a:srgbClr val="ffffff"/>
                    </a:solidFill>
                    <a:latin typeface="Albertus Medium"/>
                  </a:rPr>
                  <a:t>D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3043080" y="4017960"/>
              <a:ext cx="2251080" cy="20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3080" y="4017960"/>
              <a:ext cx="225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Times New Roman"/>
                </a:rPr>
                <a:t>MET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43080" y="5859360"/>
              <a:ext cx="225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000000"/>
                  </a:solidFill>
                  <a:latin typeface="Times New Roman"/>
                </a:rPr>
                <a:t>COMBUSTIB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58800" y="1106640"/>
            <a:ext cx="8059680" cy="11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8800" y="1106640"/>
            <a:ext cx="2871720" cy="1147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46760" y="1106640"/>
            <a:ext cx="2871720" cy="1147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1335240"/>
            <a:ext cx="22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lor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08560" y="1335240"/>
            <a:ext cx="22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lor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30520" y="1335240"/>
            <a:ext cx="231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ombre del fluído sobre color de segur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765000"/>
            <a:ext cx="22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50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08560" y="739800"/>
            <a:ext cx="22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50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0520" y="739800"/>
            <a:ext cx="22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100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4T04:30:24Z</dcterms:created>
  <dc:creator>Ramiro Iván Vega Espinosa</dc:creator>
  <dc:description/>
  <dc:language>en-US</dc:language>
  <cp:lastModifiedBy>Ramiro Iván Vega Espinosa</cp:lastModifiedBy>
  <dcterms:modified xsi:type="dcterms:W3CDTF">2000-08-01T21:40:57Z</dcterms:modified>
  <cp:revision>9</cp:revision>
  <dc:subject/>
  <dc:title>Presentación de PowerPoint</dc:title>
</cp:coreProperties>
</file>