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2143080" y="685440"/>
            <a:ext cx="257184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E2F4-FC06-4164-8F29-DF80E0280B6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143080" y="685800"/>
            <a:ext cx="257184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Quedan incluidos los accidentes que se producen en el trayecto de la casa al trabajo y viscevers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43080" y="685800"/>
            <a:ext cx="257184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ncargado de seguridad debe equilibrar los costos y benefic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olamente algunas empresas grandes llevan un control de estos gasto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2143080" y="685800"/>
            <a:ext cx="257184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tre las áreas iluminadas y las oscura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43080" y="685800"/>
            <a:ext cx="257184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r gráfica en archivo GRAFICAS.PP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43080" y="685800"/>
            <a:ext cx="257184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resistencia de la piel baja al estar mojada hasta 45 ve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B8AC2-09A7-4D1D-AF53-217183750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A035A-ECAB-480D-8372-72B77053D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1EDA5-BDD5-4865-91A2-70EE8BDF3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F655B-01C2-4710-BBDC-BDAC3DBFF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EBAF4-1B4C-4C4A-8319-D34C61B05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4551D-EBF9-4797-86D9-55B8CFF28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C8B60-0818-4E98-998F-DD217E422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CB9D0-6BDF-4E7F-9961-34B116569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54356-8B89-4390-B776-F02A9DD98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B5811-00F3-4270-85DB-EC2A89BCE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4CE48-DB88-4B3D-85A4-997AE9E65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EDE81-02D2-4D27-9474-88C2E0CD5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B480A-B3C2-4722-B5B0-122B76171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EA062-B18E-4B89-AFE6-EC42D9F30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5EED4-4CD9-4C65-A1C4-D946A8E28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98C2F-5C6C-46E4-9A69-6EB9262DB4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FDEC6-7951-40D7-A3B2-A51838CA9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250B1-DD16-4879-9F67-75F98F9A1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5864-5BAB-4F52-A48F-34A830CFF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DFEB6-5F37-4FEA-B6AE-F4A1789F1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88944-68F8-49FD-81E6-72CD55A4F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44D1-7D24-4417-8AAA-1C4C89804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C1A30-2729-4A1E-851E-E9132A63D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67C66-07EF-4354-8496-0DEA2D68B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6307920" y="1440"/>
            <a:ext cx="13158000" cy="18255240"/>
            <a:chOff x="-6307920" y="1440"/>
            <a:chExt cx="13158000" cy="18255240"/>
          </a:xfrm>
        </p:grpSpPr>
        <p:sp>
          <p:nvSpPr>
            <p:cNvPr id="1" name=""/>
            <p:cNvSpPr/>
            <p:nvPr/>
          </p:nvSpPr>
          <p:spPr>
            <a:xfrm>
              <a:off x="4041360" y="2113920"/>
              <a:ext cx="2808720" cy="701532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307920" y="1440"/>
              <a:ext cx="12615840" cy="18255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dt" idx="1"/>
          </p:nvPr>
        </p:nvSpPr>
        <p:spPr>
          <a:xfrm>
            <a:off x="514080" y="8331120"/>
            <a:ext cx="1428840" cy="6098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343240" y="8331120"/>
            <a:ext cx="2171520" cy="6098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4915080" y="8331120"/>
            <a:ext cx="1428480" cy="609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12AF-93E6-4749-97DD-C6EC45640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9f9f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9f9f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5820840" y="1947240"/>
            <a:ext cx="12678840" cy="14392800"/>
            <a:chOff x="-5820840" y="1947240"/>
            <a:chExt cx="12678840" cy="14392800"/>
          </a:xfrm>
        </p:grpSpPr>
        <p:sp>
          <p:nvSpPr>
            <p:cNvPr id="45" name=""/>
            <p:cNvSpPr/>
            <p:nvPr/>
          </p:nvSpPr>
          <p:spPr>
            <a:xfrm>
              <a:off x="2453760" y="3612600"/>
              <a:ext cx="4404240" cy="553104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820840" y="1947240"/>
              <a:ext cx="10089000" cy="143928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969480" y="1015920"/>
            <a:ext cx="582948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514080" y="8331120"/>
            <a:ext cx="1428840" cy="6098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343240" y="8331120"/>
            <a:ext cx="2171520" cy="6098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4915080" y="8331120"/>
            <a:ext cx="1428480" cy="6098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AC30-81CA-4F25-91D3-E39AEA3BA3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9f9f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9f9f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file:///GR&#193;FICAS.ppt"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9f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819160"/>
            <a:ext cx="582912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GURIDAD E HIGIENE INDUSTRIAL</a:t>
            </a:r>
            <a:endParaRPr b="0" lang="en-US" sz="4400" spc="-1" strike="noStrike">
              <a:solidFill>
                <a:srgbClr val="000000"/>
              </a:solidFill>
              <a:latin typeface="Arial"/>
            </a:endParaRPr>
          </a:p>
        </p:txBody>
      </p:sp>
      <p:sp>
        <p:nvSpPr>
          <p:cNvPr id="96" name="PlaceHolder 2"/>
          <p:cNvSpPr>
            <a:spLocks noGrp="1"/>
          </p:cNvSpPr>
          <p:nvPr>
            <p:ph type="subTitle"/>
          </p:nvPr>
        </p:nvSpPr>
        <p:spPr>
          <a:xfrm>
            <a:off x="1142640" y="4571640"/>
            <a:ext cx="4800600" cy="233676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g. Ramiro Iván Vega Espino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Arial"/>
              </a:rPr>
              <a:t>Funciones y actividades del área de seguridad</a:t>
            </a:r>
            <a:endParaRPr b="0" lang="en-US" sz="3000" spc="-1" strike="noStrike">
              <a:solidFill>
                <a:srgbClr val="000000"/>
              </a:solidFill>
              <a:latin typeface="Arial"/>
            </a:endParaRPr>
          </a:p>
        </p:txBody>
      </p:sp>
      <p:sp>
        <p:nvSpPr>
          <p:cNvPr id="112" name="PlaceHolder 2"/>
          <p:cNvSpPr>
            <a:spLocks noGrp="1"/>
          </p:cNvSpPr>
          <p:nvPr>
            <p:ph/>
          </p:nvPr>
        </p:nvSpPr>
        <p:spPr>
          <a:xfrm>
            <a:off x="514440" y="2031840"/>
            <a:ext cx="5829120" cy="6096240"/>
          </a:xfrm>
          <a:prstGeom prst="rect">
            <a:avLst/>
          </a:prstGeom>
          <a:noFill/>
          <a:ln w="0">
            <a:noFill/>
          </a:ln>
        </p:spPr>
        <p:txBody>
          <a:bodyPr lIns="90000" rIns="90000" tIns="46800" bIns="46800" anchor="t">
            <a:normAutofit/>
          </a:bodyPr>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as responsabilidades típicas so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alizar cada uno de los procesos operativos de la empres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dentificar los posibles riesgos en las operaciones de los proces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poner, coordinar y apoyar la aplicación de una metodología  para el análisis y contro de los riesg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blecer, mantener y analizar el control estadístico de riesg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señar la metodología de investigación de accident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tar y asesorar en la investigación de accident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near, promover y en su caso desarrollar, la capacitación en seguridad e higien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unciones y actividades del área de seguridad...</a:t>
            </a:r>
            <a:endParaRPr b="0" lang="en-US" sz="2400" spc="-1" strike="noStrike">
              <a:solidFill>
                <a:srgbClr val="000000"/>
              </a:solidFill>
              <a:latin typeface="Arial"/>
            </a:endParaRPr>
          </a:p>
        </p:txBody>
      </p:sp>
      <p:sp>
        <p:nvSpPr>
          <p:cNvPr id="114" name="PlaceHolder 2"/>
          <p:cNvSpPr>
            <a:spLocks noGrp="1"/>
          </p:cNvSpPr>
          <p:nvPr>
            <p:ph/>
          </p:nvPr>
        </p:nvSpPr>
        <p:spPr>
          <a:xfrm>
            <a:off x="514440" y="1625760"/>
            <a:ext cx="5829120" cy="650232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on responsabilidad del encargado de seguridad e higiene:</a:t>
            </a:r>
            <a:endParaRPr b="0" lang="en-US" sz="24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lisis, selección, diseño y control de los sistemas contra incendio de la empres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tegración, capacitación y coordinación de las brigadas de emergencia. (contra incendios y primeros auxili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lisis, selección y control de equipo de protección personal.</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seño y difusión de planes y sistemas de emergenci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tegración, coordinación y control del plan general de segur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14440" y="1015920"/>
            <a:ext cx="582912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ructura orgánica</a:t>
            </a:r>
            <a:endParaRPr b="0" lang="en-US" sz="3200" spc="-1" strike="noStrike">
              <a:solidFill>
                <a:srgbClr val="000000"/>
              </a:solidFill>
              <a:latin typeface="Arial"/>
            </a:endParaRPr>
          </a:p>
        </p:txBody>
      </p:sp>
      <p:sp>
        <p:nvSpPr>
          <p:cNvPr id="116" name="PlaceHolder 2"/>
          <p:cNvSpPr>
            <a:spLocks noGrp="1"/>
          </p:cNvSpPr>
          <p:nvPr>
            <p:ph/>
          </p:nvPr>
        </p:nvSpPr>
        <p:spPr>
          <a:xfrm>
            <a:off x="514440" y="1727280"/>
            <a:ext cx="582912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i el departamento de seguridad es paralelo a producción, se tienen los siguientes incovenien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responsabilidad se le deja a quien no tiene autoridad sobre el riesg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mueve el conflicto de la doble autori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uplicidad de funcion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 conflictos de jerarquí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urocratiza la fluidez de la toma de decisiones.</a:t>
            </a:r>
            <a:endParaRPr b="0" lang="en-US" sz="2000" spc="-1" strike="noStrike">
              <a:solidFill>
                <a:srgbClr val="000000"/>
              </a:solidFill>
              <a:latin typeface="Times New Roman"/>
            </a:endParaRPr>
          </a:p>
          <a:p>
            <a:pPr marL="343080" indent="-343080">
              <a:lnSpc>
                <a:spcPct val="90000"/>
              </a:lnSpc>
              <a:spcBef>
                <a:spcPts val="60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Si se encuentra como área staff, se tien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responsabilidad recae en quien opera el riesg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evita la doble autori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s decisiones se centran en el máximo nivel jerárquic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timizan los recursos administrativos y de supervi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s decisiones son tomadas por quien ordena su aplic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Retos para el profesional de la seguridad</a:t>
            </a:r>
            <a:endParaRPr b="0" lang="en-US" sz="3200" spc="-1" strike="noStrike">
              <a:solidFill>
                <a:srgbClr val="000000"/>
              </a:solidFill>
              <a:latin typeface="Arial"/>
            </a:endParaRPr>
          </a:p>
        </p:txBody>
      </p:sp>
      <p:sp>
        <p:nvSpPr>
          <p:cNvPr id="11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arrollar en los trabajadores el sentido de responsabilidad y de participación.</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mostrar a los empresarios los beneficios que se obtienen con la adecuada aplicación de las técnicas de seguridad e higiene industrial.</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epararse para el manejo adecuado de los aspectos técnicos y humanos implicados en la problemática típica del desarrollo y aplicación de la higiene y seguridad de las empres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14440" y="812520"/>
            <a:ext cx="582912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p. II Marco legal mexicano e internacional</a:t>
            </a:r>
            <a:endParaRPr b="0" lang="en-US" sz="3200" spc="-1" strike="noStrike">
              <a:solidFill>
                <a:srgbClr val="000000"/>
              </a:solidFill>
              <a:latin typeface="Arial"/>
            </a:endParaRPr>
          </a:p>
        </p:txBody>
      </p:sp>
      <p:sp>
        <p:nvSpPr>
          <p:cNvPr id="120"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glamento Federal de Seguridad, Higiene y Medio ambiente del trabajo.</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Ley del IMSS</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116 normas específica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 almacenamiento y manejo de materia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 seguridad de locales y edifici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9 seguridad de máquinas, herramientas y equip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trabajo en min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condiciones de seguridad en instalaciones eléctric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 tecnología combate contra incendi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 características de EPP</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primeros auxili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características de reportes de accide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 señales y avis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comisiones de segur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 sustancias químicas (manejo y almacenamien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 agentes físicos que alteran el ambiente de trabaj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8 métodos de muestreo de diferentes prods. Quím.</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cuerdos emanados de convenios internaci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812880"/>
            <a:ext cx="582912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misiones de seguridad e higiene</a:t>
            </a:r>
            <a:endParaRPr b="0" lang="en-US" sz="2800" spc="-1" strike="noStrike">
              <a:solidFill>
                <a:srgbClr val="000000"/>
              </a:solidFill>
              <a:latin typeface="Arial"/>
            </a:endParaRPr>
          </a:p>
        </p:txBody>
      </p:sp>
      <p:sp>
        <p:nvSpPr>
          <p:cNvPr id="122" name="PlaceHolder 2"/>
          <p:cNvSpPr>
            <a:spLocks noGrp="1"/>
          </p:cNvSpPr>
          <p:nvPr>
            <p:ph/>
          </p:nvPr>
        </p:nvSpPr>
        <p:spPr>
          <a:xfrm>
            <a:off x="514440" y="1752480"/>
            <a:ext cx="5829120" cy="637560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organismos autónomos cuyo objetivo es fomentar la prevención de riesgo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 integración en número es en partes iguales representantes del patrón y de los trabajadore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s funciones básicas son:</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laborar con las autoridades del trabajo, las sanitarias y las de seguridad social en la investigación y prevención de las causas de accidentes y enfermedades de trabajo.</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igilar el cumplimiento del Reglamento General de Seguridad en el Trabajo y otros reglamentos, instructivos y norma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mover la difusión de las medidas preventiva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mover la capacitación de los trabajadores en materia de seguridad e higiene industrial</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vestigar y reportar los riesgos consumados a las autoridades competentes.</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igen por la norma NOM-019-STPS-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812880"/>
            <a:ext cx="5829120" cy="48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iesgo de trabajo</a:t>
            </a:r>
            <a:endParaRPr b="0" lang="en-US" sz="3000" spc="-1" strike="noStrike">
              <a:solidFill>
                <a:srgbClr val="000000"/>
              </a:solidFill>
              <a:latin typeface="Arial"/>
            </a:endParaRPr>
          </a:p>
        </p:txBody>
      </p:sp>
      <p:sp>
        <p:nvSpPr>
          <p:cNvPr id="124"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rt. 473</a:t>
            </a:r>
            <a:r>
              <a:rPr b="0" lang="es-MX" sz="2400" spc="-1" strike="noStrike">
                <a:solidFill>
                  <a:srgbClr val="000000"/>
                </a:solidFill>
                <a:latin typeface="Times New Roman"/>
              </a:rPr>
              <a:t> Riesgo de trabajo son los accidentes a que están expuestos los trabajadores en ejercicio o con motivo del trabajo.</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rt. 474</a:t>
            </a:r>
            <a:r>
              <a:rPr b="0" lang="es-MX" sz="2400" spc="-1" strike="noStrike">
                <a:solidFill>
                  <a:srgbClr val="000000"/>
                </a:solidFill>
                <a:latin typeface="Times New Roman"/>
              </a:rPr>
              <a:t> Accidente de trabajo es toda lesión orgánica o perturbación funcional, imediata o posterior, o la muerte producida repentinamente en ejercicio, o con motivo del trabajo cualesquiera que sea el lugar y el tiempo en que se preste.</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mbos artículos únicamente consideran situaciones con lesiones, pero debe considerarse también las de daños.</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causas de los accidentes son elementos y factores, los </a:t>
            </a:r>
            <a:r>
              <a:rPr b="1" lang="es-MX" sz="2400" spc="-1" strike="noStrike">
                <a:solidFill>
                  <a:srgbClr val="000000"/>
                </a:solidFill>
                <a:latin typeface="Times New Roman"/>
              </a:rPr>
              <a:t>elementos</a:t>
            </a:r>
            <a:r>
              <a:rPr b="0" lang="es-MX" sz="2400" spc="-1" strike="noStrike">
                <a:solidFill>
                  <a:srgbClr val="000000"/>
                </a:solidFill>
                <a:latin typeface="Times New Roman"/>
              </a:rPr>
              <a:t> son causas intrínsecas y s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alta de control en el proceso; elementos de trabajo en la tarea y características person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Falta de control en el proceso</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rección y administración sin orientación a la seguridad, sistemas de verificación inadecuados, reglas organizacionales antagónicas, sistemas de compras sin verificación, ingeniería de diseño sin enfoque de seguridad.</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ementos de trabajo en la tarea</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ervisión inadecuada, mantto. Inadecuado, herramiento yo equipo deficientes, normas de trabajo inadecuadas, operación inadecuada.</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racterísticas personale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dad inadecuada, falta de conocimientos, habilidad o destreza defisientes, fatiga, estrés.</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a:t>
            </a:r>
            <a:r>
              <a:rPr b="1" lang="es-MX" sz="2400" spc="-1" strike="noStrike">
                <a:solidFill>
                  <a:srgbClr val="000000"/>
                </a:solidFill>
                <a:latin typeface="Times New Roman"/>
              </a:rPr>
              <a:t>factores</a:t>
            </a:r>
            <a:r>
              <a:rPr b="0" lang="es-MX" sz="2400" spc="-1" strike="noStrike">
                <a:solidFill>
                  <a:srgbClr val="000000"/>
                </a:solidFill>
                <a:latin typeface="Times New Roman"/>
              </a:rPr>
              <a:t> son causas extrínsecas que pueden contribuir a la pérdida del control del riesgo, se pueden agrupar en:</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ácticas insegur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diciones anorma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ácticas o actos inseguros</a:t>
            </a:r>
            <a:r>
              <a:rPr b="0" lang="es-MX" sz="2400" spc="-1" strike="noStrike">
                <a:solidFill>
                  <a:srgbClr val="000000"/>
                </a:solidFill>
                <a:latin typeface="Times New Roman"/>
              </a:rPr>
              <a:t>.- son el resultado de una acción equivocada por parte del personal; ejempl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nejo de equipo sin autorizac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loqueo de los dispositivos de seguri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inadecuado del EP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ar mantto. a equipo en operación o energiz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brom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rar basura fuera de los botes</a:t>
            </a:r>
            <a:endParaRPr b="0" lang="en-US" sz="20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diciones anormales</a:t>
            </a:r>
            <a:r>
              <a:rPr b="0" lang="es-MX" sz="2400" spc="-1" strike="noStrike">
                <a:solidFill>
                  <a:srgbClr val="000000"/>
                </a:solidFill>
                <a:latin typeface="Times New Roman"/>
              </a:rPr>
              <a:t>.- son también conocidad como “condiciones inseguras” y son el resultado de instalaciones mal diseñadas o construidas o de un programa de mantto. Inadecuado; eejmpl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o barreras inadecu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po yo herramienta en mal est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orde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se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emperaturas extrem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luminación defici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talaciones inadecuadas</a:t>
            </a:r>
            <a:endParaRPr b="0" lang="en-US" sz="2000" spc="-1" strike="noStrike">
              <a:solidFill>
                <a:srgbClr val="000000"/>
              </a:solidFill>
              <a:latin typeface="Times New Roman"/>
            </a:endParaRPr>
          </a:p>
        </p:txBody>
      </p:sp>
      <p:sp>
        <p:nvSpPr>
          <p:cNvPr id="127" name="">
            <a:hlinkClick r:id="rId1"/>
          </p:cNvPr>
          <p:cNvSpPr/>
          <p:nvPr/>
        </p:nvSpPr>
        <p:spPr>
          <a:xfrm>
            <a:off x="5257800" y="8128080"/>
            <a:ext cx="457200" cy="330120"/>
          </a:xfrm>
          <a:custGeom>
            <a:avLst/>
            <a:gdLst>
              <a:gd name="textAreaLeft" fmla="*/ 21240 w 457200"/>
              <a:gd name="textAreaRight" fmla="*/ 435960 w 457200"/>
              <a:gd name="textAreaTop" fmla="*/ 21240 h 330120"/>
              <a:gd name="textAreaBottom" fmla="*/ 308880 h 330120"/>
            </a:gdLst>
            <a:ahLst/>
            <a:rect l="textAreaLeft" t="textAreaTop" r="textAreaRight" b="textAreaBottom"/>
            <a:pathLst>
              <a:path w="29906" h="21600">
                <a:moveTo>
                  <a:pt x="0" y="0"/>
                </a:moveTo>
                <a:lnTo>
                  <a:pt x="29906" y="0"/>
                </a:lnTo>
                <a:lnTo>
                  <a:pt x="29906" y="21600"/>
                </a:lnTo>
                <a:lnTo>
                  <a:pt x="0" y="21600"/>
                </a:lnTo>
                <a:close/>
              </a:path>
              <a:path fill="lightenLess" w="29906" h="21600">
                <a:moveTo>
                  <a:pt x="0" y="0"/>
                </a:moveTo>
                <a:lnTo>
                  <a:pt x="29906" y="0"/>
                </a:lnTo>
                <a:lnTo>
                  <a:pt x="28506" y="1400"/>
                </a:lnTo>
                <a:lnTo>
                  <a:pt x="1400" y="1400"/>
                </a:lnTo>
                <a:close/>
              </a:path>
              <a:path fill="darken" w="29906" h="21600">
                <a:moveTo>
                  <a:pt x="29906" y="0"/>
                </a:moveTo>
                <a:lnTo>
                  <a:pt x="29906" y="21600"/>
                </a:lnTo>
                <a:lnTo>
                  <a:pt x="28506" y="20200"/>
                </a:lnTo>
                <a:lnTo>
                  <a:pt x="28506" y="1400"/>
                </a:lnTo>
                <a:close/>
              </a:path>
              <a:path fill="darkenLess" w="29906" h="21600">
                <a:moveTo>
                  <a:pt x="29906" y="21600"/>
                </a:moveTo>
                <a:lnTo>
                  <a:pt x="0" y="21600"/>
                </a:lnTo>
                <a:lnTo>
                  <a:pt x="1400" y="20200"/>
                </a:lnTo>
                <a:lnTo>
                  <a:pt x="28506" y="20200"/>
                </a:lnTo>
                <a:close/>
              </a:path>
              <a:path fill="lighten" w="29906" h="21600">
                <a:moveTo>
                  <a:pt x="0" y="21600"/>
                </a:moveTo>
                <a:lnTo>
                  <a:pt x="0" y="0"/>
                </a:lnTo>
                <a:lnTo>
                  <a:pt x="1400" y="1400"/>
                </a:lnTo>
                <a:lnTo>
                  <a:pt x="1400" y="20200"/>
                </a:lnTo>
                <a:close/>
              </a:path>
              <a:path fill="darkenLess" w="29906" h="21600">
                <a:moveTo>
                  <a:pt x="9426" y="3985"/>
                </a:moveTo>
                <a:lnTo>
                  <a:pt x="16424" y="3985"/>
                </a:lnTo>
                <a:lnTo>
                  <a:pt x="20480" y="7484"/>
                </a:lnTo>
                <a:lnTo>
                  <a:pt x="20480" y="17615"/>
                </a:lnTo>
                <a:lnTo>
                  <a:pt x="9426" y="17615"/>
                </a:lnTo>
                <a:close/>
              </a:path>
              <a:path fill="darken" w="29906" h="21600">
                <a:moveTo>
                  <a:pt x="16424" y="3985"/>
                </a:moveTo>
                <a:lnTo>
                  <a:pt x="20480" y="7484"/>
                </a:lnTo>
                <a:lnTo>
                  <a:pt x="16424" y="7484"/>
                </a:lnTo>
                <a:close/>
              </a:path>
            </a:pathLst>
          </a:custGeom>
          <a:solidFill>
            <a:srgbClr val="f9f9f9"/>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ostos y beneficios de la seguridad</a:t>
            </a:r>
            <a:endParaRPr b="0" lang="en-US" sz="3000" spc="-1" strike="noStrike">
              <a:solidFill>
                <a:srgbClr val="000000"/>
              </a:solidFill>
              <a:latin typeface="Arial"/>
            </a:endParaRPr>
          </a:p>
        </p:txBody>
      </p:sp>
      <p:sp>
        <p:nvSpPr>
          <p:cNvPr id="129" name="PlaceHolder 2"/>
          <p:cNvSpPr>
            <a:spLocks noGrp="1"/>
          </p:cNvSpPr>
          <p:nvPr>
            <p:ph/>
          </p:nvPr>
        </p:nvSpPr>
        <p:spPr>
          <a:xfrm>
            <a:off x="514440" y="1828800"/>
            <a:ext cx="5829120" cy="660384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seguridad tiene gastos y costos, pero también beneficio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gastos en seguridad son aquellos que la empresa incurre para reparar fallas de los sistemas de seguridad (accidente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Los costos son aquellos utilizados para diseñar, promover, apoyar, establecer y controlar los programas y sistemas de seguridad en una empresa.</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beneficios no son tan fáciles de evaluar pues un programa de seguridad no nos dice a cuántas personas se les salva de un accidente. Siempre será probabilís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14440" y="812520"/>
            <a:ext cx="582912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ecedentes</a:t>
            </a:r>
            <a:endParaRPr b="0" lang="en-US" sz="4400" spc="-1" strike="noStrike">
              <a:solidFill>
                <a:srgbClr val="000000"/>
              </a:solidFill>
              <a:latin typeface="Arial"/>
            </a:endParaRPr>
          </a:p>
        </p:txBody>
      </p:sp>
      <p:sp>
        <p:nvSpPr>
          <p:cNvPr id="9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rge desde miles de años atrás</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os romanos lograro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rvicio médico público.</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ños públicos y sistema de alcantarillado.</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glamentación y supervisión de esto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eación de respiradores contra polvos</a:t>
            </a:r>
            <a:endParaRPr b="0" lang="en-US" sz="24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Desde antes habían trabajos considerados peligrosos (minas, fundición del latón y hierr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457200"/>
            <a:ext cx="582912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Gastos operativos y administrativos</a:t>
            </a:r>
            <a:endParaRPr b="0" lang="en-US" sz="3000" spc="-1" strike="noStrike">
              <a:solidFill>
                <a:srgbClr val="000000"/>
              </a:solidFill>
              <a:latin typeface="Arial"/>
            </a:endParaRPr>
          </a:p>
        </p:txBody>
      </p:sp>
      <p:graphicFrame>
        <p:nvGraphicFramePr>
          <p:cNvPr id="131" name=""/>
          <p:cNvGraphicFramePr/>
          <p:nvPr/>
        </p:nvGraphicFramePr>
        <p:xfrm>
          <a:off x="533520" y="1270080"/>
          <a:ext cx="6095880" cy="5991120"/>
        </p:xfrm>
        <a:graphic>
          <a:graphicData uri="http://schemas.openxmlformats.org/drawingml/2006/table">
            <a:tbl>
              <a:tblPr/>
              <a:tblGrid>
                <a:gridCol w="1358640"/>
                <a:gridCol w="4737240"/>
              </a:tblGrid>
              <a:tr h="484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RI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CRIP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no de obr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mpo de la supervisión. Horas extras,  Personal de mantto. Tiempo ocioso de terceros por suspensión de la operació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l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prima de reposición, refacciones, insumos perdid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q.,  y equip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años a maquinaria, equipo e instalaciones. Pérdida de herramientas, accesorios y dispositivos. Reposición de equip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ducció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etrasos en la rpoducción. Pérdida de producto en proces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rvicios extern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gos a contratistas para reparaciones. Renta de equipos especial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Gastos administrativo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stratégico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érdida de imagen empresarial. Pérdida de moral de los trab., incremento de primas de fianzas. Demérito en relaciones la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inacier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etraso en recuperación de efectivo. Incremento en intereses. Incremento en prima de seguros. Pérdida de uti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merciale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ncelación de contratos, multas por incumplimiento, pérdida de capacidad de ofert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gale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onorarios por demandas, pagos de finiquitos. Demandas de tercer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no de obr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trenamiento de suplentees. Readaptación del accidentad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astos médic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Tiempo de personal de primeros aux. Gatos transportación herid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29664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ostos </a:t>
            </a:r>
            <a:endParaRPr b="0" lang="en-US" sz="3000" spc="-1" strike="noStrike">
              <a:solidFill>
                <a:srgbClr val="000000"/>
              </a:solidFill>
              <a:latin typeface="Arial"/>
            </a:endParaRPr>
          </a:p>
        </p:txBody>
      </p:sp>
      <p:graphicFrame>
        <p:nvGraphicFramePr>
          <p:cNvPr id="133" name=""/>
          <p:cNvGraphicFramePr/>
          <p:nvPr/>
        </p:nvGraphicFramePr>
        <p:xfrm>
          <a:off x="514440" y="1008000"/>
          <a:ext cx="6114960" cy="6666120"/>
        </p:xfrm>
        <a:graphic>
          <a:graphicData uri="http://schemas.openxmlformats.org/drawingml/2006/table">
            <a:tbl>
              <a:tblPr/>
              <a:tblGrid>
                <a:gridCol w="1778040"/>
                <a:gridCol w="43369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ubr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Descripció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quipo de protección person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opa de trabajo, zapatos, lentres, caretas, respiradores, mascarillas, cascos, guantes, cremas p`rotectoras,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pacitació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urso de inducción, cursos de actualización, reentrenamiento, material didáctico (películas, etc.) honorarios instructores externos, materiales de consum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mpaña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rteles, volantes, folletos, simulacr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quipos e instalcion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quipo contra incendio, alarmas, sistemas automáticos de detección, iluminación de emergencia, equipos de resca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ámenes médic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ámenes de admisión, exámenes periódicos, honorarios a laboratori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Beneficios</a:t>
                      </a:r>
                      <a:r>
                        <a:rPr b="1" lang="es-MX"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Rubr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onal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ejora el clima laboral. Disminuye el estrés laboral, aumentando la eficiencia personal. Se reduce</a:t>
                      </a:r>
                      <a:r>
                        <a:rPr b="0" lang="es-MX" sz="1800" spc="-1" strike="noStrike">
                          <a:solidFill>
                            <a:srgbClr val="000000"/>
                          </a:solidFill>
                          <a:latin typeface="Times New Roman"/>
                        </a:rPr>
                        <a:t> el </a:t>
                      </a:r>
                      <a:r>
                        <a:rPr b="0" lang="es-MX" sz="1400" spc="-1" strike="noStrike">
                          <a:solidFill>
                            <a:srgbClr val="000000"/>
                          </a:solidFill>
                          <a:latin typeface="Times New Roman"/>
                        </a:rPr>
                        <a:t>descontento, menos reclamos laborales. Disminuye la rotació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oci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umenta el prestigio en el medio laboral. Se facilita el reclutamiento de person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ductividad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enos desperdicio de material, menos demoras, mayor tasa de utilización de recursos. Menor  tiempo de entreg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gal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 evitan demandas laborales y judiciales, multas y sancion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inancier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educen primas. Disminuye costo de operació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Cap III Taxonomía y análisis de riesgos industriales</a:t>
            </a:r>
            <a:endParaRPr b="0" lang="en-US" sz="3000" spc="-1" strike="noStrike">
              <a:solidFill>
                <a:srgbClr val="000000"/>
              </a:solidFill>
              <a:latin typeface="Arial"/>
            </a:endParaRPr>
          </a:p>
        </p:txBody>
      </p:sp>
      <p:sp>
        <p:nvSpPr>
          <p:cNvPr id="135" name="PlaceHolder 2"/>
          <p:cNvSpPr>
            <a:spLocks noGrp="1"/>
          </p:cNvSpPr>
          <p:nvPr>
            <p:ph/>
          </p:nvPr>
        </p:nvSpPr>
        <p:spPr>
          <a:xfrm>
            <a:off x="514080" y="1905120"/>
            <a:ext cx="6095880" cy="622296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seguridad industrial abarca la prevención en todos los procesos donde pudiera haber algún tipo de pérdida o lesión.</a:t>
            </a:r>
            <a:endParaRPr b="0" lang="en-US" sz="24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análisis de riesgos utiliza técnicas bajo los enfoques siguient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tección del person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mplimiento de leyes y normas oficiales y políticas y reglamentos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babilidad técnica</a:t>
            </a:r>
            <a:endParaRPr b="0" lang="en-US" sz="2000" spc="-1" strike="noStrike">
              <a:solidFill>
                <a:srgbClr val="000000"/>
              </a:solidFill>
              <a:latin typeface="Times New Roman"/>
            </a:endParaRPr>
          </a:p>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e las técnicas y sistemas más comunes se considera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es de ingenierí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stitución de materi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mbios en el proce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visión de métodos de trabja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mbio de herramientas y equi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es administrativ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po de protección pers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14440" y="761760"/>
            <a:ext cx="6114960" cy="736596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eaeaea"/>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na buena metodología se basa en:</a:t>
            </a:r>
            <a:endParaRPr b="0" lang="en-US" sz="24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isis de las caracterísitcas de los riesgos de exposición</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valuación de los posibles métodos de control</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proximación multidisciplinaria del problema</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erificación constante y periódica de los riesgos</a:t>
            </a:r>
            <a:endParaRPr b="0" lang="en-US" sz="2000" spc="-1" strike="noStrike">
              <a:solidFill>
                <a:srgbClr val="000000"/>
              </a:solidFill>
              <a:latin typeface="Times New Roman"/>
            </a:endParaRPr>
          </a:p>
          <a:p>
            <a:pPr marL="603360" indent="-603360">
              <a:lnSpc>
                <a:spcPct val="90000"/>
              </a:lnSpc>
              <a:spcBef>
                <a:spcPts val="601"/>
              </a:spcBef>
              <a:buClr>
                <a:srgbClr val="eaeaea"/>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control de los riesgos se basa en:</a:t>
            </a:r>
            <a:endParaRPr b="0" lang="en-US" sz="24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iterio de precontact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iterio de punto de contacto</a:t>
            </a:r>
            <a:endParaRPr b="0" lang="en-US" sz="2000" spc="-1" strike="noStrike">
              <a:solidFill>
                <a:srgbClr val="000000"/>
              </a:solidFill>
              <a:latin typeface="Times New Roman"/>
            </a:endParaRPr>
          </a:p>
          <a:p>
            <a:pPr marL="603360" indent="-603360">
              <a:lnSpc>
                <a:spcPct val="90000"/>
              </a:lnSpc>
              <a:spcBef>
                <a:spcPts val="601"/>
              </a:spcBef>
              <a:buClr>
                <a:srgbClr val="eaeaea"/>
              </a:buClr>
              <a:buSzPct val="8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criterio de precontacto pretende que el riesgo no alcance al trabajador mediante el uso de barreras físicas o metodológicas:</a:t>
            </a:r>
            <a:endParaRPr b="0" lang="en-US" sz="24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stitución de materiales/procesos por otro de menor riesg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islamiento de procesos y productos riesgosos</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iseño de las guardas y protectores</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dquisición de equipo menos riesgoso, o </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entilación local en maquinaria y equip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restricitivas de bloqueo automático</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s de operación seguros</a:t>
            </a:r>
            <a:endParaRPr b="0" lang="en-US" sz="2000" spc="-1" strike="noStrike">
              <a:solidFill>
                <a:srgbClr val="000000"/>
              </a:solidFill>
              <a:latin typeface="Times New Roman"/>
            </a:endParaRPr>
          </a:p>
          <a:p>
            <a:pPr lvl="1" marL="980640" indent="-528120">
              <a:lnSpc>
                <a:spcPct val="90000"/>
              </a:lnSpc>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uenas prácticas de orden, limpieza y man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control en el punto de contacto debe considerarse como método alterno. Se administra el riesgo y debe utilizarse sólo si no se puede el de precontacto.  Cómo?:</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tación de EPP</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tación y adiestramiento constantes</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gunos riesgos no se identifican hasta que ocurra algún accidente o incidente, por ello se recomienda un análisis de riegos de alto nivel.</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iesgos ambientales</a:t>
            </a:r>
            <a:r>
              <a:rPr b="0" lang="es-MX" sz="2400" spc="-1" strike="noStrike">
                <a:solidFill>
                  <a:srgbClr val="000000"/>
                </a:solidFill>
                <a:latin typeface="Times New Roman"/>
              </a:rPr>
              <a:t> son aquellos que afectan tanto al área como al puesto de trabajo y que son provocados por causas no necesariamente presentes en la tarea, los más comunes son: iluminación, ventilación, </a:t>
            </a:r>
            <a:r>
              <a:rPr b="1" lang="es-MX" sz="2400" spc="-1" strike="noStrike">
                <a:solidFill>
                  <a:srgbClr val="000000"/>
                </a:solidFill>
                <a:latin typeface="Times New Roman"/>
              </a:rPr>
              <a:t>ruido</a:t>
            </a:r>
            <a:r>
              <a:rPr b="0" lang="es-MX" sz="2400" spc="-1" strike="noStrike">
                <a:solidFill>
                  <a:srgbClr val="000000"/>
                </a:solidFill>
                <a:latin typeface="Times New Roman"/>
              </a:rPr>
              <a:t>, </a:t>
            </a:r>
            <a:r>
              <a:rPr b="1" lang="es-MX" sz="2400" spc="-1" strike="noStrike">
                <a:solidFill>
                  <a:srgbClr val="000000"/>
                </a:solidFill>
                <a:latin typeface="Times New Roman"/>
              </a:rPr>
              <a:t>temperatura</a:t>
            </a:r>
            <a:r>
              <a:rPr b="0" lang="es-MX" sz="2400" spc="-1" strike="noStrike">
                <a:solidFill>
                  <a:srgbClr val="000000"/>
                </a:solidFill>
                <a:latin typeface="Times New Roman"/>
              </a:rPr>
              <a:t> y humedad, radiaciones, </a:t>
            </a:r>
            <a:r>
              <a:rPr b="1" lang="es-MX" sz="2400" spc="-1" strike="noStrike">
                <a:solidFill>
                  <a:srgbClr val="000000"/>
                </a:solidFill>
                <a:latin typeface="Times New Roman"/>
              </a:rPr>
              <a:t>humos, polvos</a:t>
            </a:r>
            <a:r>
              <a:rPr b="0" lang="es-MX" sz="2400" spc="-1" strike="noStrike">
                <a:solidFill>
                  <a:srgbClr val="000000"/>
                </a:solidFill>
                <a:latin typeface="Times New Roman"/>
              </a:rPr>
              <a:t> y vap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14440" y="838080"/>
            <a:ext cx="5829120" cy="7290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luminación</a:t>
            </a:r>
            <a:r>
              <a:rPr b="0" lang="es-MX" sz="2400" spc="-1" strike="noStrike">
                <a:solidFill>
                  <a:srgbClr val="000000"/>
                </a:solidFill>
                <a:latin typeface="Times New Roman"/>
              </a:rPr>
              <a:t>.- factor coadyuvante en la pérdida de control. La iluminación industrial tiene por objetivo brindar niveles de luz suficientes para distinguir los elementos visuales del contenido de la tarea y que eviten la fatiga visual del trabajador.</a:t>
            </a:r>
            <a:endParaRPr b="0" lang="en-US" sz="24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fatiga puede causar disminución o pérdida de las capacidades ópticas y sensoriales de los ojos, propiciando actos inseguros.</a:t>
            </a:r>
            <a:endParaRPr b="0" lang="en-US" sz="2000" spc="-1" strike="noStrike">
              <a:solidFill>
                <a:srgbClr val="000000"/>
              </a:solidFill>
              <a:latin typeface="Times New Roman"/>
            </a:endParaRPr>
          </a:p>
          <a:p>
            <a:pPr marL="339480" indent="-3394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el diseño de la iluminación, considerar:</a:t>
            </a:r>
            <a:endParaRPr b="0" lang="en-US" sz="24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ovimiento circular</a:t>
            </a:r>
            <a:r>
              <a:rPr b="0" lang="es-MX" sz="2000" spc="-1" strike="noStrike">
                <a:solidFill>
                  <a:srgbClr val="000000"/>
                </a:solidFill>
                <a:latin typeface="Times New Roman"/>
              </a:rPr>
              <a:t>: se puede producir el efecto estroboscópic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so de colores</a:t>
            </a:r>
            <a:r>
              <a:rPr b="0" lang="es-MX" sz="2000" spc="-1" strike="noStrike">
                <a:solidFill>
                  <a:srgbClr val="000000"/>
                </a:solidFill>
                <a:latin typeface="Times New Roman"/>
              </a:rPr>
              <a:t>: si es un elemento crítico de la tarea se debe preferir la luz solar; en su defecto lámparas de amplio espectr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ivel de detalle</a:t>
            </a:r>
            <a:r>
              <a:rPr b="0" lang="es-MX" sz="2000" spc="-1" strike="noStrike">
                <a:solidFill>
                  <a:srgbClr val="000000"/>
                </a:solidFill>
                <a:latin typeface="Times New Roman"/>
              </a:rPr>
              <a:t>: a mayor nivel de detalle de la tarea, mayor nivel de iluminación requerid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flejos</a:t>
            </a:r>
            <a:r>
              <a:rPr b="0" lang="es-MX" sz="2000" spc="-1" strike="noStrike">
                <a:solidFill>
                  <a:srgbClr val="000000"/>
                </a:solidFill>
                <a:latin typeface="Times New Roman"/>
              </a:rPr>
              <a:t>: las superficies reflejantes pueden aumentar el efecto nocivo como los rayos ultravioleta o generar riesgos al deslumbrar al personal.</a:t>
            </a: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14440" y="593280"/>
            <a:ext cx="5829120" cy="751860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cciones translúcidas en el techo. No más del 10% del total de techo para evitar recalentamiento y tener equilibrio de luz.</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Niveles de iluminación recomendad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NOM-025-STPS-1994</a:t>
            </a:r>
            <a:endParaRPr b="0" lang="en-US" sz="2400" spc="-1" strike="noStrike">
              <a:solidFill>
                <a:srgbClr val="000000"/>
              </a:solidFill>
              <a:latin typeface="Times New Roman"/>
            </a:endParaRPr>
          </a:p>
        </p:txBody>
      </p:sp>
      <p:graphicFrame>
        <p:nvGraphicFramePr>
          <p:cNvPr id="140" name=""/>
          <p:cNvGraphicFramePr/>
          <p:nvPr/>
        </p:nvGraphicFramePr>
        <p:xfrm>
          <a:off x="304920" y="2700360"/>
          <a:ext cx="6324480" cy="6138720"/>
        </p:xfrm>
        <a:graphic>
          <a:graphicData uri="http://schemas.openxmlformats.org/drawingml/2006/table">
            <a:tbl>
              <a:tblPr/>
              <a:tblGrid>
                <a:gridCol w="3962160"/>
                <a:gridCol w="236232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ipo de trabaj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ivel de iluminación luxes S.M.I.I. 9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pinterí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bajo burdo de banco y sier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colado, cepillado, lijado, trabajo de mediana calidad en máquinas y banc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bajo fino de máquina y banco, lijado y acabado fin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Fabricación de cajas de cart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Área general de manufactu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efinerías de azúc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lasific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pección de col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1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14440" y="609120"/>
            <a:ext cx="6114960" cy="7518600"/>
          </a:xfrm>
          <a:prstGeom prst="rect">
            <a:avLst/>
          </a:prstGeom>
          <a:noFill/>
          <a:ln w="0">
            <a:noFill/>
          </a:ln>
        </p:spPr>
        <p:txBody>
          <a:bodyPr lIns="90000" rIns="90000" tIns="46800" bIns="46800" anchor="t">
            <a:normAutofit/>
          </a:bodyPr>
          <a:p>
            <a:pPr marL="609480" indent="-6094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Ventilación</a:t>
            </a:r>
            <a:r>
              <a:rPr b="0" lang="es-MX" sz="2000" spc="-1" strike="noStrike">
                <a:solidFill>
                  <a:srgbClr val="000000"/>
                </a:solidFill>
                <a:latin typeface="Times New Roman"/>
              </a:rPr>
              <a:t>.- Mantener en límites permisibles y que eviten la fatiga. NOM-016-STPS-1994. Se pretende:</a:t>
            </a:r>
            <a:endParaRPr b="0" lang="en-US" sz="2000" spc="-1" strike="noStrike">
              <a:solidFill>
                <a:srgbClr val="000000"/>
              </a:solidFill>
              <a:latin typeface="Times New Roman"/>
            </a:endParaRPr>
          </a:p>
          <a:p>
            <a:pPr lvl="1" marL="990720" indent="-533520">
              <a:spcBef>
                <a:spcPts val="451"/>
              </a:spcBef>
              <a:buClr>
                <a:srgbClr val="000000"/>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ntener la ventilación necesaria mediante sistemas naturales o artificiales para impedir el daño en la salud a los trabajadores considerando:</a:t>
            </a:r>
            <a:endParaRPr b="0" lang="en-US" sz="1800" spc="-1" strike="noStrike">
              <a:solidFill>
                <a:srgbClr val="000000"/>
              </a:solidFill>
              <a:latin typeface="Times New Roman"/>
            </a:endParaRPr>
          </a:p>
          <a:p>
            <a:pPr lvl="2" marL="1371600" indent="-457200">
              <a:spcBef>
                <a:spcPts val="451"/>
              </a:spcBef>
              <a:buClr>
                <a:srgbClr val="000000"/>
              </a:buClr>
              <a:buSzPct val="6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isponibilidad de oxígeno esté entre 18 y 21% en volumen considerando una presión ambiental entre 522 y 860 mm de Hg.</a:t>
            </a:r>
            <a:endParaRPr b="0" lang="en-US" sz="1800" spc="-1" strike="noStrike">
              <a:solidFill>
                <a:srgbClr val="000000"/>
              </a:solidFill>
              <a:latin typeface="Times New Roman"/>
            </a:endParaRPr>
          </a:p>
          <a:p>
            <a:pPr lvl="2" marL="1371600" indent="-457200">
              <a:spcBef>
                <a:spcPts val="451"/>
              </a:spcBef>
              <a:buClr>
                <a:srgbClr val="000000"/>
              </a:buClr>
              <a:buSzPct val="60000"/>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no se pueda obtener la cantidad de aire requerida en el inciso anterior por medio de ventilación natural, se debe suministrar aire mediante ventilación artificial.</a:t>
            </a:r>
            <a:endParaRPr b="0" lang="en-US" sz="18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de genran polvos, humos, gases, vapores o neblinas de sustancias químicas, se dispondrá de un sistema para extraerlo.</a:t>
            </a:r>
            <a:endParaRPr b="0" lang="en-US" sz="20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xiste un sistema de extracción de aire debe haber otro para reponerlo limpio.</a:t>
            </a:r>
            <a:endParaRPr b="0" lang="en-US" sz="20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misión de polvos, humos, gases, vapores o nieblas, deberá respetar la legislación en materia de ecología.</a:t>
            </a:r>
            <a:endParaRPr b="0" lang="en-US" sz="2000" spc="-1" strike="noStrike">
              <a:solidFill>
                <a:srgbClr val="000000"/>
              </a:solidFill>
              <a:latin typeface="Times New Roman"/>
            </a:endParaRPr>
          </a:p>
          <a:p>
            <a:pPr marL="609480" indent="-609480">
              <a:spcBef>
                <a:spcPts val="4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a presencia de oxígeno es pobre, se recomienda líneas de seguridad para los trabajadores</a:t>
            </a:r>
            <a:endParaRPr b="0" lang="en-US" sz="2000" spc="-1" strike="noStrike">
              <a:solidFill>
                <a:srgbClr val="000000"/>
              </a:solidFill>
              <a:latin typeface="Times New Roman"/>
            </a:endParaRPr>
          </a:p>
          <a:p>
            <a:pPr lvl="2" marL="13716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uido industrial</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ruido industrial es cualquier sonido indeseable. Nos puede afectar desde dolor de oído hasta la sordera total con pérdida de equilibrio.</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nivel de ruido se mide con sonómetro y se mide en decibeles y la frecuencia en Hz. NOM-011-STPS-1994</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oído humano percibe sonidos entre 20 y 20000 Hz y la máxima intensidad para considerarla segura es de 90 decibele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prevenir el ruido:</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diseño de los elemetos mecánicos y de los sistemas de transmisión (bandas por engranes y baleros por buj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finamiento., aislar las fuentes generadoras y emisoras de ruid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ar EPP como último recurso y debe supervisarse, su capacidad protectora es limita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esiones al oído</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lesiones al oído se deben por traumatismo a las diferentes partes:</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ímpano, huesesillos del oído medio, trompa de Eustaaquio, órgano de Corti.</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ruido llega a estas partes no sólo por el canal auditivo sino también por transmisión de los huesos craneales. Las lesiones típicas se clasifican en:</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uma acústico. Diferentes niveles de pérdida parcial permanente de la capacidad auditiv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ufenos: disminución temporal de la audición y ruidos de oíd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rdera: pérdida total de la capcidad auditiv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érdida de equilibri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 los 200 dB hay destrucción de los órganos de la audició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14440" y="1117440"/>
            <a:ext cx="5829120" cy="7010640"/>
          </a:xfrm>
          <a:prstGeom prst="rect">
            <a:avLst/>
          </a:prstGeom>
          <a:noFill/>
          <a:ln w="0">
            <a:noFill/>
          </a:ln>
        </p:spPr>
        <p:txBody>
          <a:bodyPr lIns="90000" rIns="90000" tIns="46800" bIns="46800" anchor="t">
            <a:normAutofit/>
          </a:bodyPr>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1802 Ley acerca de la salud y moral de los aprendices.</a:t>
            </a:r>
            <a:endParaRPr b="0" lang="en-US" sz="3200" spc="-1" strike="noStrike">
              <a:solidFill>
                <a:srgbClr val="000000"/>
              </a:solidFill>
              <a:latin typeface="Times New Roman"/>
            </a:endParaRPr>
          </a:p>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glaterra 1833 Ley de Fábricas. Es considerada como uno de los principios de la legislación industrial moderna.</a:t>
            </a:r>
            <a:endParaRPr b="0" lang="en-US" sz="3200" spc="-1" strike="noStrike">
              <a:solidFill>
                <a:srgbClr val="000000"/>
              </a:solidFill>
              <a:latin typeface="Times New Roman"/>
            </a:endParaRPr>
          </a:p>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EUU 1877 primera Ley sobre seguridad en Massachusetts (guardas y protectores)</a:t>
            </a:r>
            <a:endParaRPr b="0" lang="en-US" sz="3200" spc="-1" strike="noStrike">
              <a:solidFill>
                <a:srgbClr val="000000"/>
              </a:solidFill>
              <a:latin typeface="Times New Roman"/>
            </a:endParaRPr>
          </a:p>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éxico 1917 se incluye en el artículo 123 el derecho a la salu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iempos máximos permisibles de exposición en función de Nivel Sonoro Continuo Equivalent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143000" y="2058840"/>
          <a:ext cx="4572000" cy="2766960"/>
        </p:xfrm>
        <a:graphic>
          <a:graphicData uri="http://schemas.openxmlformats.org/drawingml/2006/table">
            <a:tbl>
              <a:tblPr/>
              <a:tblGrid>
                <a:gridCol w="2286000"/>
                <a:gridCol w="22860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empo en hor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SCE d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9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0.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lgn="ctr">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ibracione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n movimientos oscilatorios de baja frecuencia. Por lo general son generadas por dispositivos con movimientos circulares o alternantes, continuos y repetitivos. </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tipo bajo de 1 a 80 Hz (ciclos por segundo) máquinas de baja velocidad.</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tipo alto de 10 a 200 Hz equipo de alta velocidad</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rtillos neumáticos, desbastadoras manuales, masajeadors y rotomartillos son algunos tipo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lesiones se clasifican en :</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ervios periféricos en manos y dedos: se recupera después de un breve tiempo lejos de la fuente genradora de la vibrac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gión cervical de la columna vertebral. Por lo general se desarrolla una lesión permanente que puede producir insensibilidad y hasta parálisis parcial de los miembros superi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medidas de prevención:</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islar las fuentes que generen vibracion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gramar los tiempos de exposición del trabajador expuesto de acuerdo a las tablas 1 y 2 de la NOM-024-STPS-1993</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ar la exposición de los trabajadores: si su salud es afectata, reubicaros donde no haya.</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firmar las máquinas independientes de la cimentación general y nivelarl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justar las máquinas e instalar dispositivos antivibratori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imentar sobre material aislante casos especia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vitar que las transmisionesse apoyen en paredes colindant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aborar y ejecutar programas de mantto. Predictivo y preventiv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limitar las zonas donde exista riesgos de exposición a vibrac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14440" y="533520"/>
            <a:ext cx="5829120" cy="7594560"/>
          </a:xfrm>
          <a:prstGeom prst="rect">
            <a:avLst/>
          </a:prstGeom>
          <a:noFill/>
          <a:ln w="0">
            <a:noFill/>
          </a:ln>
        </p:spPr>
        <p:txBody>
          <a:bodyPr lIns="90000" rIns="90000" tIns="46800" bIns="46800" anchor="t">
            <a:normAutofit/>
          </a:bodyPr>
          <a:p>
            <a:pPr marL="343080" indent="-343080" algn="ctr">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aminantes de la atmósfea laboral</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presentan como gases, vapores, humos, polvos, fibras y neblinas.</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gravedad del riesgo depende de a) tiempo de exposición, b) actividad bioquímica del producto y c) la concentración de la sustancia.</a:t>
            </a:r>
            <a:endParaRPr b="0" lang="en-US" sz="24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lasificación según su estado físic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9" name=""/>
          <p:cNvGraphicFramePr/>
          <p:nvPr/>
        </p:nvGraphicFramePr>
        <p:xfrm>
          <a:off x="514440" y="3733920"/>
          <a:ext cx="5829120" cy="4919400"/>
        </p:xfrm>
        <a:graphic>
          <a:graphicData uri="http://schemas.openxmlformats.org/drawingml/2006/table">
            <a:tbl>
              <a:tblPr/>
              <a:tblGrid>
                <a:gridCol w="1360440"/>
                <a:gridCol w="3002040"/>
                <a:gridCol w="1466640"/>
              </a:tblGrid>
              <a:tr h="673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nt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inant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Defini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Ejemplo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ases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 comportan como el aire a presión y temp. ambient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onóxido de carbon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um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sólida en suspensión en la atmósfera formado por pequeñas partículas producidas por la condensación de metales o por combustión imcomple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umos de soldadura de un metal en fusión, de combustión de madera,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ibra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l mayor de 5 mm con proporción igual o mayor que 3.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sbestos, fibra de vidrio,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blina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otas de líquido suspendidas en el aire generadas por la atomización, aspersión, burbujeo de material líqui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lquitrán de hulla, pinturas en aerosol, insecti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lvo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sólida dispersa en el aire producto de la acción mecánica sobre un sóli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lvos de madera, granos de algodón,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Vapor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 de la evaporación de un líquido o sublimación de un sóli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afta, aguarrás, alcanfor,  et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14440" y="685800"/>
            <a:ext cx="5829120" cy="7670880"/>
          </a:xfrm>
          <a:prstGeom prst="rect">
            <a:avLst/>
          </a:prstGeom>
          <a:noFill/>
          <a:ln w="0">
            <a:noFill/>
          </a:ln>
        </p:spPr>
        <p:txBody>
          <a:bodyPr lIns="90000" rIns="90000" tIns="46800" bIns="46800" anchor="t">
            <a:normAutofit/>
          </a:bodyPr>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lasificación por los efectos de la sustancia química a la salud.</a:t>
            </a:r>
            <a:endParaRPr b="0" lang="en-US" sz="24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0 efectos leves reversibles o sin efectos conocid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1 efectos moderados reversi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2 efectos severos reversi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3 efectos irreversi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do 4 efectos incapacitantes o fatales</a:t>
            </a:r>
            <a:endParaRPr b="0" lang="en-US" sz="20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Grado de exposi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1" name=""/>
          <p:cNvGraphicFramePr/>
          <p:nvPr/>
        </p:nvGraphicFramePr>
        <p:xfrm>
          <a:off x="304920" y="4191120"/>
          <a:ext cx="6324480" cy="2689200"/>
        </p:xfrm>
        <a:graphic>
          <a:graphicData uri="http://schemas.openxmlformats.org/drawingml/2006/table">
            <a:tbl>
              <a:tblPr/>
              <a:tblGrid>
                <a:gridCol w="685800"/>
                <a:gridCol w="914400"/>
                <a:gridCol w="3200400"/>
                <a:gridCol w="152388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Grado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ategorí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scripció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ango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62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o ex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in exposición a la sustancia químic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1 CPT&gt;CM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baj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Poco frecuente o baja concent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1CPT&lt;CMA</a:t>
                      </a:r>
                      <a:r>
                        <a:rPr b="0" lang="es-MX" sz="1200" spc="-1" strike="noStrike">
                          <a:solidFill>
                            <a:srgbClr val="000000"/>
                          </a:solidFill>
                          <a:latin typeface="Symbol"/>
                          <a:ea typeface="Symbol"/>
                        </a:rPr>
                        <a:t></a:t>
                      </a:r>
                      <a:r>
                        <a:rPr b="0" lang="es-MX" sz="1200" spc="-1" strike="noStrike">
                          <a:solidFill>
                            <a:srgbClr val="000000"/>
                          </a:solidFill>
                          <a:latin typeface="Times New Roman"/>
                        </a:rPr>
                        <a:t> 0.25C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Modera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Frecuente con la sustancia química a bajas concentraciones o poco frec. Alta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25CPT&lt;CMA </a:t>
                      </a:r>
                      <a:r>
                        <a:rPr b="0" lang="es-MX" sz="1200" spc="-1" strike="noStrike">
                          <a:solidFill>
                            <a:srgbClr val="000000"/>
                          </a:solidFill>
                          <a:latin typeface="Symbol"/>
                          <a:ea typeface="Symbol"/>
                        </a:rPr>
                        <a:t></a:t>
                      </a:r>
                      <a:r>
                        <a:rPr b="0" lang="es-MX" sz="1200" spc="-1" strike="noStrike">
                          <a:solidFill>
                            <a:srgbClr val="000000"/>
                          </a:solidFill>
                          <a:latin typeface="Times New Roman"/>
                        </a:rPr>
                        <a:t> 0.5C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osición frecuente altas concentracio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5CPT&lt;CMA </a:t>
                      </a:r>
                      <a:r>
                        <a:rPr b="0" lang="es-MX" sz="1200" spc="-1" strike="noStrike">
                          <a:solidFill>
                            <a:srgbClr val="000000"/>
                          </a:solidFill>
                          <a:latin typeface="Symbol"/>
                          <a:ea typeface="Symbol"/>
                        </a:rPr>
                        <a:t></a:t>
                      </a:r>
                      <a:r>
                        <a:rPr b="0" lang="es-MX" sz="1200" spc="-1" strike="noStrike">
                          <a:solidFill>
                            <a:srgbClr val="000000"/>
                          </a:solidFill>
                          <a:latin typeface="Times New Roman"/>
                        </a:rPr>
                        <a:t> 1 CP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 Muy al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xposición frecuente a muy altas concentracio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CPT&lt;CMA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14440" y="7162920"/>
            <a:ext cx="58291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PT: nivel de concentración promedio ponderada en el tiemp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MA: concentración medida en el amb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esiones típicas</a:t>
            </a:r>
            <a:endParaRPr b="0" lang="en-US" sz="24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olvos y fibras</a:t>
            </a:r>
            <a:r>
              <a:rPr b="0" lang="es-MX" sz="2400" spc="-1" strike="noStrike">
                <a:solidFill>
                  <a:srgbClr val="000000"/>
                </a:solidFill>
                <a:latin typeface="Times New Roman"/>
              </a:rPr>
              <a:t>.-</a:t>
            </a:r>
            <a:r>
              <a:rPr b="0" lang="es-MX" sz="2000" spc="-1" strike="noStrike">
                <a:solidFill>
                  <a:srgbClr val="000000"/>
                </a:solidFill>
                <a:latin typeface="Times New Roman"/>
              </a:rPr>
              <a:t> ulceraciones en las vías respiratorias superiores y neumoconiosis o suberosis, cuando su </a:t>
            </a:r>
            <a:r>
              <a:rPr b="0" lang="es-MX" sz="2000" spc="-1" strike="noStrike">
                <a:solidFill>
                  <a:srgbClr val="000000"/>
                </a:solidFill>
                <a:latin typeface="Symbol"/>
                <a:ea typeface="Symbol"/>
              </a:rPr>
              <a:t></a:t>
            </a:r>
            <a:r>
              <a:rPr b="0" lang="es-MX" sz="2000" spc="-1" strike="noStrike">
                <a:solidFill>
                  <a:srgbClr val="000000"/>
                </a:solidFill>
                <a:latin typeface="Times New Roman"/>
              </a:rPr>
              <a:t> es menor de 5 micras. En la piel pueden producir prurito y dermatiti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Humos</a:t>
            </a:r>
            <a:r>
              <a:rPr b="0" lang="es-MX" sz="2400" spc="-1" strike="noStrike">
                <a:solidFill>
                  <a:srgbClr val="000000"/>
                </a:solidFill>
                <a:latin typeface="Times New Roman"/>
              </a:rPr>
              <a:t>.- </a:t>
            </a:r>
            <a:r>
              <a:rPr b="0" lang="es-MX" sz="2000" spc="-1" strike="noStrike">
                <a:solidFill>
                  <a:srgbClr val="000000"/>
                </a:solidFill>
                <a:latin typeface="Times New Roman"/>
              </a:rPr>
              <a:t>casi siempre es riesgo químico por la presencia frecuente de sustancias con alto potencial reactivo. Por su tamaño de partícula son un riesgo para las vías respiratorias inferiores pudiendo producir diferentes niveles de bronquitis. dermatiti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apores y gases</a:t>
            </a:r>
            <a:r>
              <a:rPr b="0" lang="es-MX" sz="2400" spc="-1" strike="noStrike">
                <a:solidFill>
                  <a:srgbClr val="000000"/>
                </a:solidFill>
                <a:latin typeface="Times New Roman"/>
              </a:rPr>
              <a:t>.- </a:t>
            </a:r>
            <a:r>
              <a:rPr b="0" lang="es-MX" sz="2000" spc="-1" strike="noStrike">
                <a:solidFill>
                  <a:srgbClr val="000000"/>
                </a:solidFill>
                <a:latin typeface="Times New Roman"/>
              </a:rPr>
              <a:t>líquidos expuestos a temp. Mayor de su punto de vaporización. Su riesgo es similar al de los humos pudiendo producir también intoxicación.</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eblinas</a:t>
            </a:r>
            <a:r>
              <a:rPr b="0" lang="es-MX" sz="2400" spc="-1" strike="noStrike">
                <a:solidFill>
                  <a:srgbClr val="000000"/>
                </a:solidFill>
                <a:latin typeface="Times New Roman"/>
              </a:rPr>
              <a:t>.- </a:t>
            </a:r>
            <a:r>
              <a:rPr b="0" lang="es-MX" sz="2000" spc="-1" strike="noStrike">
                <a:solidFill>
                  <a:srgbClr val="000000"/>
                </a:solidFill>
                <a:latin typeface="Times New Roman"/>
              </a:rPr>
              <a:t>por su tamaño limitan su acción a la piel y las mucosas de las personas expuestas. Su grado de riesgo está en función de la naturaleza química de sus componentes pudiendo producir diferentes grados de quemaduras, dermatitis y hasta intoxicación percutáne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edidas de protección</a:t>
            </a:r>
            <a:endParaRPr b="0" lang="en-US" sz="24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o primero es controlar las fuentes de generación y emisión, si no es posible, ventilación adecuada controlando los niveles de disolución en la atmósfera de trabajo.</a:t>
            </a:r>
            <a:endParaRPr b="0" lang="en-US" sz="22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Utilizar mascarillas respiradoras combinadas con ropa de trabajo y cremas protectoras. Si es necesario bañarse después de la jornada.</a:t>
            </a:r>
            <a:endParaRPr b="0" lang="en-US" sz="22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determinar los tiempos de exposición se manejan tres factores de niveles máximo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PT</a:t>
            </a:r>
            <a:r>
              <a:rPr b="0" lang="es-MX" sz="2000" spc="-1" strike="noStrike">
                <a:solidFill>
                  <a:srgbClr val="000000"/>
                </a:solidFill>
                <a:latin typeface="Times New Roman"/>
              </a:rPr>
              <a:t> concentración promedio ponderada en el tiempo. Para 8 horas de exposición diarias aquella a la que la mayoría de las personas expuestas no presentan daños a la salu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CT</a:t>
            </a:r>
            <a:r>
              <a:rPr b="0" lang="es-MX" sz="2000" spc="-1" strike="noStrike">
                <a:solidFill>
                  <a:srgbClr val="000000"/>
                </a:solidFill>
                <a:latin typeface="Times New Roman"/>
              </a:rPr>
              <a:t> concentración para la exposición a corto tiempo. No debe exceder de 15 min. Hasta 4 veces por jornada  y al menos una hora entre exposicion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t>
            </a:r>
            <a:r>
              <a:rPr b="0" lang="es-MX" sz="2000" spc="-1" strike="noStrike">
                <a:solidFill>
                  <a:srgbClr val="000000"/>
                </a:solidFill>
                <a:latin typeface="Times New Roman"/>
              </a:rPr>
              <a:t> concentración pico. Nunca debe pasarse durante la exposición en la jornada.</a:t>
            </a:r>
            <a:endParaRPr b="0" lang="en-US" sz="20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Dichas concentraciones pueden expresarse en ppm y en mg/m</a:t>
            </a:r>
            <a:r>
              <a:rPr b="0" lang="es-MX" sz="2200" spc="-1" strike="noStrike" baseline="30000">
                <a:solidFill>
                  <a:srgbClr val="000000"/>
                </a:solidFill>
                <a:latin typeface="Times New Roman"/>
              </a:rPr>
              <a:t>3</a:t>
            </a:r>
            <a:endParaRPr b="0" lang="en-US" sz="22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010-STPS-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emperatura y humedad</a:t>
            </a:r>
            <a:endParaRPr b="0" lang="en-US" sz="24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ueden producir, en exceso, diferentes transtornos que alteran el desempeño metabólico del trabajador. Se consideran:</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dición térmica elevada</a:t>
            </a:r>
            <a:r>
              <a:rPr b="0" lang="es-MX" sz="2000" spc="-1" strike="noStrike">
                <a:solidFill>
                  <a:srgbClr val="000000"/>
                </a:solidFill>
                <a:latin typeface="Times New Roman"/>
              </a:rPr>
              <a:t>.- situación ambiental capaz de transmitir calor hacia el cuerpo humano o restringir este hacia el medio, de tal magnitud que pueda romper el equilibrio térmico del trabajador aumentando su temperatura corporal central.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6" name=""/>
          <p:cNvGraphicFramePr/>
          <p:nvPr/>
        </p:nvGraphicFramePr>
        <p:xfrm>
          <a:off x="438120" y="4354560"/>
          <a:ext cx="6114960" cy="3773520"/>
        </p:xfrm>
        <a:graphic>
          <a:graphicData uri="http://schemas.openxmlformats.org/drawingml/2006/table">
            <a:tbl>
              <a:tblPr/>
              <a:tblGrid>
                <a:gridCol w="2743200"/>
                <a:gridCol w="990720"/>
                <a:gridCol w="1295280"/>
                <a:gridCol w="1085760"/>
              </a:tblGrid>
              <a:tr h="43272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gimen de trabajo</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po de trabaj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ger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oderad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sad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rabajo continuo  exposición 8 horas dí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6.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5.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mana de 48 hrs. 75% exp. 25% recup. C/ho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8.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5.9</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0% exposició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50% recup. En c/ho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1.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9.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7.9</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25% exposició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75% recup. En c/hor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2.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3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fontScale="99000"/>
          </a:bodyPr>
          <a:p>
            <a:pPr lvl="1" marL="735480" indent="-28296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dición térmica abatida.- situación ambiental capaz de producir pérdida de calor en el cuerpo debido al frío, rompiendo el equilibrio térmico.</a:t>
            </a:r>
            <a:endParaRPr b="0" lang="en-US" sz="2000" spc="-1" strike="noStrike">
              <a:solidFill>
                <a:srgbClr val="000000"/>
              </a:solidFill>
              <a:latin typeface="Times New Roman"/>
            </a:endParaRPr>
          </a:p>
          <a:p>
            <a:pPr marL="339480" indent="-3394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evaluar estas condiciones se utiliza el </a:t>
            </a:r>
            <a:r>
              <a:rPr b="1" lang="es-MX" sz="2200" spc="-1" strike="noStrike">
                <a:solidFill>
                  <a:srgbClr val="000000"/>
                </a:solidFill>
                <a:latin typeface="Times New Roman"/>
              </a:rPr>
              <a:t>índice de fatiga por calor</a:t>
            </a:r>
            <a:r>
              <a:rPr b="0" lang="es-MX" sz="2200" spc="-1" strike="noStrike">
                <a:solidFill>
                  <a:srgbClr val="000000"/>
                </a:solidFill>
                <a:latin typeface="Times New Roman"/>
              </a:rPr>
              <a:t> que es el resultado de dividir la carga térmica (suma de factores del ambiente de trabajo físico) a que se sujeta un trabajador en un ambiente dado, entre la capacidad máxima que este tiene para liberar calor en el mismo ambiente.</a:t>
            </a:r>
            <a:endParaRPr b="0" lang="en-US" sz="2200" spc="-1" strike="noStrike">
              <a:solidFill>
                <a:srgbClr val="000000"/>
              </a:solidFill>
              <a:latin typeface="Times New Roman"/>
            </a:endParaRPr>
          </a:p>
          <a:p>
            <a:pPr marL="339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 típicos de estas condiciones</a:t>
            </a:r>
            <a:endParaRPr b="0" lang="en-US" sz="2200" spc="-1" strike="noStrike">
              <a:solidFill>
                <a:srgbClr val="000000"/>
              </a:solidFill>
              <a:latin typeface="Times New Roman"/>
            </a:endParaRPr>
          </a:p>
          <a:p>
            <a:pPr marL="339480" indent="-3394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ltas temperaturas</a:t>
            </a:r>
            <a:r>
              <a:rPr b="0" lang="es-MX" sz="2200" spc="-1" strike="noStrike">
                <a:solidFill>
                  <a:srgbClr val="000000"/>
                </a:solidFill>
                <a:latin typeface="Times New Roman"/>
              </a:rPr>
              <a:t>.- </a:t>
            </a:r>
            <a:r>
              <a:rPr b="0" lang="es-MX" sz="2000" spc="-1" strike="noStrike">
                <a:solidFill>
                  <a:srgbClr val="000000"/>
                </a:solidFill>
                <a:latin typeface="Times New Roman"/>
              </a:rPr>
              <a:t>incrementan el riesgo de fatiga, merma capacidad productiva del trabajador; puede producir deshidratación. Se recomienda disponer de agua en cantidad a temperatura corporal y con cloruros electrolíticos. Es exposiciones altas, proveer al trabajador de ropa aislante y rotarle la tarea para evitar isnolación. Ropa no inflamable.</a:t>
            </a:r>
            <a:endParaRPr b="0" lang="en-US" sz="2000" spc="-1" strike="noStrike">
              <a:solidFill>
                <a:srgbClr val="000000"/>
              </a:solidFill>
              <a:latin typeface="Times New Roman"/>
            </a:endParaRPr>
          </a:p>
          <a:p>
            <a:pPr marL="339480" indent="-3394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Bajas temperaturas.- </a:t>
            </a:r>
            <a:r>
              <a:rPr b="0" lang="es-MX" sz="2000" spc="-1" strike="noStrike">
                <a:solidFill>
                  <a:srgbClr val="000000"/>
                </a:solidFill>
                <a:latin typeface="Times New Roman"/>
              </a:rPr>
              <a:t>hipotermia que puede producir somnolencia y entumecimiento. Se recomienda usar ropa de abrigo de alta capacidad de aislamiento. Lana es recomend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Humedad</a:t>
            </a:r>
            <a:endParaRPr b="0" lang="en-US" sz="24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Disminuye las características refrigerantes del aire y en exceso propicia enfermedades infecto-contagiosas de la piel y de las vías respiratorias. Daños en materiales y equipo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controlarla se requiere el empleo de técnicas de control ambiental apoyadas con un programa de mantto.</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ersonal expuesto a condiciones extremas de humedad debe estar en control médico para controlar padecimientos típico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a norma es la NOM-015-STPS-1993</a:t>
            </a:r>
            <a:endParaRPr b="0" lang="en-US" sz="2200" spc="-1" strike="noStrike">
              <a:solidFill>
                <a:srgbClr val="00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adiaciones </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as radiaciones conocidas son:</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 ionizantes  radiación electromagnética que no es capaz de producir iones, directa o indirectamente a su paso a través de la materia Comprendida entre longitudes de onda de 10</a:t>
            </a:r>
            <a:r>
              <a:rPr b="0" lang="es-MX" sz="2000" spc="-1" strike="noStrike" baseline="30000">
                <a:solidFill>
                  <a:srgbClr val="000000"/>
                </a:solidFill>
                <a:latin typeface="Times New Roman"/>
              </a:rPr>
              <a:t>8</a:t>
            </a:r>
            <a:r>
              <a:rPr b="0" lang="es-MX" sz="2000" spc="-1" strike="noStrike">
                <a:solidFill>
                  <a:srgbClr val="000000"/>
                </a:solidFill>
                <a:latin typeface="Times New Roman"/>
              </a:rPr>
              <a:t> a 10</a:t>
            </a:r>
            <a:r>
              <a:rPr b="0" lang="es-MX" sz="2000" spc="-1" strike="noStrike" baseline="30000">
                <a:solidFill>
                  <a:srgbClr val="000000"/>
                </a:solidFill>
                <a:latin typeface="Times New Roman"/>
              </a:rPr>
              <a:t>-8</a:t>
            </a:r>
            <a:r>
              <a:rPr b="0" lang="es-MX" sz="2000" spc="-1" strike="noStrike">
                <a:solidFill>
                  <a:srgbClr val="000000"/>
                </a:solidFill>
                <a:latin typeface="Times New Roman"/>
              </a:rPr>
              <a:t> cm del espacio electromagnéetico. Incluye ondas de radio, microondas, radiaciones: láser, máser, infrarroja, visible y ultraviole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14440" y="1218960"/>
            <a:ext cx="5829120" cy="6908760"/>
          </a:xfrm>
          <a:prstGeom prst="rect">
            <a:avLst/>
          </a:prstGeom>
          <a:noFill/>
          <a:ln w="0">
            <a:noFill/>
          </a:ln>
        </p:spPr>
        <p:txBody>
          <a:bodyPr lIns="90000" rIns="90000" tIns="46800" bIns="46800" anchor="t">
            <a:normAutofit/>
          </a:bodyPr>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Henry Heinrich agente de seguros y su preocupación por las altas primas concluye</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or cada accidente de lesión grave, había 9 con lesión incapacitante, 30 lesión leve y 100 sin lesión, pero pérdida para la empresa.</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lación entre costo directo e indirecto de los accidentes era de 1 a 4</a:t>
            </a:r>
            <a:endParaRPr b="0" lang="en-US" sz="24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Los costos que las empresas tenían eran</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eldos de suplentes, gastos por reparaciones, materiales perdidos, multas y cancelaciones de contratos, bajas en la productividad, horas hombre en la investigación de las caus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pos de radiaciones no ionizant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frarroja</a:t>
            </a:r>
            <a:r>
              <a:rPr b="0" lang="es-MX" sz="1800" spc="-1" strike="noStrike">
                <a:solidFill>
                  <a:srgbClr val="000000"/>
                </a:solidFill>
                <a:latin typeface="Times New Roman"/>
              </a:rPr>
              <a:t>. Longitud de onda de 700-1400 nanómetros. Proceso de fundición de metales, forja y soldadura, tratamientos térmicos, cabinas de horneado de pintur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radio y microondas</a:t>
            </a:r>
            <a:r>
              <a:rPr b="0" lang="es-MX" sz="1800" spc="-1" strike="noStrike">
                <a:solidFill>
                  <a:srgbClr val="000000"/>
                </a:solidFill>
                <a:latin typeface="Times New Roman"/>
              </a:rPr>
              <a:t>. Longitud de onda de 10</a:t>
            </a:r>
            <a:r>
              <a:rPr b="0" lang="es-MX" sz="1800" spc="-1" strike="noStrike" baseline="30000">
                <a:solidFill>
                  <a:srgbClr val="000000"/>
                </a:solidFill>
                <a:latin typeface="Times New Roman"/>
              </a:rPr>
              <a:t>8</a:t>
            </a:r>
            <a:r>
              <a:rPr b="0" lang="es-MX" sz="1800" spc="-1" strike="noStrike">
                <a:solidFill>
                  <a:srgbClr val="000000"/>
                </a:solidFill>
                <a:latin typeface="Times New Roman"/>
              </a:rPr>
              <a:t> a 10</a:t>
            </a:r>
            <a:r>
              <a:rPr b="0" lang="es-MX" sz="1800" spc="-1" strike="noStrike" baseline="30000">
                <a:solidFill>
                  <a:srgbClr val="000000"/>
                </a:solidFill>
                <a:latin typeface="Times New Roman"/>
              </a:rPr>
              <a:t>4</a:t>
            </a:r>
            <a:r>
              <a:rPr b="0" lang="es-MX" sz="1800" spc="-1" strike="noStrike">
                <a:solidFill>
                  <a:srgbClr val="000000"/>
                </a:solidFill>
                <a:latin typeface="Times New Roman"/>
              </a:rPr>
              <a:t> cm (10</a:t>
            </a:r>
            <a:r>
              <a:rPr b="0" lang="es-MX" sz="1800" spc="-1" strike="noStrike" baseline="30000">
                <a:solidFill>
                  <a:srgbClr val="000000"/>
                </a:solidFill>
                <a:latin typeface="Times New Roman"/>
              </a:rPr>
              <a:t>5</a:t>
            </a:r>
            <a:r>
              <a:rPr b="0" lang="es-MX" sz="1800" spc="-1" strike="noStrike">
                <a:solidFill>
                  <a:srgbClr val="000000"/>
                </a:solidFill>
                <a:latin typeface="Times New Roman"/>
              </a:rPr>
              <a:t> a 10</a:t>
            </a:r>
            <a:r>
              <a:rPr b="0" lang="es-MX" sz="1800" spc="-1" strike="noStrike" baseline="30000">
                <a:solidFill>
                  <a:srgbClr val="000000"/>
                </a:solidFill>
                <a:latin typeface="Times New Roman"/>
              </a:rPr>
              <a:t>6</a:t>
            </a:r>
            <a:r>
              <a:rPr b="0" lang="es-MX" sz="1800" spc="-1" strike="noStrike">
                <a:solidFill>
                  <a:srgbClr val="000000"/>
                </a:solidFill>
                <a:latin typeface="Times New Roman"/>
              </a:rPr>
              <a:t> nanómetros). Equipos de radio transmisión (radios portátiles, teléfonos celulares). Hornos de microond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áser</a:t>
            </a:r>
            <a:r>
              <a:rPr b="0" lang="es-MX" sz="1800" spc="-1" strike="noStrike">
                <a:solidFill>
                  <a:srgbClr val="000000"/>
                </a:solidFill>
                <a:latin typeface="Times New Roman"/>
              </a:rPr>
              <a:t>.- sistema para producir luz coherente monocromática de igual longitud de onda y de frecuencia. Equipos de microcirugía. Sistemas CD, equipos de foto identific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Ultravioleta.</a:t>
            </a:r>
            <a:r>
              <a:rPr b="0" lang="es-MX" sz="1800" spc="-1" strike="noStrike">
                <a:solidFill>
                  <a:srgbClr val="000000"/>
                </a:solidFill>
                <a:latin typeface="Times New Roman"/>
              </a:rPr>
              <a:t> Longitud de onda de 200 a 400 nanómetros. Procesos de soldadura eléctrica, equipos de electroerosionado, máquinas fotocopiadoras, equipos germicidas de luz ultraviolet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adiación visible</a:t>
            </a:r>
            <a:r>
              <a:rPr b="0" lang="es-MX" sz="1800" spc="-1" strike="noStrike">
                <a:solidFill>
                  <a:srgbClr val="000000"/>
                </a:solidFill>
                <a:latin typeface="Times New Roman"/>
              </a:rPr>
              <a:t>.- longitud de onda de 380 a 750 nanómetros</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su análisis se requier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cho de banda</a:t>
            </a:r>
            <a:r>
              <a:rPr b="0" lang="es-MX" sz="1800" spc="-1" strike="noStrike">
                <a:solidFill>
                  <a:srgbClr val="000000"/>
                </a:solidFill>
                <a:latin typeface="Times New Roman"/>
              </a:rPr>
              <a:t>.- intervalo de longitud de onda para un determinado espectr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rradiancia efectiva.-</a:t>
            </a:r>
            <a:r>
              <a:rPr b="0" lang="es-MX" sz="1800" spc="-1" strike="noStrike">
                <a:solidFill>
                  <a:srgbClr val="000000"/>
                </a:solidFill>
                <a:latin typeface="Times New Roman"/>
              </a:rPr>
              <a:t> cantidad de radiación que emite una fuente en un espectro de longitud.</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013-STPS-FP 0612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Ionizantes.- </a:t>
            </a:r>
            <a:r>
              <a:rPr b="0" lang="es-MX" sz="2000" spc="-1" strike="noStrike">
                <a:solidFill>
                  <a:srgbClr val="000000"/>
                </a:solidFill>
                <a:latin typeface="Times New Roman"/>
              </a:rPr>
              <a:t>radiación electromagnética capaz de producir iones, drecta o indirectamente, a su paso a través de la materia. Procesos con amteriales radioactivos y radiaciones ionizantes, rayos X, radioterapia, reactores nucleares, isótopos, tierras rar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ayos </a:t>
            </a:r>
            <a:r>
              <a:rPr b="1" lang="es-MX" sz="2000" spc="-1" strike="noStrike">
                <a:solidFill>
                  <a:srgbClr val="000000"/>
                </a:solidFill>
                <a:latin typeface="Symbol"/>
                <a:ea typeface="Symbol"/>
              </a:rPr>
              <a:t></a:t>
            </a:r>
            <a:r>
              <a:rPr b="0" lang="es-MX" sz="2000" spc="-1" strike="noStrike">
                <a:solidFill>
                  <a:srgbClr val="000000"/>
                </a:solidFill>
                <a:latin typeface="Times New Roman"/>
              </a:rPr>
              <a:t>  iones de helio con dos cargas positivas y se desprenden con velocidades de hasta 22000 km/h. Son los de mayor capacidad ionizante, con distancia muy corta (7 cm) y su cap. De penetración es mínima. Masa 8000 veces los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ayos </a:t>
            </a:r>
            <a:r>
              <a:rPr b="1" lang="es-MX" sz="2000" spc="-1" strike="noStrike">
                <a:solidFill>
                  <a:srgbClr val="000000"/>
                </a:solidFill>
                <a:latin typeface="Symbol"/>
                <a:ea typeface="Symbol"/>
              </a:rPr>
              <a:t></a:t>
            </a:r>
            <a:r>
              <a:rPr b="0" lang="es-MX" sz="2000" spc="-1" strike="noStrike">
                <a:solidFill>
                  <a:srgbClr val="000000"/>
                </a:solidFill>
                <a:latin typeface="Times New Roman"/>
              </a:rPr>
              <a:t> son emitidos en transformaciones de desintegración atómica y su origen es el núcleo de un átomo de material radioactivo. Por lo general va acompañada de rayos </a:t>
            </a:r>
            <a:r>
              <a:rPr b="0" lang="es-MX" sz="2000" spc="-1" strike="noStrike">
                <a:solidFill>
                  <a:srgbClr val="000000"/>
                </a:solidFill>
                <a:latin typeface="Symbol"/>
                <a:ea typeface="Symbol"/>
              </a:rPr>
              <a:t></a:t>
            </a:r>
            <a:r>
              <a:rPr b="0" lang="es-MX" sz="2000" spc="-1" strike="noStrike">
                <a:solidFill>
                  <a:srgbClr val="000000"/>
                </a:solidFill>
                <a:latin typeface="Times New Roman"/>
              </a:rPr>
              <a:t> y </a:t>
            </a:r>
            <a:r>
              <a:rPr b="0" lang="es-MX" sz="2000" spc="-1" strike="noStrike">
                <a:solidFill>
                  <a:srgbClr val="000000"/>
                </a:solidFill>
                <a:latin typeface="Symbol"/>
                <a:ea typeface="Symbol"/>
              </a:rPr>
              <a:t></a:t>
            </a:r>
            <a:r>
              <a:rPr b="0" lang="es-MX" sz="2000" spc="-1" strike="noStrike">
                <a:solidFill>
                  <a:srgbClr val="000000"/>
                </a:solidFill>
                <a:latin typeface="Times New Roman"/>
              </a:rPr>
              <a:t>. Pueden penetrar hasta 2.5 cm el cuerpo humano, quemaduras graves. Su alcance depende del isóyopo emisor hasta 18 m. Se pueden detener con placa de aluminio de 1.3 cm o concreto normal. Al detenerse genera radiación X secu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ayos </a:t>
            </a:r>
            <a:r>
              <a:rPr b="1" lang="es-MX" sz="2000" spc="-1" strike="noStrike">
                <a:solidFill>
                  <a:srgbClr val="000000"/>
                </a:solidFill>
                <a:latin typeface="Symbol"/>
                <a:ea typeface="Symbol"/>
              </a:rPr>
              <a:t></a:t>
            </a:r>
            <a:r>
              <a:rPr b="0" lang="es-MX" sz="2000" spc="-1" strike="noStrike">
                <a:solidFill>
                  <a:srgbClr val="000000"/>
                </a:solidFill>
                <a:latin typeface="Times New Roman"/>
              </a:rPr>
              <a:t> son similares a los X, pero su origen es radioactivo. Espectro amplio de long. De onda y energía. Se originan en el núcleo inestable de materiales radioactivos. Blindaje de concreto con valor medio de placa de 10 c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ayos X</a:t>
            </a:r>
            <a:r>
              <a:rPr b="0" lang="es-MX" sz="1800" spc="-1" strike="noStrike">
                <a:solidFill>
                  <a:srgbClr val="000000"/>
                </a:solidFill>
                <a:latin typeface="Times New Roman"/>
              </a:rPr>
              <a:t> se generan en máquinas especiales, pero tambíen en algunos isótopos radioactivos. Sus caracterísiticas dependen del isótopo origen y de los aparatos de rayos X, del material con que está elaborada la placa bombardeada para su generación. Se conocen dos tipos: los duros (long. de onda corta) que pueden penetrar varios cm de acero y los suaves (long. de onda larga) con menor penetración. Las Medidas de protección son:</a:t>
            </a:r>
            <a:endParaRPr b="0" lang="en-US" sz="1800" spc="-1" strike="noStrike">
              <a:solidFill>
                <a:srgbClr val="000000"/>
              </a:solidFill>
              <a:latin typeface="Times New Roman"/>
            </a:endParaRPr>
          </a:p>
          <a:p>
            <a:pPr lvl="2" marL="1143000" indent="-228600">
              <a:lnSpc>
                <a:spcPct val="90000"/>
              </a:lnSpc>
              <a:spcBef>
                <a:spcPts val="400"/>
              </a:spcBef>
              <a:buClr>
                <a:srgbClr val="f9f9f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strucciones con blindaje especial</a:t>
            </a:r>
            <a:endParaRPr b="0" lang="en-US" sz="1600" spc="-1" strike="noStrike">
              <a:solidFill>
                <a:srgbClr val="000000"/>
              </a:solidFill>
              <a:latin typeface="Times New Roman"/>
            </a:endParaRPr>
          </a:p>
          <a:p>
            <a:pPr lvl="2" marL="1143000" indent="-228600">
              <a:lnSpc>
                <a:spcPct val="90000"/>
              </a:lnSpc>
              <a:spcBef>
                <a:spcPts val="400"/>
              </a:spcBef>
              <a:buClr>
                <a:srgbClr val="f9f9f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opa con barrera de plomo o aluminio</a:t>
            </a:r>
            <a:endParaRPr b="0" lang="en-US" sz="1600" spc="-1" strike="noStrike">
              <a:solidFill>
                <a:srgbClr val="000000"/>
              </a:solidFill>
              <a:latin typeface="Times New Roman"/>
            </a:endParaRPr>
          </a:p>
          <a:p>
            <a:pPr lvl="2" marL="1143000" indent="-228600">
              <a:lnSpc>
                <a:spcPct val="90000"/>
              </a:lnSpc>
              <a:spcBef>
                <a:spcPts val="400"/>
              </a:spcBef>
              <a:buClr>
                <a:srgbClr val="f9f9f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rol individual del personal expuesto al riesgo</a:t>
            </a:r>
            <a:endParaRPr b="0" lang="en-US" sz="16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lesiones abarcan desde quemaduras hasta daños genéticos y la muert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M-012-STPS-1993.</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iesgos de operación.-</a:t>
            </a:r>
            <a:r>
              <a:rPr b="0" lang="es-MX" sz="2000" spc="-1" strike="noStrike">
                <a:solidFill>
                  <a:srgbClr val="000000"/>
                </a:solidFill>
                <a:latin typeface="Times New Roman"/>
              </a:rPr>
              <a:t> se generan por la naturaleza de la energía involucrada en los procesos desarrollados y se clasifican e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gos mecánicos</a:t>
            </a:r>
            <a:r>
              <a:rPr b="0" lang="es-MX" sz="1800" spc="-1" strike="noStrike">
                <a:solidFill>
                  <a:srgbClr val="000000"/>
                </a:solidFill>
                <a:latin typeface="Times New Roman"/>
              </a:rPr>
              <a:t>. Se generan a partir del movimiento o de la posición relativa de los objetos y las personas; confinamiento y presurización de fluídos. Ejemplos: vehículos en mov. Recipientes sujetos a presión, objetos en niveles superiores, escaleras, rampas, herramientas de corte.</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operación de maquinaria y equipo es una de las fuentes de riesgos más comunes. Partes en movimiento y superficies a temp. Extremas.</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gn="ctr">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tección contra riesgo mecánico</a:t>
            </a:r>
            <a:endParaRPr b="0" lang="en-US" sz="24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Debe diseñarse en el momento que se definen los procesos operativos. Medidas de seguridad:</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en todos los elementos en movimient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visos informativos sobre existencia de riesgo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de control de operación para que el operario utilice ambas manos cuando por poner las manos en un lugar peligroso pueda ocurrir les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pa ajustada de manga corta, sin corbata, sin guantes, cadenas, esclavas, pulseras ni anillos durante la operación de las máquin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zado en buenas condiciones con suela antiderrapante (NOM-113-STPS-1993</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pacitación constante al personal donde se mencionen los riesgos presentes, las posibles consecuencias y los equipos de protección necesario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emperaturas extrem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allas protector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ntes de aislamiento en caso de piez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opa con capacidad de aislamiento. Agua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ajas temperaturas, supervisión y ropa adecuadas</a:t>
            </a:r>
            <a:endParaRPr b="0" lang="en-US" sz="2000" spc="-1" strike="noStrike">
              <a:solidFill>
                <a:srgbClr val="000000"/>
              </a:solidFill>
              <a:latin typeface="Times New Roman"/>
            </a:endParaRPr>
          </a:p>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Daños y lesione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ños</a:t>
            </a:r>
            <a:r>
              <a:rPr b="0" lang="es-MX" sz="2000" spc="-1" strike="noStrike">
                <a:solidFill>
                  <a:srgbClr val="000000"/>
                </a:solidFill>
                <a:latin typeface="Times New Roman"/>
              </a:rPr>
              <a:t>.- rotura de maquinaria, daños estructurales, rituras de líneas de conducción (aire, gases, líquidos, vapor, electricidad), desgaste prematuro, explosión, inundac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Lesiones</a:t>
            </a:r>
            <a:r>
              <a:rPr b="0" lang="es-MX" sz="2000" spc="-1" strike="noStrike">
                <a:solidFill>
                  <a:srgbClr val="000000"/>
                </a:solidFill>
                <a:latin typeface="Times New Roman"/>
              </a:rPr>
              <a:t>.- excoriaciones, cortadas, quemaduras, traumatismos, fracturas, cuerpos extraños, amputaciones.</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 eléctricos</a:t>
            </a:r>
            <a:r>
              <a:rPr b="0" lang="es-MX" sz="2200" spc="-1" strike="noStrike">
                <a:solidFill>
                  <a:srgbClr val="000000"/>
                </a:solidFill>
                <a:latin typeface="Times New Roman"/>
              </a:rPr>
              <a:t>. </a:t>
            </a:r>
            <a:r>
              <a:rPr b="0" lang="es-MX" sz="2000" spc="-1" strike="noStrike">
                <a:solidFill>
                  <a:srgbClr val="000000"/>
                </a:solidFill>
                <a:latin typeface="Times New Roman"/>
              </a:rPr>
              <a:t>Consecuencia de generación transmisión, aplicación o control de la energía eléctrica. En el manejo de la electricidad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lta tensión</a:t>
            </a:r>
            <a:r>
              <a:rPr b="0" lang="es-MX" sz="1800" spc="-1" strike="noStrike">
                <a:solidFill>
                  <a:srgbClr val="000000"/>
                </a:solidFill>
                <a:latin typeface="Times New Roman"/>
              </a:rPr>
              <a:t>: flujo eléctrico de subestaciones y líneas de conducción de alta capac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Baja tensión</a:t>
            </a:r>
            <a:r>
              <a:rPr b="0" lang="es-MX" sz="1800" spc="-1" strike="noStrike">
                <a:solidFill>
                  <a:srgbClr val="000000"/>
                </a:solidFill>
                <a:latin typeface="Times New Roman"/>
              </a:rPr>
              <a:t>: servicio eléctrico de operación de equipo. Fuente de más del 90% accidentes eléctr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ectricidad estática</a:t>
            </a:r>
            <a:r>
              <a:rPr b="0" lang="es-MX" sz="1800" spc="-1" strike="noStrike">
                <a:solidFill>
                  <a:srgbClr val="000000"/>
                </a:solidFill>
                <a:latin typeface="Times New Roman"/>
              </a:rPr>
              <a:t>: se genera por la fricción de dos cuerpos y se acumula en uno de ellos.</a:t>
            </a:r>
            <a:endParaRPr b="0" lang="en-US" sz="18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trol de riesgo basado en precontact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Bajo voltaje</a:t>
            </a:r>
            <a:r>
              <a:rPr b="0" lang="es-MX" sz="2200" spc="-1" strike="noStrike">
                <a:solidFill>
                  <a:srgbClr val="000000"/>
                </a:solidFill>
                <a:latin typeface="Times New Roman"/>
              </a:rPr>
              <a:t>. </a:t>
            </a:r>
            <a:r>
              <a:rPr b="0" lang="es-MX" sz="2000" spc="-1" strike="noStrike">
                <a:solidFill>
                  <a:srgbClr val="000000"/>
                </a:solidFill>
                <a:latin typeface="Times New Roman"/>
              </a:rPr>
              <a:t>El riesgo a ls personas depende de las características del flujo a que esté expuesta. Son 4 unidades básicas:</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 voltaje</a:t>
            </a:r>
            <a:r>
              <a:rPr b="0" lang="es-MX" sz="1800" spc="-1" strike="noStrike">
                <a:solidFill>
                  <a:srgbClr val="000000"/>
                </a:solidFill>
                <a:latin typeface="Times New Roman"/>
              </a:rPr>
              <a:t>: capacidad de fluir de un punto a otro se puede comparar con la presión de agua de un tubo.</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l amperaje</a:t>
            </a:r>
            <a:r>
              <a:rPr b="0" lang="es-MX" sz="1800" spc="-1" strike="noStrike">
                <a:solidFill>
                  <a:srgbClr val="000000"/>
                </a:solidFill>
                <a:latin typeface="Times New Roman"/>
              </a:rPr>
              <a:t>: cantidad de corriente que puede pasar de una unidad en tiempo dada. El gasto de agua.</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a resistencia</a:t>
            </a:r>
            <a:r>
              <a:rPr b="0" lang="es-MX" sz="1800" spc="-1" strike="noStrike">
                <a:solidFill>
                  <a:srgbClr val="000000"/>
                </a:solidFill>
                <a:latin typeface="Times New Roman"/>
              </a:rPr>
              <a:t> (ohmios): medida de oposición que ofrece al paso de la corriente un conductor.</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a potencia</a:t>
            </a:r>
            <a:r>
              <a:rPr b="0" lang="es-MX" sz="1800" spc="-1" strike="noStrike">
                <a:solidFill>
                  <a:srgbClr val="000000"/>
                </a:solidFill>
                <a:latin typeface="Times New Roman"/>
              </a:rPr>
              <a:t> (watts): capacidad de trabajo que tiene un flujo eléctrico, equivale a los HP de un motor. Es el resultado de la acción combinada del amperaje y el voltaje.</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considerar que:</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lto voltaje no significa necesariamente alto amp.</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puede tener alto amperaje y bajo voltaje</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resistencia alta evita el paso de la corriente</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wattaje es el resultado de voltaje x amperaje.</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 que produce las lesiones en un accidente es la cantidad de corriente que pasa a través de los tejido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uede haber paro cardiaco y respiratorio con una corriente de tan sólo 30 mA durante 1-2 se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lnSpc>
                <a:spcPct val="90000"/>
              </a:lnSpc>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Para evitar el riesgo eléctrico:</a:t>
            </a:r>
            <a:endParaRPr b="0" lang="en-US" sz="22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tes de trabajar en cualquier circuito debe cortarse el suministro del mismo y que no se pueda restablecer accidentalm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instalar una tarjeta en el interruptor cuando se corte el suministro para que sea retirada nada más por la persona cuyo nombre aparece en ella (o el jefe imediato en ausenc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son dos trabajadores, dos tarjetas. Sólo se energiza el circuito cuando ambos las retire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ecomienda usar candados además de las tarje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contar con tierra física. Evita energía estáti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ólo personal calificado debe operar elementos e instalaciones eléctric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Zapatos de protección (dieléctricos) ropa seca y herramientas con aislamiento.</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Cortos circuitos</a:t>
            </a:r>
            <a:r>
              <a:rPr b="0" lang="es-MX" sz="2200" spc="-1" strike="noStrike">
                <a:solidFill>
                  <a:srgbClr val="000000"/>
                </a:solidFill>
                <a:latin typeface="Times New Roman"/>
              </a:rPr>
              <a:t>: </a:t>
            </a:r>
            <a:r>
              <a:rPr b="0" lang="es-MX" sz="2000" spc="-1" strike="noStrike">
                <a:solidFill>
                  <a:srgbClr val="000000"/>
                </a:solidFill>
                <a:latin typeface="Times New Roman"/>
              </a:rPr>
              <a:t>se deben a instalaciones defectuosas y/o a un mal mantto. de las mismas o de los equipos conectados a ellas. Se recomienda la instalción de fusibles de la menor capacidad permisible.</a:t>
            </a:r>
            <a:endParaRPr b="0" lang="en-US" sz="20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lto voltaje</a:t>
            </a:r>
            <a:r>
              <a:rPr b="0" lang="es-MX" sz="2200" spc="-1" strike="noStrike">
                <a:solidFill>
                  <a:srgbClr val="000000"/>
                </a:solidFill>
                <a:latin typeface="Times New Roman"/>
              </a:rPr>
              <a:t>: se emplea en la tranmisión de energía en líneas de alta tensión, transformadores y subestaciones. 13300</a:t>
            </a:r>
            <a:r>
              <a:rPr b="0" lang="es-MX" sz="2200" spc="-1" strike="noStrike" baseline="30000">
                <a:solidFill>
                  <a:srgbClr val="000000"/>
                </a:solidFill>
                <a:latin typeface="Times New Roman"/>
              </a:rPr>
              <a:t>+</a:t>
            </a:r>
            <a:r>
              <a:rPr b="0" lang="es-MX" sz="2200" spc="-1" strike="noStrike">
                <a:solidFill>
                  <a:srgbClr val="000000"/>
                </a:solidFill>
                <a:latin typeface="Times New Roman"/>
              </a:rPr>
              <a:t> volt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Riesgos: riesgos graves como son:</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uerte imediata de personas o anima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madurs de tercer grado en gran extens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plosión de maquinaria o equip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usión de elementos metálicos e incendio</a:t>
            </a:r>
            <a:endParaRPr b="0" lang="en-US" sz="20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Protección:</a:t>
            </a:r>
            <a:r>
              <a:rPr b="0" lang="es-MX" sz="2200" spc="-1" strike="noStrike">
                <a:solidFill>
                  <a:srgbClr val="000000"/>
                </a:solidFill>
                <a:latin typeface="Times New Roman"/>
              </a:rPr>
              <a:t> capacitación y entrenamiento del personal que maneja el riesgo. Restricción de acceso. Evitar punto de contacto. Dispositivos de protección automática basados en la detección de fugas de energía o fallas en los elementos de transmisión.</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Electricidad estática</a:t>
            </a:r>
            <a:r>
              <a:rPr b="0" lang="es-MX" sz="2200" spc="-1" strike="noStrike">
                <a:solidFill>
                  <a:srgbClr val="000000"/>
                </a:solidFill>
                <a:latin typeface="Times New Roman"/>
              </a:rPr>
              <a:t>: por ejemplo los rayos. Puede iniciar un incendio en un ambiente de gases o que un trabajador se lesione por sus efecto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La mejor protección es un sistema de tierra física a todos los equipos e instalaciones.</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Caracterísiticas</a:t>
            </a:r>
            <a:r>
              <a:rPr b="0" lang="es-MX" sz="2200" spc="-1" strike="noStrike">
                <a:solidFill>
                  <a:srgbClr val="000000"/>
                </a:solidFill>
                <a:latin typeface="Times New Roman"/>
              </a:rPr>
              <a:t> </a:t>
            </a:r>
            <a:r>
              <a:rPr b="1" lang="es-MX" sz="2200" spc="-1" strike="noStrike">
                <a:solidFill>
                  <a:srgbClr val="000000"/>
                </a:solidFill>
                <a:latin typeface="Times New Roman"/>
              </a:rPr>
              <a:t>de</a:t>
            </a:r>
            <a:r>
              <a:rPr b="0" lang="es-MX" sz="2200" spc="-1" strike="noStrike">
                <a:solidFill>
                  <a:srgbClr val="000000"/>
                </a:solidFill>
                <a:latin typeface="Times New Roman"/>
              </a:rPr>
              <a:t> </a:t>
            </a:r>
            <a:r>
              <a:rPr b="1" lang="es-MX" sz="2200" spc="-1" strike="noStrike">
                <a:solidFill>
                  <a:srgbClr val="000000"/>
                </a:solidFill>
                <a:latin typeface="Times New Roman"/>
              </a:rPr>
              <a:t>las</a:t>
            </a:r>
            <a:r>
              <a:rPr b="0" lang="es-MX" sz="2200" spc="-1" strike="noStrike">
                <a:solidFill>
                  <a:srgbClr val="000000"/>
                </a:solidFill>
                <a:latin typeface="Times New Roman"/>
              </a:rPr>
              <a:t> </a:t>
            </a:r>
            <a:r>
              <a:rPr b="1" lang="es-MX" sz="2200" spc="-1" strike="noStrike">
                <a:solidFill>
                  <a:srgbClr val="000000"/>
                </a:solidFill>
                <a:latin typeface="Times New Roman"/>
              </a:rPr>
              <a:t>instalacione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Factores a tomar en cuenta para el diseño:</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sumo de equipo</a:t>
            </a:r>
            <a:r>
              <a:rPr b="0" lang="es-MX" sz="2000" spc="-1" strike="noStrike">
                <a:solidFill>
                  <a:srgbClr val="000000"/>
                </a:solidFill>
                <a:latin typeface="Times New Roman"/>
              </a:rPr>
              <a:t>: determinar el calibre adecuado del conductor de alimentac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uraleza del ambiente de trabajo</a:t>
            </a:r>
            <a:r>
              <a:rPr b="0" lang="es-MX" sz="2000" spc="-1" strike="noStrike">
                <a:solidFill>
                  <a:srgbClr val="000000"/>
                </a:solidFill>
                <a:latin typeface="Times New Roman"/>
              </a:rPr>
              <a:t>: tipo de instalación (normal, hermética, contra polvo, o a prueba de explosión)</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stema de tierra física</a:t>
            </a:r>
            <a:r>
              <a:rPr b="0" lang="es-MX" sz="2000" spc="-1" strike="noStrike">
                <a:solidFill>
                  <a:srgbClr val="000000"/>
                </a:solidFill>
                <a:latin typeface="Times New Roman"/>
              </a:rPr>
              <a:t>: es necesaria en todas las empresas. Una simple fricción es capaz de generar suficiente carga par iniciar un incendi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stemas de corte de energía</a:t>
            </a:r>
            <a:r>
              <a:rPr b="0" lang="es-MX" sz="2000" spc="-1" strike="noStrike">
                <a:solidFill>
                  <a:srgbClr val="000000"/>
                </a:solidFill>
                <a:latin typeface="Times New Roman"/>
              </a:rPr>
              <a:t>: el corte de energía debe localizarse lo más próximo posible a la posición normal del operador del equip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ñal de energizado</a:t>
            </a:r>
            <a:r>
              <a:rPr b="0" lang="es-MX" sz="2000" spc="-1" strike="noStrike">
                <a:solidFill>
                  <a:srgbClr val="000000"/>
                </a:solidFill>
                <a:latin typeface="Times New Roman"/>
              </a:rPr>
              <a:t>: dotar de dispositivo visual para indicar que un equipo está energizado  o desconectado.</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ndicadores de voltaje</a:t>
            </a:r>
            <a:r>
              <a:rPr b="0" lang="es-MX" sz="2000" spc="-1" strike="noStrike">
                <a:solidFill>
                  <a:srgbClr val="000000"/>
                </a:solidFill>
                <a:latin typeface="Times New Roman"/>
              </a:rPr>
              <a:t>: si se utiliza más de un tipo de voltaje, cada toma debe  tener un letrero que indique las caracterísiticas de los valores del mis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 químicos</a:t>
            </a:r>
            <a:r>
              <a:rPr b="0" lang="es-MX" sz="2200" spc="-1" strike="noStrike">
                <a:solidFill>
                  <a:srgbClr val="000000"/>
                </a:solidFill>
                <a:latin typeface="Times New Roman"/>
              </a:rPr>
              <a:t>.- </a:t>
            </a:r>
            <a:r>
              <a:rPr b="0" lang="es-MX" sz="2000" spc="-1" strike="noStrike">
                <a:solidFill>
                  <a:srgbClr val="000000"/>
                </a:solidFill>
                <a:latin typeface="Times New Roman"/>
              </a:rPr>
              <a:t>se generan en los procesos de prod., aplicación y manejo de sustancias químicas. Es muy común debido a la presencia de productos que incluye usos dométicos como limpiadores y detergente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ctividades típicas donde se considera fuente principal de riesgo:</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tilación del petróleo y síntesis de sus derivado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abricación de pinturas, recubrimientos y adhesivo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abricación de papael</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abopración de detergentes y desengrasante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aboración de fibras sintética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dustria textil</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dustria gráfica (fotografía e impresión)</a:t>
            </a:r>
            <a:endParaRPr b="0" lang="en-US" sz="18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racterísticas de acción:</a:t>
            </a:r>
            <a:endParaRPr b="0" lang="en-US" sz="20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inhalación</a:t>
            </a:r>
            <a:r>
              <a:rPr b="0" lang="es-MX" sz="1800" spc="-1" strike="noStrike">
                <a:solidFill>
                  <a:srgbClr val="000000"/>
                </a:solidFill>
                <a:latin typeface="Times New Roman"/>
              </a:rPr>
              <a:t>: en forma de polvos, gases, vapores, humos y neblinas pueden penetrar a los pulmones.</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ingestión</a:t>
            </a:r>
            <a:r>
              <a:rPr b="0" lang="es-MX" sz="1800" spc="-1" strike="noStrike">
                <a:solidFill>
                  <a:srgbClr val="000000"/>
                </a:solidFill>
                <a:latin typeface="Times New Roman"/>
              </a:rPr>
              <a:t>: en forma de partículas, en el aire o sedimentadas existe el riesgo de ingerirlas al abrir la boca, al fumar, tomar o comer algo.</a:t>
            </a:r>
            <a:endParaRPr b="0" lang="en-US" sz="1800" spc="-1" strike="noStrike">
              <a:solidFill>
                <a:srgbClr val="000000"/>
              </a:solidFill>
              <a:latin typeface="Times New Roman"/>
            </a:endParaRPr>
          </a:p>
          <a:p>
            <a:pPr lvl="1" marL="743040" indent="-285840">
              <a:spcBef>
                <a:spcPts val="45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ontacto percutáneo</a:t>
            </a:r>
            <a:r>
              <a:rPr b="0" lang="es-MX" sz="1800" spc="-1" strike="noStrike">
                <a:solidFill>
                  <a:srgbClr val="000000"/>
                </a:solidFill>
                <a:latin typeface="Times New Roman"/>
              </a:rPr>
              <a:t>: al estar diluídas en algún medio solvente, pueden penetrar por los poros de la piel.</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4440" y="812880"/>
            <a:ext cx="582912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finiciones </a:t>
            </a:r>
            <a:endParaRPr b="0" lang="en-US" sz="4400" spc="-1" strike="noStrike">
              <a:solidFill>
                <a:srgbClr val="000000"/>
              </a:solidFill>
              <a:latin typeface="Arial"/>
            </a:endParaRPr>
          </a:p>
        </p:txBody>
      </p:sp>
      <p:sp>
        <p:nvSpPr>
          <p:cNvPr id="102" name="PlaceHolder 2"/>
          <p:cNvSpPr>
            <a:spLocks noGrp="1"/>
          </p:cNvSpPr>
          <p:nvPr>
            <p:ph/>
          </p:nvPr>
        </p:nvSpPr>
        <p:spPr>
          <a:xfrm>
            <a:off x="514440" y="1930320"/>
            <a:ext cx="5829120" cy="6197760"/>
          </a:xfrm>
          <a:prstGeom prst="rect">
            <a:avLst/>
          </a:prstGeom>
          <a:noFill/>
          <a:ln w="0">
            <a:noFill/>
          </a:ln>
        </p:spPr>
        <p:txBody>
          <a:bodyPr lIns="90000" rIns="90000" tIns="46800" bIns="46800" anchor="t">
            <a:normAutofit/>
          </a:bodyPr>
          <a:p>
            <a:pPr marL="343080" indent="-3430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México la legislación que regula la nomenclatura está en:</a:t>
            </a:r>
            <a:endParaRPr b="0" lang="en-US" sz="3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105-STPS-1994 SEGURIDAD- TECNOLOGÍA DEL FUEGO, TERMINOLOGÍA.</a:t>
            </a:r>
            <a:endParaRPr b="0" lang="en-US" sz="2000" spc="-1" strike="noStrike">
              <a:solidFill>
                <a:srgbClr val="000000"/>
              </a:solidFill>
              <a:latin typeface="Times New Roman"/>
            </a:endParaRPr>
          </a:p>
          <a:p>
            <a:pPr lvl="1" marL="743040" indent="-28584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M-107-STPS-1994 PREVENCIÓN TÉCNICA DE ACCIDENTES EN MÁQUINAS Y EQUIPOS QUE OPERAN EN LUGAR FIJO. SEGURIDAD MECÁNICA Y TÉRMICA-TERMINOLOGÍA</a:t>
            </a:r>
            <a:r>
              <a:rPr b="0"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601"/>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guridad Industrial.- </a:t>
            </a:r>
            <a:r>
              <a:rPr b="0" lang="es-MX" sz="2400" spc="-1" strike="noStrike">
                <a:solidFill>
                  <a:srgbClr val="000000"/>
                </a:solidFill>
                <a:latin typeface="Times New Roman"/>
              </a:rPr>
              <a:t>conjunto de conocimientos, métodos y procedimientos que tienen por objetivo identificar, evaluar, eliminar o controlar riesgos generados `por la actividad laboral.</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14440" y="685440"/>
            <a:ext cx="5829120" cy="7442280"/>
          </a:xfrm>
          <a:prstGeom prst="rect">
            <a:avLst/>
          </a:prstGeom>
          <a:noFill/>
          <a:ln w="0">
            <a:noFill/>
          </a:ln>
        </p:spPr>
        <p:txBody>
          <a:bodyPr lIns="90000" rIns="90000" tIns="46800" bIns="46800" anchor="t">
            <a:normAutofit/>
          </a:bodyPr>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Riesgos</a:t>
            </a:r>
            <a:r>
              <a:rPr b="0" lang="es-MX" sz="2200" spc="-1" strike="noStrike">
                <a:solidFill>
                  <a:srgbClr val="000000"/>
                </a:solidFill>
                <a:latin typeface="Times New Roman"/>
              </a:rPr>
              <a:t>: daño por su capacidad de corrosión, explosión y contaminación. Lesión, quemaduras, intoxicaciones y envenenamiento, axfixia, dermatitis de contacto, neuritis y neuropatías, cáncer y hasta mutagénesis.</a:t>
            </a:r>
            <a:endParaRPr b="0" lang="en-US" sz="22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Medidas de protección</a:t>
            </a:r>
            <a:r>
              <a:rPr b="0" lang="es-MX" sz="2200" spc="-1" strike="noStrike">
                <a:solidFill>
                  <a:srgbClr val="000000"/>
                </a:solidFill>
                <a:latin typeface="Times New Roman"/>
              </a:rPr>
              <a:t>: se deben definir de acuerdo a las características operativas y potenciales de riesgo. A) Sistemas de ventilación para evitar concentración de las sustencias arriba de lo permitido, B) extracción y recolección de estas sustancias y en última instancia EPP como so¨:</a:t>
            </a:r>
            <a:endParaRPr b="0" lang="en-US" sz="22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entes, goggles y viser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piradore y mascarilla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remas, ropa, impermeables</a:t>
            </a:r>
            <a:endParaRPr b="0" lang="en-US" sz="2000" spc="-1" strike="noStrike">
              <a:solidFill>
                <a:srgbClr val="000000"/>
              </a:solidFill>
              <a:latin typeface="Times New Roman"/>
            </a:endParaRPr>
          </a:p>
          <a:p>
            <a:pPr lvl="1" marL="743040" indent="-285840">
              <a:spcBef>
                <a:spcPts val="4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edidas de higiene y aseo personal.</a:t>
            </a:r>
            <a:endParaRPr b="0" lang="en-US" sz="2000" spc="-1" strike="noStrike">
              <a:solidFill>
                <a:srgbClr val="000000"/>
              </a:solidFill>
              <a:latin typeface="Times New Roman"/>
            </a:endParaRPr>
          </a:p>
          <a:p>
            <a:pPr marL="343080" indent="-343080">
              <a:spcBef>
                <a:spcPts val="55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El personal debe estar informado de la naturaleza de los riesgos a los que está expuesto y sus posibles consecuenci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14440" y="812880"/>
            <a:ext cx="5829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finiciones...</a:t>
            </a:r>
            <a:endParaRPr b="0" lang="en-US" sz="3600" spc="-1" strike="noStrike">
              <a:solidFill>
                <a:srgbClr val="000000"/>
              </a:solidFill>
              <a:latin typeface="Arial"/>
            </a:endParaRPr>
          </a:p>
        </p:txBody>
      </p:sp>
      <p:sp>
        <p:nvSpPr>
          <p:cNvPr id="104" name="PlaceHolder 2"/>
          <p:cNvSpPr>
            <a:spLocks noGrp="1"/>
          </p:cNvSpPr>
          <p:nvPr>
            <p:ph/>
          </p:nvPr>
        </p:nvSpPr>
        <p:spPr>
          <a:xfrm>
            <a:off x="514440" y="1828800"/>
            <a:ext cx="5829120" cy="629928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Riesgos de trabajo.-</a:t>
            </a:r>
            <a:r>
              <a:rPr b="0" lang="es-MX" sz="3200" spc="-1" strike="noStrike">
                <a:solidFill>
                  <a:srgbClr val="000000"/>
                </a:solidFill>
                <a:latin typeface="Times New Roman"/>
              </a:rPr>
              <a:t> </a:t>
            </a:r>
            <a:r>
              <a:rPr b="0" lang="es-MX" sz="2000" spc="-1" strike="noStrike">
                <a:solidFill>
                  <a:srgbClr val="000000"/>
                </a:solidFill>
                <a:latin typeface="Times New Roman"/>
              </a:rPr>
              <a:t>“</a:t>
            </a:r>
            <a:r>
              <a:rPr b="0" i="1" lang="es-MX" sz="2000" spc="-1" strike="noStrike">
                <a:solidFill>
                  <a:srgbClr val="000000"/>
                </a:solidFill>
                <a:latin typeface="Times New Roman"/>
              </a:rPr>
              <a:t>son los accidentes y enfermedades a que están expuestos los trabajadores en ejercicio o con motivo de su trabajo</a:t>
            </a:r>
            <a:r>
              <a:rPr b="0" lang="es-MX" sz="2000" spc="-1" strike="noStrike">
                <a:solidFill>
                  <a:srgbClr val="000000"/>
                </a:solidFill>
                <a:latin typeface="Times New Roman"/>
              </a:rPr>
              <a:t>” (LFT TIT IX art. 473). Ampliada: es toda aquella situación, instalación, sustancia, manifestación de energía o alguna combinación de las mismas, que tuviere el potencial para generar un accidente o producir una lesión o enfermedad profesional.</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ccidente.-</a:t>
            </a:r>
            <a:r>
              <a:rPr b="0" lang="es-MX" sz="3200" spc="-1" strike="noStrike">
                <a:solidFill>
                  <a:srgbClr val="000000"/>
                </a:solidFill>
                <a:latin typeface="Times New Roman"/>
              </a:rPr>
              <a:t> </a:t>
            </a:r>
            <a:r>
              <a:rPr b="0" lang="es-MX" sz="2000" spc="-1" strike="noStrike">
                <a:solidFill>
                  <a:srgbClr val="000000"/>
                </a:solidFill>
                <a:latin typeface="Times New Roman"/>
              </a:rPr>
              <a:t>“</a:t>
            </a:r>
            <a:r>
              <a:rPr b="0" i="1" lang="es-MX" sz="2000" spc="-1" strike="noStrike">
                <a:solidFill>
                  <a:srgbClr val="000000"/>
                </a:solidFill>
                <a:latin typeface="Times New Roman"/>
              </a:rPr>
              <a:t>es toda lesión orgánica o perturbación funcional, imediata o posterior, o la muerte producida repentinamente en ejercicio o con motivo de trabajo, cualesquiera que sea el lugar y el tiempo en que se preste”</a:t>
            </a:r>
            <a:r>
              <a:rPr b="0" lang="es-MX" sz="2400" spc="-1" strike="noStrike">
                <a:solidFill>
                  <a:srgbClr val="000000"/>
                </a:solidFill>
                <a:latin typeface="Times New Roman"/>
              </a:rPr>
              <a:t> . </a:t>
            </a:r>
            <a:r>
              <a:rPr b="0" lang="es-MX" sz="2000" spc="-1" strike="noStrike">
                <a:solidFill>
                  <a:srgbClr val="000000"/>
                </a:solidFill>
                <a:latin typeface="Times New Roman"/>
              </a:rPr>
              <a:t>Ampliada: es todo suceso de trabajo imprevisto en secuencia, lugar o tiempo, que produzca o no lesiones o daños en las personas o equipos e instalaciones al servicio de una empresa da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4440" y="812880"/>
            <a:ext cx="5829120" cy="81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finiciones...</a:t>
            </a:r>
            <a:endParaRPr b="0" lang="en-US" sz="3600" spc="-1" strike="noStrike">
              <a:solidFill>
                <a:srgbClr val="000000"/>
              </a:solidFill>
              <a:latin typeface="Arial"/>
            </a:endParaRPr>
          </a:p>
        </p:txBody>
      </p:sp>
      <p:sp>
        <p:nvSpPr>
          <p:cNvPr id="106" name="PlaceHolder 2"/>
          <p:cNvSpPr>
            <a:spLocks noGrp="1"/>
          </p:cNvSpPr>
          <p:nvPr>
            <p:ph/>
          </p:nvPr>
        </p:nvSpPr>
        <p:spPr>
          <a:xfrm>
            <a:off x="514440" y="1625760"/>
            <a:ext cx="5829120" cy="650232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Incidente.- </a:t>
            </a:r>
            <a:r>
              <a:rPr b="0" lang="es-MX" sz="2000" spc="-1" strike="noStrike">
                <a:solidFill>
                  <a:srgbClr val="000000"/>
                </a:solidFill>
                <a:latin typeface="Times New Roman"/>
              </a:rPr>
              <a:t>Todo suceso imprevisto que no produce daños ni lesiones, pero que perturba la continuidad de los proceso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quipo de protección personal.- </a:t>
            </a:r>
            <a:r>
              <a:rPr b="0" lang="es-MX" sz="2000" spc="-1" strike="noStrike">
                <a:solidFill>
                  <a:srgbClr val="000000"/>
                </a:solidFill>
                <a:latin typeface="Times New Roman"/>
              </a:rPr>
              <a:t>Dispositivos diseñados para proteger dentro de límites y en condiciones adecuada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cto inseguro.- </a:t>
            </a:r>
            <a:r>
              <a:rPr b="0" lang="es-MX" sz="2000" spc="-1" strike="noStrike">
                <a:solidFill>
                  <a:srgbClr val="000000"/>
                </a:solidFill>
                <a:latin typeface="Times New Roman"/>
              </a:rPr>
              <a:t>Toda acción individual o colectiva que viola las disposiciones de seguridad.</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ndición insegura.- </a:t>
            </a:r>
            <a:r>
              <a:rPr b="0" lang="es-MX" sz="2000" spc="-1" strike="noStrike">
                <a:solidFill>
                  <a:srgbClr val="000000"/>
                </a:solidFill>
                <a:latin typeface="Times New Roman"/>
              </a:rPr>
              <a:t>Es toda posición, condición o estado de herramienta, equipo, instalaciones o materiales que represente un riesgo de trabajo.</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Método seguro.- </a:t>
            </a:r>
            <a:r>
              <a:rPr b="0" lang="es-MX" sz="2000" spc="-1" strike="noStrike">
                <a:solidFill>
                  <a:srgbClr val="000000"/>
                </a:solidFill>
                <a:latin typeface="Times New Roman"/>
              </a:rPr>
              <a:t>Es el que ha sido analizado y diseñado para mantener bajo control los riesgos que su desarrollo implique, mediante técnicas y medida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14440" y="812520"/>
            <a:ext cx="5829120" cy="71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finiciones...</a:t>
            </a:r>
            <a:endParaRPr b="0" lang="en-US" sz="3600" spc="-1" strike="noStrike">
              <a:solidFill>
                <a:srgbClr val="000000"/>
              </a:solidFill>
              <a:latin typeface="Arial"/>
            </a:endParaRPr>
          </a:p>
        </p:txBody>
      </p:sp>
      <p:sp>
        <p:nvSpPr>
          <p:cNvPr id="108" name="PlaceHolder 2"/>
          <p:cNvSpPr>
            <a:spLocks noGrp="1"/>
          </p:cNvSpPr>
          <p:nvPr>
            <p:ph/>
          </p:nvPr>
        </p:nvSpPr>
        <p:spPr>
          <a:xfrm>
            <a:off x="514440" y="1523520"/>
            <a:ext cx="5829120" cy="6604200"/>
          </a:xfrm>
          <a:prstGeom prst="rect">
            <a:avLst/>
          </a:prstGeom>
          <a:noFill/>
          <a:ln w="0">
            <a:noFill/>
          </a:ln>
        </p:spPr>
        <p:txBody>
          <a:bodyPr lIns="90000" rIns="90000" tIns="46800" bIns="46800" anchor="t">
            <a:normAutofit/>
          </a:bodyPr>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stancia tóxica.- </a:t>
            </a:r>
            <a:r>
              <a:rPr b="0" lang="es-MX" sz="2000" spc="-1" strike="noStrike">
                <a:solidFill>
                  <a:srgbClr val="000000"/>
                </a:solidFill>
                <a:latin typeface="Times New Roman"/>
              </a:rPr>
              <a:t>Es toda sustancia que inhalada, absorbida o ingerida, perturba las funciones normales de un individuo. Pueden producir lesiones permanentes.</a:t>
            </a:r>
            <a:endParaRPr b="0" lang="en-US" sz="2000" spc="-1" strike="noStrike">
              <a:solidFill>
                <a:srgbClr val="000000"/>
              </a:solidFill>
              <a:latin typeface="Times New Roman"/>
            </a:endParaRPr>
          </a:p>
          <a:p>
            <a:pPr marL="343080" indent="-343080">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stancia reactiva.- </a:t>
            </a:r>
            <a:r>
              <a:rPr b="0" lang="es-MX" sz="2000" spc="-1" strike="noStrike">
                <a:solidFill>
                  <a:srgbClr val="000000"/>
                </a:solidFill>
                <a:latin typeface="Times New Roman"/>
              </a:rPr>
              <a:t>Es toda sustancia que en contacto con el cuerpo humano produce una tercera sustancia que a su vez ataca las funciones normales del organismo, lesionándolo permanentemente.</a:t>
            </a:r>
            <a:endParaRPr b="0" lang="en-US" sz="2000" spc="-1" strike="noStrike">
              <a:solidFill>
                <a:srgbClr val="000000"/>
              </a:solidFill>
              <a:latin typeface="Times New Roman"/>
            </a:endParaRPr>
          </a:p>
          <a:p>
            <a:pPr marL="343080" indent="-343080">
              <a:spcBef>
                <a:spcPts val="700"/>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Áreas y campos de acción:</a:t>
            </a:r>
            <a:endParaRPr b="0" lang="en-US" sz="28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ogar</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porte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Juegos y diversione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ficinas</a:t>
            </a:r>
            <a:endParaRPr b="0" lang="en-US" sz="2400" spc="-1" strike="noStrike">
              <a:solidFill>
                <a:srgbClr val="000000"/>
              </a:solidFill>
              <a:latin typeface="Times New Roman"/>
            </a:endParaRPr>
          </a:p>
          <a:p>
            <a:pPr lvl="1" marL="743040" indent="-285840">
              <a:spcBef>
                <a:spcPts val="601"/>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rabajo indust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14440" y="609480"/>
            <a:ext cx="5829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isciplinas relacionadas</a:t>
            </a:r>
            <a:endParaRPr b="0" lang="en-US" sz="3600" spc="-1" strike="noStrike">
              <a:solidFill>
                <a:srgbClr val="000000"/>
              </a:solidFill>
              <a:latin typeface="Arial"/>
            </a:endParaRPr>
          </a:p>
        </p:txBody>
      </p:sp>
      <p:sp>
        <p:nvSpPr>
          <p:cNvPr id="110" name="PlaceHolder 2"/>
          <p:cNvSpPr>
            <a:spLocks noGrp="1"/>
          </p:cNvSpPr>
          <p:nvPr>
            <p:ph/>
          </p:nvPr>
        </p:nvSpPr>
        <p:spPr>
          <a:xfrm>
            <a:off x="514440" y="1625760"/>
            <a:ext cx="5829120" cy="6502320"/>
          </a:xfrm>
          <a:prstGeom prst="rect">
            <a:avLst/>
          </a:prstGeom>
          <a:noFill/>
          <a:ln w="0">
            <a:noFill/>
          </a:ln>
        </p:spPr>
        <p:txBody>
          <a:bodyPr lIns="90000" rIns="90000" tIns="46800" bIns="46800" anchor="t">
            <a:normAutofit/>
          </a:bodyPr>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rgonomía.- </a:t>
            </a:r>
            <a:r>
              <a:rPr b="0" lang="es-MX" sz="2000" spc="-1" strike="noStrike">
                <a:solidFill>
                  <a:srgbClr val="000000"/>
                </a:solidFill>
                <a:latin typeface="Times New Roman"/>
              </a:rPr>
              <a:t>estudia las relaciones de los sistemas hombre – máquina para lograr una adaptación óptima de la máquina y el hombre.</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Toxicología.- </a:t>
            </a:r>
            <a:r>
              <a:rPr b="0" lang="es-MX" sz="2000" spc="-1" strike="noStrike">
                <a:solidFill>
                  <a:srgbClr val="000000"/>
                </a:solidFill>
                <a:latin typeface="Times New Roman"/>
              </a:rPr>
              <a:t>estudia los efectos que le causan al individuo las diferentes sustancias y materiale utilizados en los procesos de trabajo, con el fin de establecer las características de exposición máxima permisibles y los métodos de control de las mismas.</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Medicina industrial.- </a:t>
            </a:r>
            <a:r>
              <a:rPr b="0" lang="es-MX" sz="2000" spc="-1" strike="noStrike">
                <a:solidFill>
                  <a:srgbClr val="000000"/>
                </a:solidFill>
                <a:latin typeface="Times New Roman"/>
              </a:rPr>
              <a:t>Investiga y determina los tratamientos y cuidados que se deben aplicar a las personas que han sido afectadas por los riesgos de trabajo, buscando su máxima recuperación.</a:t>
            </a:r>
            <a:endParaRPr b="0" lang="en-US" sz="2000" spc="-1" strike="noStrike">
              <a:solidFill>
                <a:srgbClr val="000000"/>
              </a:solidFill>
              <a:latin typeface="Times New Roman"/>
            </a:endParaRPr>
          </a:p>
          <a:p>
            <a:pPr marL="343080" indent="-343080">
              <a:lnSpc>
                <a:spcPct val="90000"/>
              </a:lnSpc>
              <a:spcBef>
                <a:spcPts val="4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cología.- </a:t>
            </a:r>
            <a:r>
              <a:rPr b="0" lang="es-MX" sz="2000" spc="-1" strike="noStrike">
                <a:solidFill>
                  <a:srgbClr val="000000"/>
                </a:solidFill>
                <a:latin typeface="Times New Roman"/>
              </a:rPr>
              <a:t>Estudia las relaciones que rigen el equilibrio de los diferentes elementos de los sistemas vivos del palneta, para identificarlos y determinar la mejor manera de administrarlos con el fin de mantener la integridad del habit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0T02:44:25Z</dcterms:created>
  <dc:creator>Ramiro Iván Vega Espinosa</dc:creator>
  <dc:description/>
  <dc:language>en-US</dc:language>
  <cp:lastModifiedBy>Ramiro Iván Vega Espinosa</cp:lastModifiedBy>
  <dcterms:modified xsi:type="dcterms:W3CDTF">2000-07-19T21:53:17Z</dcterms:modified>
  <cp:revision>42</cp:revision>
  <dc:subject/>
  <dc:title>SEGURIDAD E HIGIENE INDUSTRIAL</dc:title>
</cp:coreProperties>
</file>