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E747-7CB6-42F7-956F-88665E5C9D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r gráfica del archivo gráficas.pp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ver archivo de gráfic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34864-AD5D-458A-818E-73AE43DBE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576C0-48D7-4527-A3DC-16828C81E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84B2A-6A16-477A-BA92-8E22ED774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6DAA7-650A-4991-9D62-3802527FA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47ED-3121-4F16-AECD-483D9A72E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11566-E0AE-425E-A745-F3D5D78A1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B978B-A91B-400F-8AEC-9E195CF70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6BC6C-91B3-423E-9A64-922CE0B9E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56FEA-1052-48C8-9FE1-FA84E4381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208B-BAD4-4487-8395-E2F01DE4B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819E-2910-4C93-9DE9-0F0729152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43E7A-5A33-4348-8449-130489286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7620-CDC5-476A-8524-F19ED4A0DB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apítulo IV Higiene Industrial</a:t>
            </a:r>
            <a:endParaRPr b="0" lang="en-US" sz="2400" spc="-1" strike="noStrike">
              <a:solidFill>
                <a:srgbClr val="000000"/>
              </a:solidFill>
              <a:latin typeface="Times New Roman"/>
            </a:endParaRPr>
          </a:p>
        </p:txBody>
      </p:sp>
      <p:sp>
        <p:nvSpPr>
          <p:cNvPr id="4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alizar los factores del ambiente de trabajo para controlar aquellos que pudieran afectar la salud de los trabajadores expuestos a ellos, se apoya e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xicologí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ergonomí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edicina ocupacional</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higiene industrial abarca desde el control del estado de salud del personal de nuevo ingreso, hasta el control de los servicios e instalaciones como comedor, baños y vestidor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diseñar un sistema para detectar oportunamente las fallas en el sistema de control, campañas de promoción ágiles y programas de capacitación con información y formas prácticas de aplic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rendimiento de cualquier persona guarda una relación directa con su estado de salu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ntrol de la salud debe estar en manos de médicos especialistas del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n-hexano</a:t>
            </a:r>
            <a:r>
              <a:rPr b="0" lang="es-MX" sz="1400" spc="-1" strike="noStrike">
                <a:solidFill>
                  <a:srgbClr val="000000"/>
                </a:solidFill>
                <a:latin typeface="Times New Roman"/>
              </a:rPr>
              <a:t> se usa en adhesivos y causa polineuropatía, altas concentraciones producen nauseas, dolor de cabeza e irritación en los ojos y garganta.</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Alcohol mineral</a:t>
            </a:r>
            <a:r>
              <a:rPr b="0" lang="es-MX" sz="1400" spc="-1" strike="noStrike">
                <a:solidFill>
                  <a:srgbClr val="000000"/>
                </a:solidFill>
                <a:latin typeface="Times New Roman"/>
              </a:rPr>
              <a:t>.- se usa como adelgazador en la industria de pinturas y barnices y en el lavado en seco. Sus efectos son prolongación de reacción.</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Combustible de jet</a:t>
            </a:r>
            <a:r>
              <a:rPr b="0" lang="es-MX" sz="1400" spc="-1" strike="noStrike">
                <a:solidFill>
                  <a:srgbClr val="000000"/>
                </a:solidFill>
                <a:latin typeface="Times New Roman"/>
              </a:rPr>
              <a:t>.- es combustible para turbinas de avión, síntomas agudos encontrados entre los trabajadores expuestos son mareo, dolor de cabeza, nausea y síntomas del tracto respiratorio,</a:t>
            </a:r>
            <a:endParaRPr b="0" lang="en-US" sz="1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laguicidas</a:t>
            </a:r>
            <a:r>
              <a:rPr b="0" lang="es-MX" sz="1800" spc="-1" strike="noStrike">
                <a:solidFill>
                  <a:srgbClr val="000000"/>
                </a:solidFill>
                <a:latin typeface="Times New Roman"/>
              </a:rPr>
              <a:t>.: se dividen en insecticidas, rodenticidas, herbicidas, fungicidas y moluscidas. Se usan principalmente en la agricultura y la silvicultura, pero también en los sitemas de cuidado de salud</a:t>
            </a:r>
            <a:endParaRPr b="0" lang="en-US" sz="1800" spc="-1" strike="noStrike">
              <a:solidFill>
                <a:srgbClr val="000000"/>
              </a:solidFill>
              <a:latin typeface="Times New Roman"/>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y control</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da sustancia peligrosa debe estar identificada para evitar cualquier riesgo. Debe estar adherida en una etiqueta en los recipientes usados para su almacenamiento y debe registrarse en el expediente técnic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 capacitarse al personal en su manejo y el personal expuesto debe recibir constante observación médica.</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onde sea sistemático el uso de estas sustancias, se deberán instalar baños y vestidor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 haber estricto contro sobre los alimentos y evitar se consuman en los lugares de trabaj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edicina ocupac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encarga de conocer y controlar el estado de salud de los trabajadores expuestos a los diferentes factores del ambiente de trabajo. Está enfocada a la prevención de las enfermedades causadas por la exposición a los factores específicos (riesgos de trabaj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valuación del estado de  salud de los trabajadores es básico para verificar la efectividad de nuestros sistemas y equipos de control de los riesgos de higiene y seguridad en el trabajo. Los exámenes médico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admisión</a:t>
            </a:r>
            <a:r>
              <a:rPr b="0" lang="es-MX" sz="1800" spc="-1" strike="noStrike">
                <a:solidFill>
                  <a:srgbClr val="000000"/>
                </a:solidFill>
                <a:latin typeface="Times New Roman"/>
              </a:rPr>
              <a:t>.- se usan para a) conocer el estado de salud de los aspirantes a un nuevo trabajo o tarea. b) determinar si su capacidad es compatible con las exigencias psíquicas y físicas del puesto asignad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eriódicos.-</a:t>
            </a:r>
            <a:r>
              <a:rPr b="0" lang="es-MX" sz="1800" spc="-1" strike="noStrike">
                <a:solidFill>
                  <a:srgbClr val="000000"/>
                </a:solidFill>
                <a:latin typeface="Times New Roman"/>
              </a:rPr>
              <a:t> también conocidos como de control, se emplean para verificar las condiciones de salud de los trabajadores expuestos a riesgos de salud específicos de acuerdo a las tareas desarrolladas. Se recomiendan cada tres meses o al menos cada año. Evaluar manifestaciones anormales en las funciones nerviosas, hepáticas, renal, pulmonar, etc.</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peciales.-</a:t>
            </a:r>
            <a:r>
              <a:rPr b="0" lang="es-MX" sz="1800" spc="-1" strike="noStrike">
                <a:solidFill>
                  <a:srgbClr val="000000"/>
                </a:solidFill>
                <a:latin typeface="Times New Roman"/>
              </a:rPr>
              <a:t> se usan para controlar el estado de salud de trabajadores expuestos a riesgos de salud de nivel alto.</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3394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nfermedades del trabajo</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adquiere el trabajador por la exposición sistemática a los factores del ambiente de trabaj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esgo presente en toda actividad laboral porque el trabajador tiene que desarrollar actividades y exponerse a condiciones que superan la capacidad normal del organismo human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 veces los síntomas no se presentan durante la jornada, sino días, meses y hasta años despué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cualquier enfermedad, tienen muchas vías de manifestación y ello hace necesario conocer los factores laborales para poder determinar si algún transtorno es de origen laboral o n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eneralmente, los primeros síntomas son hemáticos, hepáticos o renales y para ello existen pruebas específicas de evaluació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situaciones específicas en las que el riesgo propicie algún padecimiento con patología similar a la de una enfermedad común. Se requiere del apoyo de especialistas. Sustancias carcinógenas por ej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que el médico pueda desarrollar su trabajo, requiere del perfil toxicológico de cada sustancia que se maneje en la empres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rritabilidad</a:t>
            </a:r>
            <a:r>
              <a:rPr b="0" lang="es-MX" sz="1800" spc="-1" strike="noStrike">
                <a:solidFill>
                  <a:srgbClr val="000000"/>
                </a:solidFill>
                <a:latin typeface="Times New Roman"/>
              </a:rPr>
              <a:t>.- algunos productos pueden causar irritación si entran en contacto directo con la piel, ojos o tracto respiratori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nsibilidad</a:t>
            </a:r>
            <a:r>
              <a:rPr b="0" lang="es-MX" sz="1800" spc="-1" strike="noStrike">
                <a:solidFill>
                  <a:srgbClr val="000000"/>
                </a:solidFill>
                <a:latin typeface="Times New Roman"/>
              </a:rPr>
              <a:t> al producto.- es el desarrollo a través del tiempo, de una reacción alérgica al producto. Al principio la respuesta es leve, pero a medida que la alergia se desarrolla, la respuesta empeora. Hay dos tipos de sensibilidad ocupacional: cutánea y respiratoria. La primera se manifiesta como hinchazón, enrojecimiento, comezón, dolor y ampollamiento. La segunda puede manifestarse como un ataque asmático sever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arcinigenicidad</a:t>
            </a:r>
            <a:r>
              <a:rPr b="0" lang="es-MX" sz="1800" spc="-1" strike="noStrike">
                <a:solidFill>
                  <a:srgbClr val="000000"/>
                </a:solidFill>
                <a:latin typeface="Times New Roman"/>
              </a:rPr>
              <a:t>.- son aquellos que las dependencias nacionales o internacionales del cáncer las denominan así. Algunos materiales son listados como carcinógenos “posibles” ya que la información es limitad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Toxicidad</a:t>
            </a:r>
            <a:r>
              <a:rPr b="0" lang="es-MX" sz="1800" spc="-1" strike="noStrike">
                <a:solidFill>
                  <a:srgbClr val="000000"/>
                </a:solidFill>
                <a:latin typeface="Times New Roman"/>
              </a:rPr>
              <a:t> </a:t>
            </a:r>
            <a:r>
              <a:rPr b="1" lang="es-MX" sz="1800" spc="-1" strike="noStrike">
                <a:solidFill>
                  <a:srgbClr val="000000"/>
                </a:solidFill>
                <a:latin typeface="Times New Roman"/>
              </a:rPr>
              <a:t>reproductiva</a:t>
            </a:r>
            <a:r>
              <a:rPr b="0" lang="es-MX" sz="1800" spc="-1" strike="noStrike">
                <a:solidFill>
                  <a:srgbClr val="000000"/>
                </a:solidFill>
                <a:latin typeface="Times New Roman"/>
              </a:rPr>
              <a:t>.- son efectos que pueden afectar el proceso reproductos de machos y/o hembras adultos. Los posibles efectos reproductivos incluyen reducción de la fertilidad y transtornos menstruales</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Teratogenicidad y embriotoxicidad</a:t>
            </a:r>
            <a:r>
              <a:rPr b="0" lang="es-MX" sz="2000" spc="-1" strike="noStrike">
                <a:solidFill>
                  <a:srgbClr val="000000"/>
                </a:solidFill>
                <a:latin typeface="Times New Roman"/>
              </a:rPr>
              <a:t>.- un teratógeno es una sustancia que puede causar defectos de nacimiento no hereditarios. Una embriotoxina induce efectos adversos en la progenie es desarrollo, en el primer período del embarazo, entre la concepción y la etapa fet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utagenecidad.- un mutágeno es una sustancia que pued causar cambios en el ADN de las célul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nergia toxicológica</a:t>
            </a:r>
            <a:r>
              <a:rPr b="0" lang="es-MX" sz="2000" spc="-1" strike="noStrike">
                <a:solidFill>
                  <a:srgbClr val="000000"/>
                </a:solidFill>
                <a:latin typeface="Times New Roman"/>
              </a:rPr>
              <a:t>.- el sinergismo es el efecto de dos agentes químicos combinados, el cual es mayor que el efecto producido por la suma de los dos efectos individu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ol del ambiente de trabajo</a:t>
            </a:r>
            <a:endParaRPr b="0" lang="en-US" sz="2400" spc="-1" strike="noStrike">
              <a:solidFill>
                <a:srgbClr val="000000"/>
              </a:solidFill>
              <a:latin typeface="Times New Roman"/>
            </a:endParaRPr>
          </a:p>
        </p:txBody>
      </p:sp>
      <p:sp>
        <p:nvSpPr>
          <p:cNvPr id="65"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bjetivo: mantener las condiciones de la atmósfera laboral dentro límites de tolerancia requeridos por el cuerpo humano, o en su defecto informar sobre las condiciones para que el trabajador no sea expuesto a situaciones que rebasen los límites de tolerancia human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control de los factores se puede, en orden jerárquic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stitución de materiales o procesos por otros de menor riesg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stitución o rediseño de maquinaria o de procesos que generen ruido, vibraciones o cal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iminación por extracción en el punto de contacto o gener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isolución de gases y vapores por ventilación general o loc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finamiento o aislamiento de los procesos donde se empleen materiales peligrosos o generen condiciones anormales: temperatura o ruid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PP</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los sistemas de ventilación deben considerarse conjuntamente los factores de concentración ambiental y temperatu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ndo el problema sea de remoción de sustancias (polvos, humos, etc.) se debe aplicar sistemas de punto de contacto ya que el uso de campanas puede ser contraproducentes porque puede permitir que el trabajador quede expuesto a los agentes de riesg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luminación es también de suma importancia. Muchos accidentes se dan por la deficiente iluminación. Deben ser diseñados por especialistas y tomar en cuenta el factor de mantt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considerar, además de la intensidad, la calidad y el tipo de luz, tomando en cuenta tanto las exigencias cromáticas de la tarea como las necesidades fisiológicas del ojo human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valuar las variables del ambiente de trabajo se emplean varias técnicas que van desde el uso de termómetros hasta la aplicación de sistemas de medición por absorción atóm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apítulo V </a:t>
            </a:r>
            <a:r>
              <a:rPr b="1" lang="es-MX" sz="2400" spc="-1" strike="noStrike">
                <a:solidFill>
                  <a:srgbClr val="000000"/>
                </a:solidFill>
                <a:latin typeface="Times New Roman"/>
              </a:rPr>
              <a:t>Control de siniestros</a:t>
            </a:r>
            <a:endParaRPr b="0" lang="en-US" sz="2400" spc="-1" strike="noStrike">
              <a:solidFill>
                <a:srgbClr val="000000"/>
              </a:solidFill>
              <a:latin typeface="Times New Roman"/>
            </a:endParaRPr>
          </a:p>
        </p:txBody>
      </p:sp>
      <p:sp>
        <p:nvSpPr>
          <p:cNvPr id="6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endios. El fuego es conocido desde tiempo atrás, al principio estaba relacionado con actividades religiosas y sociales. Ahora es uno de sus principales ali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é se necesita para el fuego? Un combustible, una fuente de calor y oxígen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eoría básica del fuego: se define como la manifestación combinada de luy¡z y calor, producto de una reacción en cadena entre un agente reductor (combustible) y un oxidante (que cede oxígeno), el aire es lo más comú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fuego no se acaba sino hasta que no se presenta una de las siguient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acaba o consume uno de los dos elementos de la reac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rompe o irrumpe la reacción en caden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estudio de la prevención de incendios, nos concentramos en la segunda opció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n determinar los factores de interacción que inician la reacción:</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unto de vaporización</a:t>
            </a:r>
            <a:r>
              <a:rPr b="0" lang="es-MX" sz="1800" spc="-1" strike="noStrike">
                <a:solidFill>
                  <a:srgbClr val="000000"/>
                </a:solidFill>
                <a:latin typeface="Times New Roman"/>
              </a:rPr>
              <a:t>.- temperatura a la que un combustible comienza a  desprender vapores, en el fuego lo que se quema son los vapores, si no hay vapores no hay fuego</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unto de inflamación</a:t>
            </a:r>
            <a:r>
              <a:rPr b="0" lang="es-MX" sz="1800" spc="-1" strike="noStrike">
                <a:solidFill>
                  <a:srgbClr val="000000"/>
                </a:solidFill>
                <a:latin typeface="Times New Roman"/>
              </a:rPr>
              <a:t>.- temperatura mínima de un líquido combustible a la cual se genera la concentración de vapores suficientes para reaccionar con el oxígeno del aire produciendo fuego.</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quilibrio de la mezcla</a:t>
            </a:r>
            <a:r>
              <a:rPr b="0" lang="es-MX" sz="1800" spc="-1" strike="noStrike">
                <a:solidFill>
                  <a:srgbClr val="000000"/>
                </a:solidFill>
                <a:latin typeface="Times New Roman"/>
              </a:rPr>
              <a:t>.- aparte de la existencia de los tres elementos del fuego, se necesita que las condiciones de equilibrio sean las adecuadas para el inicio del fuego.</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ios de la prevención y combate de incendio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señar sistemas y medidas que permitan evitar la conjunción de los factores para iniciar el fuego. Se utilizan una o varias de las siguientes:</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itar las fuentes de calor</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itar fugas de combustibl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curar adecuada ventilación de los almacenes de materiales combustibles</a:t>
            </a:r>
            <a:endParaRPr b="0" lang="en-US" sz="1800" spc="-1" strike="noStrike">
              <a:solidFill>
                <a:srgbClr val="000000"/>
              </a:solidFill>
              <a:latin typeface="Times New 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no se puede aplicar ninguna de las opciones anteriores, se procederá, bajo el criterio de restricción del fuego:</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evantar barreras entre fuentees de calor y líneas de combustible</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mbiar las líneas de combustible</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ubicar oeliminar almacenes de materiales combustibles</a:t>
            </a:r>
            <a:endParaRPr b="0" lang="en-US" sz="1800" spc="-1" strike="noStrike">
              <a:solidFill>
                <a:srgbClr val="000000"/>
              </a:solidFill>
              <a:latin typeface="Times New Roman"/>
            </a:endParaRPr>
          </a:p>
          <a:p>
            <a:pPr marL="60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rincipios del combate de incendio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nfrentarnos a un incendio debemos primero evaluar la situación y sólo con la certeza de poder apagarlo debemos intervenir, sino, evacuar el área. Si se va a intervenir:</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ntes que nada dar la alarma de acuerdo al procedimiento establecido, nunca comenzar a atacarlo solo.</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cuar al personal del área de fuego</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mar el extintor más cercano e iniciar el combate</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existe Brigada contra incendio, integrarse a ella y seguir instrucciones del jefe de brigada</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no conoce o sabe de combate contra incendios, aléjese</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án prohibidos los héroes, se requiere gente capacitada y entrena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onceptos básicos de toxicologí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trabajador está expuesto a una serie de productos de naturaleza tóxica que pueden alterar su salud y su conducta. Para conocerlo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Toxicología industrial</a:t>
            </a:r>
            <a:r>
              <a:rPr b="0" lang="es-MX" sz="1800" spc="-1" strike="noStrike">
                <a:solidFill>
                  <a:srgbClr val="000000"/>
                </a:solidFill>
                <a:latin typeface="Times New Roman"/>
              </a:rPr>
              <a:t>.- estudia los materiales que se emplean en los diferentes procesos, para conocer sus efectos toxicológicos y los niveles de exposición máximos permisibles, sus efectos, medidas de prevención y terapéuticas para desarrollar programas integrales para su uso y segur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Toxicología conductual</a:t>
            </a:r>
            <a:r>
              <a:rPr b="0" lang="es-MX" sz="1800" spc="-1" strike="noStrike">
                <a:solidFill>
                  <a:srgbClr val="000000"/>
                </a:solidFill>
                <a:latin typeface="Times New Roman"/>
              </a:rPr>
              <a:t>.- comprende la determinación (pruebas psicológicas) del deterioro de la capacidad funcional del sistema nervioso ante agentes neurotóxicos. Su función es proporcionar medios para la detección de los síntomas temprenos o subclínico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iesgos industriales a la salud</a:t>
            </a:r>
            <a:r>
              <a:rPr b="0" lang="es-MX" sz="2000" spc="-1" strike="noStrike">
                <a:solidFill>
                  <a:srgbClr val="000000"/>
                </a:solidFill>
                <a:latin typeface="Times New Roman"/>
              </a:rPr>
              <a:t>: se originan por la exposición del trabajador a las sustancias empleadas en los procesos industriales, a las manifestaciones energéticas de los mismos o por los esfuerzos fisiológicos requeridos para el desarrollo de las tareas que integran el trabajo di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lasificación del fuego. Internacionalmente según su orige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uego tipo A: combustibles sólidos (madera, papel) que dejan bras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uego tipo B: derivados  líquidos del petróleo (gasolina, diesel, et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uego tipo C: tienen su origen en un problema eléctrico. Nunca agu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uego tipo D: son fuegos en metales combustibl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2" name=""/>
          <p:cNvGraphicFramePr/>
          <p:nvPr/>
        </p:nvGraphicFramePr>
        <p:xfrm>
          <a:off x="228600" y="2362320"/>
          <a:ext cx="8534520" cy="4200480"/>
        </p:xfrm>
        <a:graphic>
          <a:graphicData uri="http://schemas.openxmlformats.org/drawingml/2006/table">
            <a:tbl>
              <a:tblPr/>
              <a:tblGrid>
                <a:gridCol w="960480"/>
                <a:gridCol w="2316240"/>
                <a:gridCol w="2666880"/>
                <a:gridCol w="2590920"/>
              </a:tblGrid>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Origen o combusti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incipal forma de comb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cauciones especia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teriales de origen orgánico que producen brasa: papel, e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nfriamiento con agua</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gua ligera</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spuma mecánic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nfriar los edificios e instalaciones ubicados a menos de 30 metro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rivados del petróleo que normalmente están en estado líquido oq ue se licuen por la acción del cal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olvos químicos</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blinas de agua</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spumas</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Neblina de agua liger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Racionalizar el uso de agua para evitar derrames</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Enfriar los recipientes</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rtar líneas de alimentación de combust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blemas eléctric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De acuerdo al material combusti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rtar alimentación eléctrica</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plicar  precaucione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etales combustibles: magnesio, titanio, zirconio, sodio, litio y  potas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gente extinguidor especial para cada tipo de mater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ersonal capacitado</a:t>
                      </a:r>
                      <a:endParaRPr b="0" lang="en-US" sz="1400" spc="-1" strike="noStrike">
                        <a:solidFill>
                          <a:srgbClr val="000000"/>
                        </a:solidFill>
                        <a:latin typeface="Times New Roman"/>
                      </a:endParaRPr>
                    </a:p>
                    <a:p>
                      <a:pPr marL="533520" indent="-5335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os agentes extinguidores deben estar a la man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tintores: siempre  deben existir en toda empresa, independientemente de que exista sistema automático, extintores manu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n estar marcados así como sus ubicaciones y deben indicar para qué tipo de fuego pueden ser utilizado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señalización se hace con un letrero con un símbolo y una flecha señalando dónde está el extin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marcas se aplican directamente sobre el extintor con calcomanías o pintura al frente del extintor y arriba de la etiqueta del mismo, de un tamaño y forma que puedan leerse a cuando menos 5 m de distan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señales que indiquen extintores en muros, paredes, columnas, deberán leerse a cuando menos 7.5 m de distanci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os los extintores deben estar numer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pegarse a la norma NOM-027-STPS-199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úmero de extintores contra incendio dependerá de: área de construcción, distribución de los edificios, gravedad del riesgo, posibles clases de incendios, área a cubrir con los extintor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se clasifican com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iesgo bajo</a:t>
            </a:r>
            <a:r>
              <a:rPr b="0" lang="es-MX" sz="1800" spc="-1" strike="noStrike">
                <a:solidFill>
                  <a:srgbClr val="000000"/>
                </a:solidFill>
                <a:latin typeface="Times New Roman"/>
              </a:rPr>
              <a:t>.- centros de trabajo donde existen combustibles que producen fuego tipo A y en baja cantidad y su punto de inflamación sea superior a 93 º C. Se consideran también así cuando existen pequeñas cantidades de materiales inflamables que producen fuego tipo B usados en máquinas duplicadoras, imprentas y departamentos de art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iesgo medio</a:t>
            </a:r>
            <a:r>
              <a:rPr b="0" lang="es-MX" sz="1800" spc="-1" strike="noStrike">
                <a:solidFill>
                  <a:srgbClr val="000000"/>
                </a:solidFill>
                <a:latin typeface="Times New Roman"/>
              </a:rPr>
              <a:t>.- donde se fabriquen y/o manejen mercancías, materias primas, etc., cuyo punto de inflamación sea inferior a 93ºC y/o hayan materiales tipo A y B en grandes cantidades. Oficinas, salones de clase, almacenes con alimentos, mercancías, que estén sobre tarimas o plataformas combustib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iesgo alto</a:t>
            </a:r>
            <a:r>
              <a:rPr b="0" lang="es-MX" sz="1800" spc="-1" strike="noStrike">
                <a:solidFill>
                  <a:srgbClr val="000000"/>
                </a:solidFill>
                <a:latin typeface="Times New Roman"/>
              </a:rPr>
              <a:t>.-donde se fabriquen o almacenen cualquier mercancía, materia prima, etc., como:</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íquidos y gases con punto de inflamación igual o menor de 37.8%; polvos o fibras combustibles en suspensión; materiales pirofóricos; explosivos; materiales que aceleren la reacción química que genere calor o aquellas otras que al combinarse impliquen riesgo de incendio o explos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xtintor que puede ser adecuado para un tipo de incendio, puede ser peligroso para otro. Para seleccionar un extintor por su tamaño:</a:t>
            </a:r>
            <a:endParaRPr b="0" lang="en-US" sz="20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Portátiles</a:t>
            </a:r>
            <a:r>
              <a:rPr b="0" lang="es-MX" sz="1600" spc="-1" strike="noStrike">
                <a:solidFill>
                  <a:srgbClr val="000000"/>
                </a:solidFill>
                <a:latin typeface="Times New Roman"/>
              </a:rPr>
              <a:t>.- pueden ser transportados y operados por una sola persona (&lt;20 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Móviles</a:t>
            </a:r>
            <a:r>
              <a:rPr b="0" lang="es-MX" sz="1600" spc="-1" strike="noStrike">
                <a:solidFill>
                  <a:srgbClr val="000000"/>
                </a:solidFill>
                <a:latin typeface="Times New Roman"/>
              </a:rPr>
              <a:t>.- exceden de 20 K y tienen ruedas. Se necesitan dos persona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Fijos</a:t>
            </a:r>
            <a:r>
              <a:rPr b="0" lang="es-MX" sz="1600" spc="-1" strike="noStrike">
                <a:solidFill>
                  <a:srgbClr val="000000"/>
                </a:solidFill>
                <a:latin typeface="Times New Roman"/>
              </a:rPr>
              <a:t>.- se diseñan para la protección de un riesgo específico.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arrotanques</a:t>
            </a:r>
            <a:r>
              <a:rPr b="0" lang="es-MX" sz="1600" spc="-1" strike="noStrike">
                <a:solidFill>
                  <a:srgbClr val="000000"/>
                </a:solidFill>
                <a:latin typeface="Times New Roman"/>
              </a:rPr>
              <a:t>.- instalados sobre un vehículo para poder desplazarlo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ecidir el equipo de extinción se debe indicar en un inventario:</a:t>
            </a:r>
            <a:endParaRPr b="0" lang="en-US" sz="20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 de combustible o fuego probabl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ntidad de combustible o extensión del riesgo expuest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sillos de acceso y rutas de escap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iesgos en las colindancia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ipos de extintor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gentes secos.- sustancias químicas finamente pulverizadas. El contenido puede variar desde .75 K hasta 560 K.  Son do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a:t>
            </a:r>
            <a:r>
              <a:rPr b="1" lang="es-MX" sz="1600" spc="-1" strike="noStrike">
                <a:solidFill>
                  <a:srgbClr val="000000"/>
                </a:solidFill>
                <a:latin typeface="Times New Roman"/>
              </a:rPr>
              <a:t> BC </a:t>
            </a:r>
            <a:r>
              <a:rPr b="0" lang="es-MX" sz="1600" spc="-1" strike="noStrike">
                <a:solidFill>
                  <a:srgbClr val="000000"/>
                </a:solidFill>
                <a:latin typeface="Times New Roman"/>
              </a:rPr>
              <a:t>cuyo contenido principal es el bicarbonato de sodi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 </a:t>
            </a:r>
            <a:r>
              <a:rPr b="1" lang="es-MX" sz="1600" spc="-1" strike="noStrike">
                <a:solidFill>
                  <a:srgbClr val="000000"/>
                </a:solidFill>
                <a:latin typeface="Times New Roman"/>
              </a:rPr>
              <a:t>ABC</a:t>
            </a:r>
            <a:r>
              <a:rPr b="0" lang="es-MX" sz="1600" spc="-1" strike="noStrike">
                <a:solidFill>
                  <a:srgbClr val="000000"/>
                </a:solidFill>
                <a:latin typeface="Times New Roman"/>
              </a:rPr>
              <a:t> con polvo basado en fosfato mono amón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apacidad extinguidora de un equipo dependerá d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abilidad del usuari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lidad del material (polv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ntidad del polvo contenid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ntenimiento del equipo</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so oportun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xtintores de agu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mbos tipos de extintores pueden ser de </a:t>
            </a:r>
            <a:r>
              <a:rPr b="1" lang="es-MX" sz="2000" spc="-1" strike="noStrike">
                <a:solidFill>
                  <a:srgbClr val="000000"/>
                </a:solidFill>
                <a:latin typeface="Times New Roman"/>
              </a:rPr>
              <a:t>presión contenida</a:t>
            </a:r>
            <a:r>
              <a:rPr b="0" lang="es-MX" sz="2000" spc="-1" strike="noStrike">
                <a:solidFill>
                  <a:srgbClr val="000000"/>
                </a:solidFill>
                <a:latin typeface="Times New Roman"/>
              </a:rPr>
              <a:t> (llevan una cámara de nitrógeno a presión y cuentan con un manómetro para ver si tienen la carga del gas completa) o de </a:t>
            </a:r>
            <a:r>
              <a:rPr b="1" lang="es-MX" sz="2000" spc="-1" strike="noStrike">
                <a:solidFill>
                  <a:srgbClr val="000000"/>
                </a:solidFill>
                <a:latin typeface="Times New Roman"/>
              </a:rPr>
              <a:t>cartucho</a:t>
            </a:r>
            <a:r>
              <a:rPr b="0" lang="es-MX" sz="2000" spc="-1" strike="noStrike">
                <a:solidFill>
                  <a:srgbClr val="000000"/>
                </a:solidFill>
                <a:latin typeface="Times New Roman"/>
              </a:rPr>
              <a:t> que tienen su carga a presión atmosférica y para expulsarla se perfora una membrana de un cartucho de g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los incendios tipo C se tienen los de </a:t>
            </a:r>
            <a:r>
              <a:rPr b="1" lang="es-MX" sz="2000" spc="-1" strike="noStrike">
                <a:solidFill>
                  <a:srgbClr val="000000"/>
                </a:solidFill>
                <a:latin typeface="Times New Roman"/>
              </a:rPr>
              <a:t>líquido vaporizante</a:t>
            </a:r>
            <a:r>
              <a:rPr b="0" lang="es-MX" sz="2000" spc="-1" strike="noStrike">
                <a:solidFill>
                  <a:srgbClr val="000000"/>
                </a:solidFill>
                <a:latin typeface="Times New Roman"/>
              </a:rPr>
              <a:t> cuyo agente de extinción es líquido y que a la presión atmosférica forma una nube de polvo densa y asfixiante. Otros son los de gas (principalmente bióxido de carbono) muy pesados y de baja capacidad pero no son contaminantes como los anterior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su instalación los extintores deben estar en lugares fijos cumpliendo con las siguientes indicacion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tátiles manuales</a:t>
            </a:r>
            <a:r>
              <a:rPr b="0" lang="es-MX" sz="1800" spc="-1" strike="noStrike">
                <a:solidFill>
                  <a:srgbClr val="000000"/>
                </a:solidFill>
                <a:latin typeface="Times New Roman"/>
              </a:rPr>
              <a:t>.- colocarse a una distancia no mayor de 15 m uno de otro; altura máxima 1.50 m (hasta la parte más alta del extintor); la temperatura no debe exceder de los 50ºC ni menor de 0º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óviles.-</a:t>
            </a:r>
            <a:r>
              <a:rPr b="0" lang="es-MX" sz="1800" spc="-1" strike="noStrike">
                <a:solidFill>
                  <a:srgbClr val="000000"/>
                </a:solidFill>
                <a:latin typeface="Times New Roman"/>
              </a:rPr>
              <a:t> estar protegidos de la interperie; colocarse en lugares visibles; temperatura &lt; 50ºC y nunca menor de 0º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ijos</a:t>
            </a:r>
            <a:r>
              <a:rPr b="0" lang="es-MX" sz="1800" spc="-1" strike="noStrike">
                <a:solidFill>
                  <a:srgbClr val="000000"/>
                </a:solidFill>
                <a:latin typeface="Times New Roman"/>
              </a:rPr>
              <a:t>.- protegidos de la interperie; los dispositivos a operar deben ser de fácil acceso; señalar el sitio donde estarán ubicados; tener fuente autónoma de suministro de energía; en caso de sistemas automáticos, deben contar con un control manual para iniciar su funcionamiento.</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o equipo contra incendio debe verificars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iario</a:t>
            </a:r>
            <a:r>
              <a:rPr b="0" lang="es-MX" sz="1800" spc="-1" strike="noStrike">
                <a:solidFill>
                  <a:srgbClr val="000000"/>
                </a:solidFill>
                <a:latin typeface="Times New Roman"/>
              </a:rPr>
              <a:t>.- localización, señalamiento, lectura del manómetro, accesibilida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manal</a:t>
            </a:r>
            <a:r>
              <a:rPr b="0" lang="es-MX" sz="1800" spc="-1" strike="noStrike">
                <a:solidFill>
                  <a:srgbClr val="000000"/>
                </a:solidFill>
                <a:latin typeface="Times New Roman"/>
              </a:rPr>
              <a:t>.- limpieza general, obstrucciones de la boquilla, sello del segur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ensual</a:t>
            </a:r>
            <a:r>
              <a:rPr b="0" lang="es-MX" sz="1800" spc="-1" strike="noStrike">
                <a:solidFill>
                  <a:srgbClr val="000000"/>
                </a:solidFill>
                <a:latin typeface="Times New Roman"/>
              </a:rPr>
              <a:t>.- fluidez de su contenido (agitar), concordancia con tipo y magnitud de riesgo a proteg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ual</a:t>
            </a:r>
            <a:r>
              <a:rPr b="0" lang="es-MX" sz="1800" spc="-1" strike="noStrike">
                <a:solidFill>
                  <a:srgbClr val="000000"/>
                </a:solidFill>
                <a:latin typeface="Times New Roman"/>
              </a:rPr>
              <a:t>.- mantenimiento general, cambio de carga, vías de acceso.</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vención de incendios</a:t>
            </a:r>
            <a:endParaRPr b="0" lang="en-US" sz="2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venir es mejor que combatir. Se recomienda lista de verificación. Para esto se necesita: Conocimiento profundo de las posibles causas de siniestro y de la sintomatología de su presenci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 diseñar las listas debe considerarse el tíángulo del fuego y usarlo como factor de clasificación:</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xígeno </a:t>
            </a:r>
            <a:endParaRPr b="0" lang="en-US" sz="18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gas de oxígeno</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gas de línea de aire</a:t>
            </a:r>
            <a:endParaRPr b="0"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mbustible </a:t>
            </a:r>
            <a:endParaRPr b="0" lang="en-US" sz="18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cumulación de basura</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gas de grasa o aceite</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ugas de combustible</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teriales inflamables en empaques, mobiliario o instalaciones</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Basureros y drenajes</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teriales de alto poder de reacción</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ductos químicos inestables</a:t>
            </a:r>
            <a:endParaRPr b="0" lang="en-US" sz="1600" spc="-1" strike="noStrike">
              <a:solidFill>
                <a:srgbClr val="000000"/>
              </a:solidFill>
              <a:latin typeface="Times New Roman"/>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1" marL="990720" indent="-5335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lor</a:t>
            </a:r>
            <a:endParaRPr b="0" lang="en-US" sz="16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íneas eléctricas sobrecargadas</a:t>
            </a:r>
            <a:endParaRPr b="0" lang="en-US" sz="14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íneas de vapor sin aislar</a:t>
            </a:r>
            <a:endParaRPr b="0" lang="en-US" sz="14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Hornos y chimeneas</a:t>
            </a:r>
            <a:endParaRPr b="0" lang="en-US" sz="14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artes sometidas a fricción</a:t>
            </a:r>
            <a:endParaRPr b="0" lang="en-US" sz="1400" spc="-1" strike="noStrike">
              <a:solidFill>
                <a:srgbClr val="000000"/>
              </a:solidFill>
              <a:latin typeface="Times New Roman"/>
            </a:endParaRPr>
          </a:p>
          <a:p>
            <a:pPr lvl="2" marL="137160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cesos de soldadura y fusión</a:t>
            </a:r>
            <a:endParaRPr b="0" lang="en-US" sz="1400" spc="-1" strike="noStrike">
              <a:solidFill>
                <a:srgbClr val="000000"/>
              </a:solidFill>
              <a:latin typeface="Times New Roman"/>
            </a:endParaRPr>
          </a:p>
          <a:p>
            <a:pPr marL="609480" indent="-60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pasos a seguir para las listas son:</a:t>
            </a:r>
            <a:endParaRPr b="0" lang="en-US" sz="18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dentificar y localizar los riesgos</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lasificar los riesgos según su naturaleza (A, B, C)</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ificar los riesgos según su potencialidad y probabilidad</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los períodos de inspección</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terminar los puntos y parámetros de verificación</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Zonificar los riesgos de acuerdo a un criterio geeográfico predefinido</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aborar las listas por la naturaleza, zona y período de inspección del fuego</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los métodos de verificación, las respuestas consideradas como “correctas” y probar las  listas</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finir canales de comunicación de los resultados</a:t>
            </a:r>
            <a:endParaRPr b="0" lang="en-US" sz="1600" spc="-1" strike="noStrike">
              <a:solidFill>
                <a:srgbClr val="000000"/>
              </a:solidFill>
              <a:latin typeface="Times New Roman"/>
            </a:endParaRPr>
          </a:p>
          <a:p>
            <a:pPr lvl="1" marL="990720" indent="-533520">
              <a:spcBef>
                <a:spcPts val="4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programas de verificaciones y asignar respons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tros siniest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ncargado de la seguridad de una planta debe considerar la posibilidad de ocurrencia de otros siniestros que pudieran causar daños masivos y cuyo origen no esté en los procesos de la propia plan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rrames</a:t>
            </a:r>
            <a:r>
              <a:rPr b="0" lang="es-MX" sz="1800" spc="-1" strike="noStrike">
                <a:solidFill>
                  <a:srgbClr val="000000"/>
                </a:solidFill>
                <a:latin typeface="Times New Roman"/>
              </a:rPr>
              <a:t>.- almacenamiento de grandes volúmenes de líquidos o granos y arenas. Si es interno investigar características tóxicas y explosivas. Deben existir diques de contención alrededor de los tanques de almacenamiento. Si es externo cavar zanjas alrededor de la planta; en la parte más alta, establecer un área de seguridad.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os materiales son de riesgo de incendio o explosión, debe contar con sistemas y rutas de evacu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xplosión</a:t>
            </a:r>
            <a:r>
              <a:rPr b="0" lang="es-MX" sz="1800" spc="-1" strike="noStrike">
                <a:solidFill>
                  <a:srgbClr val="000000"/>
                </a:solidFill>
                <a:latin typeface="Times New Roman"/>
              </a:rPr>
              <a:t>.- es la reacción violenta de sustancias combustibles. Debe contarse con construcciones especiales para el almacenamiento de acuerdo a normas y especificaciones de la Secretaría de defensa nacion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enómenos naturales</a:t>
            </a:r>
            <a:r>
              <a:rPr b="0" lang="es-MX" sz="1800" spc="-1" strike="noStrike">
                <a:solidFill>
                  <a:srgbClr val="000000"/>
                </a:solidFill>
                <a:latin typeface="Times New Roman"/>
              </a:rPr>
              <a:t>.- huracanes, terremotos, inundaciones por desbordamiento de ríos, deslaves y deslizamientos, explosiones volcán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rigadas de emergencia</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grupos de personas entrenadas para situaciones específicas de emergencia y cada personas debe reunir los siguientes requisitos:</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r leer y escribircon nivel mínimo de secundaria</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ener la voluntad y el deseo de pertenecer a la brigada</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mar los cursos de capacitación y adiestramiento requerido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icipar en las prácticas y simulacro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mplir con las tareas auxiliares establecida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seer condición física adecuada</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píritu de servicio</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ozar de simpatía entre sus compañero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fil de líder con capacidad de autoridad</a:t>
            </a:r>
            <a:endParaRPr b="0" lang="en-US" sz="18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brigada debe tener un programa de prácticas y simulacros para garantizar su adecuado comportamiento y coordinación.</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ecomienda sea rotativ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sustancias químicas pueden causar daño tanto en el punto de contacto, por absorción dentro del cuerpo o ambas. Pueden afectar sus sistemas y órganos alejados del punto de contacto. </a:t>
            </a:r>
            <a:r>
              <a:rPr b="0" i="1" lang="es-MX" sz="2000" spc="-1" strike="noStrike">
                <a:solidFill>
                  <a:srgbClr val="000000"/>
                </a:solidFill>
                <a:latin typeface="Times New Roman"/>
              </a:rPr>
              <a:t>El fenol absorbido por la piel puede causar daños fatales al sistema nervioso y al hígado</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sustancias se encuentran en el trabajo en forma de humos, vapores, polvos o neblinas y sus vías de entrada: sistema digestivo, aparato respiratorio o la pi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nifestaciones energéticas más comunes: radiaciones infrarroja y ultravioleta, radiaciones ionizantes, el ruido y las vibraciones y la temperatu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esfuerzos fisiológicos: sudación o transpiración, trabajo muscular y la percepción discriminatori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oxicología ayuda a la seguridad industrial proporcionando información e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ombres técnico y comunes de las sustancias y ,materia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tología que pueden producir; vías de entrada al organismo; concentraciones máximas permisibles, según vía de entrada y u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imulac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 existir un programa establecido de simulacros que permitan ejercitar a las brigadas y verificar la comprensión y efectividad de los procedimientos diseñad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recomienda que, de ser posible, algunos simulacros se realicen sin el previo conocimiento del personal (nivel gerencia y personal en coordinación con los servicios públicos de emergencia sí deben tener conocimien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grama de simulacros debe ser independiente de los programas de capacitación de cada una de las brigadas y deben servir para calificar a cada una de ell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 debe recalcar que en los simulacros se debe evitar cualquier situación que pudiere ocasionar daños o lesiones por pánico, imprudencia o desconocimiento. Todo el personal debe conocer los procedimientos a segu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8000"/>
          </a:bodyPr>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Tipos de brigadas</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rigadas contra incendio</a:t>
            </a:r>
            <a:r>
              <a:rPr b="0" lang="es-MX" sz="2000" spc="-1" strike="noStrike">
                <a:solidFill>
                  <a:srgbClr val="000000"/>
                </a:solidFill>
                <a:latin typeface="Times New Roman"/>
              </a:rPr>
              <a:t>.- además de su obvia tarea deben ayudar en:</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erificar el buen estado de los equipos y sistemas contra incendio</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diestrar al personal en el uso y manejo de extintores portátil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erificar y mantener los equipos de bomberos y sus herramientas auxiliares</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rigadas de primeros auxilios</a:t>
            </a:r>
            <a:r>
              <a:rPr b="0" lang="es-MX" sz="2000" spc="-1" strike="noStrike">
                <a:solidFill>
                  <a:srgbClr val="000000"/>
                </a:solidFill>
                <a:latin typeface="Times New Roman"/>
              </a:rPr>
              <a:t>.- encargada de atender a los lesionados con las técnicas de primeros auxilios en tanto se les atienda por personal médico o se les transporta a un centro de atención médica.</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 debe intentar curar a un lesionado solamente primeros auxilios y puede ayudar en: </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olar y verificar los botiquines de primeros auxilio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laborar en el control y desarrollo de campañas de medicina preventiva e higien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icipar en los programas de capacitación general de primeros auxili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rigadas de evacuación y rescate</a:t>
            </a:r>
            <a:r>
              <a:rPr b="0" lang="es-MX" sz="2000" spc="-1" strike="noStrike">
                <a:solidFill>
                  <a:srgbClr val="000000"/>
                </a:solidFill>
                <a:latin typeface="Times New Roman"/>
              </a:rPr>
              <a:t>.- su función es guíar y ayudar al personal a llegar a un lugar seguro, rescatar y transportar personal que haya quedado atrapado o imposibilitado de moverse solo. Pueden ayudar en:</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erificar y mantener los equipos de rescate y transporte de lesionado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laborar en el diseño de rutas y métodos de evacuación y rescate</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ivulgar los programas y sistemas de emergencia</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 brigadas debe portar durante su trabajo, distintivos que lo indentifiquen como miembro de determinada brigada y su categoría en la misma</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anto la gerencia como el personal de brigadas deben de conocer los planes de protección civil establecidos por las autoridades de su localidad, así como los planes federales DN-II y DN-III.</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algunos casos, en algunas situaciones  de emergencia, se establece que el control y combate quedaría bajo las órdenes de las Autoridades oficiales.</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algunos casos, para descuentos, las aseguradoras exigen el establecimiento de brigadas y la evidencia de su capacitación y entr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siduo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empresas son generadoras de residuos considerados peligroso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 existir un contrato con empresas que se dediquen a la recolección y disposición de estos residuos. Estas, a su vez, deben emitir un comprobante de la recolección y deben estar autorizadas para ell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residuos más comunes son:</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aterías (acumulador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opa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iduos de derivados del petróleo</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stancias específicas utilizadas en el proceso (níquel, plomo,  etc.)</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residuos deben de alguna manera llegar a un punto final para su destrucción o confi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SEMARNAP es un organismo que vigila estrictamente el cumplimiento de la disposición de los residuos peligros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mpresa debe registrarse como planta generadora de residuos peligrosos y si no lo hace puede ser sancionad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urante su permanencia en la planta, los residuos deben estar plenamente identificados y estar en lugares destinados específicamente para tal efec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ersonal encargado del manejo de estas sustancias debe estar capacitado y enterado de las características toxicológicas de cada una de ella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ncargado de Seguridad está obligado a enseñar ante las autoridades que se lo exijan, los comprobantes de la recolección así como el registro ante la SEMARNA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écnicas de prevenció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con sistemas establecidos de seguridad para la prevención de sus riesgos son empresas con ventajas contra las que no los tien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tes de poder planear o diseñar los sistemas de prevención, se debe conocer la mecánica de cada uno de los riesgos. Las formas comunes de acción de los diferentes riesgos s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contacto</a:t>
            </a:r>
            <a:r>
              <a:rPr b="0" lang="es-MX" sz="1800" spc="-1" strike="noStrike">
                <a:solidFill>
                  <a:srgbClr val="000000"/>
                </a:solidFill>
                <a:latin typeface="Times New Roman"/>
              </a:rPr>
              <a:t>.- una pared caliente, un líquido al que se pueda caer, una cadena o banda de transmisión con la que se pueda rozar, una cuchilla, una línea eléctrica que se pueda tocar, una sustancia que pueda ser absorbida por la pie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alcance</a:t>
            </a:r>
            <a:r>
              <a:rPr b="0" lang="es-MX" sz="1800" spc="-1" strike="noStrike">
                <a:solidFill>
                  <a:srgbClr val="000000"/>
                </a:solidFill>
                <a:latin typeface="Times New Roman"/>
              </a:rPr>
              <a:t>.- las rebabas de un proceso de abrasión, la salpicadura de líquidos o materiales licuados o en estado de fusión,el chorro de un fluído a presión, et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or radiación</a:t>
            </a:r>
            <a:r>
              <a:rPr b="0" lang="es-MX" sz="1800" spc="-1" strike="noStrike">
                <a:solidFill>
                  <a:srgbClr val="000000"/>
                </a:solidFill>
                <a:latin typeface="Times New Roman"/>
              </a:rPr>
              <a:t>.- rayos beta, gama, X, ultravioleta, et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gestión o inhalación</a:t>
            </a:r>
            <a:r>
              <a:rPr b="0" lang="es-MX" sz="1800" spc="-1" strike="noStrike">
                <a:solidFill>
                  <a:srgbClr val="000000"/>
                </a:solidFill>
                <a:latin typeface="Times New Roman"/>
              </a:rPr>
              <a:t>.- polvos, neblinas, humos y vap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vestigación de accidentes</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accidente es la pérdida de control de uno de los factores que integran el riesg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vestigación de accidentes es una técnica correctiva para evitar la repetición del mismo. Debe aportar lo siguient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scripción general del accidente</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tos generales de identificació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scripción del accident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ipo de accident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diciones del accidente</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iciones de temporal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racterísticas operativas del riesg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racterísticas conductuales del personal involucrad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iciones generales del ambiente de trabaj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bservaciones y conclusiones del superviso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azones básicas del accidente (acto o condición inseguro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didas propuestas para evitar su repeti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etodología para la investigación de accidentes.</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o accidente debe ser investigado, sin excepción</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vestigación debe iniciar en cuanto sean atendidos los lesionados o controladas las situaciones de emergencia que se hubieran presentado.</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 iniciarse con el personal responsable del área de ocurrencia. Todo personal de supervisión debe estar capacitado para ello.</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vestigación debe seguir un método previamente establecido y aprobado, debe existir una forma y un instructivo respectivos y el personal debe conocerlos, saber y poder cumplirlos.</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a investigación debe generar un reporte emitido mancomunadamente por seguridad y el área donde se presentó. Debe incluir las acciones para evitar su repetición con nombres de responsables y fechas de cumplimiento.</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odo accidente debe registrarse estadísticam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nálisis de operacion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una herramienta de ingeniería industrial que nos permite conocer el tipo y la intensidad de los riesgos presentes en los procesos y operaciones normales de una empresa. Su aplicación nos proporcion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cripción genreal de la operación, su frecuencia y dur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racterísticas de los materiales y energías involucr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erramientas y equipos utilizados y oper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sibles riesgos, fuente de los mism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ecanismo de desarrollo</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 aplicación requiere de personal especialmente capacitado en seguridad  y que conozca los procesos de trabajo. Es relevante la participación de los operadores delos proces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aplicar la técnica se debe responder: ¿por qué se quiere aplicar, qué beneficios se pretende obtener?, ¿cuál es el problema a atacar, cuál es su causa?¿en dónde se va a hacer el análisis?¿en qué planta, taller, máquina y posición?¿quién va a hacer  el análisis, conoce el proceso, conoce los riesgos, conoce la metodología?¿quién va a ser el analizado?¿está dispuesto a colaborar, es un experto en la oper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l contestar las preguntas deben  surgir otras para darle respuesta:</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ándo se va a hacer el estudio? Proporcionar fecha, turno, hor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uándo se deben presentar los resultados, a quién, cómo?</a:t>
            </a:r>
            <a:endParaRPr b="0" lang="en-US" sz="16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 código de colores.</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código de colores es un lenguaje que todo el mundo entiende e interpreta de la misma manera. Consta de tres niveles de informació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lor básico</a:t>
            </a:r>
            <a:r>
              <a:rPr b="0" lang="es-MX" sz="1600" spc="-1" strike="noStrike">
                <a:solidFill>
                  <a:srgbClr val="000000"/>
                </a:solidFill>
                <a:latin typeface="Times New Roman"/>
              </a:rPr>
              <a:t>.- brinda la información general de las características del conteni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Color de seguridad</a:t>
            </a:r>
            <a:r>
              <a:rPr b="0" lang="es-MX" sz="1600" spc="-1" strike="noStrike">
                <a:solidFill>
                  <a:srgbClr val="000000"/>
                </a:solidFill>
                <a:latin typeface="Times New Roman"/>
              </a:rPr>
              <a:t>.- proporciona información general del riesgo del conteni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nformación complementaria</a:t>
            </a:r>
            <a:r>
              <a:rPr b="0" lang="es-MX" sz="1600" spc="-1" strike="noStrike">
                <a:solidFill>
                  <a:srgbClr val="000000"/>
                </a:solidFill>
                <a:latin typeface="Times New Roman"/>
              </a:rPr>
              <a:t>.- proporciona información sobre las condiciones del riesg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 México lo regula la NOM-026-STPS-1993</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odas las tuberías que conduzcan fluídos deben ser identificadas c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lor básico: identifica tipo de fluí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lor de seguridad: la peligrosidad o uso del fluíd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nformación complementaria: naturaleza, características y precaucuiones relativas al proces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uebas de control para el ambiente de trabaj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écnicas de verificación para el cuerpo human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ratamientos para los casos de sobreexposi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edios básicos de contro de ambiente contaminado.</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s empresas donde se manejen sustancias tóxicas debe integrarse un expediente por cada una de ellas y debe contener como míni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e su actividad, forma de actuar y potencial de riesgo clasificarlo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stancia peligrosa</a:t>
            </a:r>
            <a:r>
              <a:rPr b="0" lang="es-MX" sz="1800" spc="-1" strike="noStrike">
                <a:solidFill>
                  <a:srgbClr val="000000"/>
                </a:solidFill>
                <a:latin typeface="Times New Roman"/>
              </a:rPr>
              <a:t>.- aquella que representa alto riesgo para la salud, por ser corrosiva, irritante, tóxica, radioactiva, inflamable, explosiva, peróxido orgánico, gas comprimido, oxidante, pirofórica, inestable y otra que puede causar daño a la salu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stancia corrosiva</a:t>
            </a:r>
            <a:r>
              <a:rPr b="0" lang="es-MX" sz="1800" spc="-1" strike="noStrike">
                <a:solidFill>
                  <a:srgbClr val="000000"/>
                </a:solidFill>
                <a:latin typeface="Times New Roman"/>
              </a:rPr>
              <a:t>.- es la que causa destrucción visible o alteraciones en el tejido vivo po acción química en el sitio de contac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stancia irritante.- </a:t>
            </a:r>
            <a:r>
              <a:rPr b="0" lang="es-MX" sz="1800" spc="-1" strike="noStrike">
                <a:solidFill>
                  <a:srgbClr val="000000"/>
                </a:solidFill>
                <a:latin typeface="Times New Roman"/>
              </a:rPr>
              <a:t>es la que no es corrosiva,pero que causa efecto inflamatorio en el tejido viv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ustancia tóxica</a:t>
            </a:r>
            <a:r>
              <a:rPr b="0" lang="es-MX" sz="1800" spc="-1" strike="noStrike">
                <a:solidFill>
                  <a:srgbClr val="000000"/>
                </a:solidFill>
                <a:latin typeface="Times New Roman"/>
              </a:rPr>
              <a:t>.- puede causar transtornos estructurales o funcionales que provoquen daños o la muerte si la absorben en cantidades pequeñas los humanos, plantas o animale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lores básicos s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erde</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1" lang="es-MX" sz="1800" spc="-1" strike="noStrike">
                <a:solidFill>
                  <a:srgbClr val="000000"/>
                </a:solidFill>
                <a:latin typeface="Times New Roman"/>
              </a:rPr>
              <a:t>agu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ris plateado  </a:t>
            </a:r>
            <a:r>
              <a:rPr b="1" lang="es-MX" sz="1800" spc="-1" strike="noStrike">
                <a:solidFill>
                  <a:srgbClr val="000000"/>
                </a:solidFill>
                <a:latin typeface="Times New Roman"/>
              </a:rPr>
              <a:t>vap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fé</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1" lang="es-MX" sz="1800" spc="-1" strike="noStrike">
                <a:solidFill>
                  <a:srgbClr val="000000"/>
                </a:solidFill>
                <a:latin typeface="Times New Roman"/>
              </a:rPr>
              <a:t>aceites minerales, vegetales y animales, combustibles</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líquid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Violeta           </a:t>
            </a:r>
            <a:r>
              <a:rPr b="1" lang="es-MX" sz="1800" spc="-1" strike="noStrike">
                <a:solidFill>
                  <a:srgbClr val="000000"/>
                </a:solidFill>
                <a:latin typeface="Times New Roman"/>
              </a:rPr>
              <a:t>gases licuados o en estado gaseoso (excepto ai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zul               </a:t>
            </a:r>
            <a:r>
              <a:rPr b="1" lang="es-MX" sz="1800" spc="-1" strike="noStrike">
                <a:solidFill>
                  <a:srgbClr val="000000"/>
                </a:solidFill>
                <a:latin typeface="Times New Roman"/>
              </a:rPr>
              <a:t>air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egro             </a:t>
            </a:r>
            <a:r>
              <a:rPr b="1" lang="es-MX" sz="1800" spc="-1" strike="noStrike">
                <a:solidFill>
                  <a:srgbClr val="000000"/>
                </a:solidFill>
                <a:latin typeface="Times New Roman"/>
              </a:rPr>
              <a:t>otros líquidos (excepto agu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ndo se utilice el color negro, siempre debe emplearse la información complementaria anotando el nombre de la sustanc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lores de segurida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ojo                                  </a:t>
            </a:r>
            <a:r>
              <a:rPr b="1" lang="es-MX" sz="1800" spc="-1" strike="noStrike">
                <a:solidFill>
                  <a:srgbClr val="000000"/>
                </a:solidFill>
                <a:latin typeface="Times New Roman"/>
              </a:rPr>
              <a:t>para combatir incendi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arillo con franjas         </a:t>
            </a:r>
            <a:r>
              <a:rPr b="1" lang="es-MX" sz="1800" spc="-1" strike="noStrike">
                <a:solidFill>
                  <a:srgbClr val="000000"/>
                </a:solidFill>
                <a:latin typeface="Times New Roman"/>
              </a:rPr>
              <a:t>para advertir peligro</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iagonales negra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zul                                  </a:t>
            </a:r>
            <a:r>
              <a:rPr b="1" lang="es-MX" sz="1800" spc="-1" strike="noStrike">
                <a:solidFill>
                  <a:srgbClr val="000000"/>
                </a:solidFill>
                <a:latin typeface="Times New Roman"/>
              </a:rPr>
              <a:t>auxiliar para identificar agua po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aplicar el color básico hay dos opcion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intar la tubería a todo lo larg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intar con bandas de 150 mm como mínimo, incrementar dependiendo del diámetro de la tubería para que sean claramente visibl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aso de bandas, éstas deben ubicarse en ambos lados de las conexiones, bridas, unión de soldadura, válvulas, accesorios, cambios de dirección, penetración y salidas de pisos y paredes y en todo lugar donde la identificación sea necesari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ota: las válvulas pueden pintarse del color básico, con la excepsción de que al usar el color rojo de seguridad en tuberías de agua o vapor para extinción de incendio, las válvulas deben pintarse de rojo</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lor de seguridad debe ser como sigu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intado en bandas de por lo menos 100 mm de longitud sobre el color básico de identificación si la tubería está toda pintad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intado en una banda de 100 mm de longitud mínima, entre dos bandas de color básico de 150 mm de longitud mínima cada u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formación complementaria debe ser de color blanco o negro (excepto los símbolos de seguridad) para contrastar claramente con el color de la tubería o con el color básico, pudiéndose emplear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ímbolos de seguridad  NOM-027-ST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ombre completo de la sustancia, Ejemplo: agu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breviatura del nombre mediante siglas Ejemplo A agu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ímbolo o fórmula química: H</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O</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formación complementaria podrá ubicarse en una etiqueta, placa o letrero fijado a la tubería, junto a las franjas de color básico o pintada sobre el color bás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rección del flujo debe indicarse con una flecha situada próxima a las franjas del color básico, directamente sobre la tubería en color blanco o neg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apacitació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tende que el personal conozca los riesgos y cómo prevenirlo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necesitan tres elementos para trabajar con seguridad:</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ocer el método segur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los elementos (herramienta, EPP y equipo) adecuados para el trabaj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Querer (estar motivados) hacer el trabajo siguiendo el método seguro.</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etodología de la capacitació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sentar los riesgos y consecuencia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mostrar los métodos seguros prácticamente y la diferencia con los existen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sarrollar la capacitación en el lugar de trabajo</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quipo y normas deben ser parte de los curso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 instructor debe usar el EPP indicado y seguir el método aprobado por segurida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 capacitando, en su práctica, debe iniciar con ponerse el EPP</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ncionar la existencia de dos tipos de riesgos: los de la tarea y los ambiental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rear conciencia de comunicar toda anomalía al jefe inmediato de lo que considere pueda ser un riesgo de trabaj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gistros estadístic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elementos de análisis que auxilian en pronosticar la posibilidad de ocurrencia de los riesgos. Los factores comúnmente empleados s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emporalidad: día de la semana, hora, turno, época del añ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ipo de actividad u oper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ipo de equipo, herramienta o instal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ervis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bicación: posición, taller, planta, localida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tores: operadores, auxiliar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legislación mexicana señala 3 tipos de índic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Índice de frecuencia.- evalúa la efectividad de las acciones de seguridad desarrolladas en una empresa. Su base es el número de incidentes registrados en elperíodo evaluado</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IF</a:t>
            </a:r>
            <a:r>
              <a:rPr b="0" lang="es-MX" sz="1600" spc="-1" strike="noStrike">
                <a:solidFill>
                  <a:srgbClr val="000000"/>
                </a:solidFill>
                <a:latin typeface="Times New Roman"/>
              </a:rPr>
              <a:t> =       n(1000/90)/N donde </a:t>
            </a:r>
            <a:r>
              <a:rPr b="1" lang="es-MX" sz="1600" spc="-1" strike="noStrike">
                <a:solidFill>
                  <a:srgbClr val="000000"/>
                </a:solidFill>
                <a:latin typeface="Times New Roman"/>
              </a:rPr>
              <a:t>n </a:t>
            </a:r>
            <a:r>
              <a:rPr b="0" lang="es-MX" sz="1600" spc="-1" strike="noStrike">
                <a:solidFill>
                  <a:srgbClr val="000000"/>
                </a:solidFill>
                <a:latin typeface="Times New Roman"/>
              </a:rPr>
              <a:t>es número de casos de incidencia y </a:t>
            </a:r>
            <a:r>
              <a:rPr b="1" lang="es-MX" sz="1600" spc="-1" strike="noStrike">
                <a:solidFill>
                  <a:srgbClr val="000000"/>
                </a:solidFill>
                <a:latin typeface="Times New Roman"/>
              </a:rPr>
              <a:t>N</a:t>
            </a:r>
            <a:r>
              <a:rPr b="0" lang="es-MX" sz="1600" spc="-1" strike="noStrike">
                <a:solidFill>
                  <a:srgbClr val="000000"/>
                </a:solidFill>
                <a:latin typeface="Times New Roman"/>
              </a:rPr>
              <a:t> es el número promedio de trabajadores de la empresa</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Índice de gravedad.- evalúa el nivel de peligrosidad de los riesgos de una empresa. Su base está en los días de incapacidad generado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G = [S/365 + (0.16 i ) + 16D]/N donde N: número de trabajadores promedio de la empresa; S: total de días de incapacidad; i suma de las incapacidades permanentes parciales y totales; D: número de defunciones</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Índice de siniestralidad.- combina los dos factores anteriore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S = [1000n/90(S/365 +0.16i + 16D)] x 10</a:t>
            </a:r>
            <a:r>
              <a:rPr b="0" lang="es-MX" sz="1600" spc="-1" strike="noStrike" baseline="30000">
                <a:solidFill>
                  <a:srgbClr val="000000"/>
                </a:solidFill>
                <a:latin typeface="Times New Roman"/>
              </a:rPr>
              <a:t>6</a:t>
            </a:r>
            <a:r>
              <a:rPr b="0" lang="es-MX" sz="1600" spc="-1" strike="noStrike">
                <a:solidFill>
                  <a:srgbClr val="000000"/>
                </a:solidFill>
                <a:latin typeface="Times New Roman"/>
              </a:rPr>
              <a:t>/N</a:t>
            </a:r>
            <a:r>
              <a:rPr b="0" lang="es-MX" sz="1600" spc="-1" strike="noStrike" baseline="30000">
                <a:solidFill>
                  <a:srgbClr val="000000"/>
                </a:solidFill>
                <a:latin typeface="Times New Roman"/>
              </a:rPr>
              <a:t>2</a:t>
            </a:r>
            <a:endParaRPr b="0" lang="en-US" sz="1600" spc="-1" strike="noStrike">
              <a:solidFill>
                <a:srgbClr val="000000"/>
              </a:solidFill>
              <a:latin typeface="Times New Roman"/>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quipo de protección personal EPP</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dispositivos para proteger al trabajador contra condiciones de riesgos específicas y limitada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ción a ojos y cara</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entes, monogoggles, caretas, viseras, filtros óptico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ción a la cabeza y craneo</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ascos, cofias, nuquera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ción a manos y brazo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Guantes, mangas, dedal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ión a pies y pierna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Zapatos, polainas, espinillera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tección a oídos y vías respiratorias</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Orejeras, tapones, respiradores, mascarillas, filtors químico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quipos especial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tos, arneses, hombreras, rodilleras, traj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uardas y protector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guardas son dispositivos diseñados apra evitar el contacto con partes en movimiento, energizadas o a temperaturas extremas. Por su tipo de instalación se clasifican en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ija</a:t>
            </a:r>
            <a:r>
              <a:rPr b="0" lang="es-MX" sz="1800" spc="-1" strike="noStrike">
                <a:solidFill>
                  <a:srgbClr val="000000"/>
                </a:solidFill>
                <a:latin typeface="Times New Roman"/>
              </a:rPr>
              <a:t>.- permanente en la máquin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óvil</a:t>
            </a:r>
            <a:r>
              <a:rPr b="0" lang="es-MX" sz="1800" spc="-1" strike="noStrike">
                <a:solidFill>
                  <a:srgbClr val="000000"/>
                </a:solidFill>
                <a:latin typeface="Times New Roman"/>
              </a:rPr>
              <a:t>.- está enlazada mecánicamente a la estructura con una articulación o con quías de deslizamien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gulable</a:t>
            </a:r>
            <a:r>
              <a:rPr b="0" lang="es-MX" sz="1800" spc="-1" strike="noStrike">
                <a:solidFill>
                  <a:srgbClr val="000000"/>
                </a:solidFill>
                <a:latin typeface="Times New Roman"/>
              </a:rPr>
              <a:t>.- permite regular la abertura para el paso de una piez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miautomática</a:t>
            </a:r>
            <a:r>
              <a:rPr b="0" lang="es-MX" sz="1800" spc="-1" strike="noStrike">
                <a:solidFill>
                  <a:srgbClr val="000000"/>
                </a:solidFill>
                <a:latin typeface="Times New Roman"/>
              </a:rPr>
              <a:t>.- es accionada por el operador simultáneamente con la operación de la máquin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utomática</a:t>
            </a:r>
            <a:r>
              <a:rPr b="0" lang="es-MX" sz="1800" spc="-1" strike="noStrike">
                <a:solidFill>
                  <a:srgbClr val="000000"/>
                </a:solidFill>
                <a:latin typeface="Times New Roman"/>
              </a:rPr>
              <a:t>.- se acciona por la misma máquina</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su forma de opera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t>
            </a:r>
            <a:r>
              <a:rPr b="1" lang="es-MX" sz="1800" spc="-1" strike="noStrike">
                <a:solidFill>
                  <a:srgbClr val="000000"/>
                </a:solidFill>
                <a:latin typeface="Times New Roman"/>
              </a:rPr>
              <a:t>bloqueo</a:t>
            </a:r>
            <a:r>
              <a:rPr b="0" lang="es-MX" sz="1800" spc="-1" strike="noStrike">
                <a:solidFill>
                  <a:srgbClr val="000000"/>
                </a:solidFill>
                <a:latin typeface="Times New Roman"/>
              </a:rPr>
              <a:t>.- impiden la operación de la máquina si no está instalad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ndo bimanual</a:t>
            </a:r>
            <a:r>
              <a:rPr b="0" lang="es-MX" sz="1800" spc="-1" strike="noStrike">
                <a:solidFill>
                  <a:srgbClr val="000000"/>
                </a:solidFill>
                <a:latin typeface="Times New Roman"/>
              </a:rPr>
              <a:t>.- requiere que el operario emplee ambas manos para accionar la máquin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t>
            </a:r>
            <a:r>
              <a:rPr b="1" lang="es-MX" sz="1800" spc="-1" strike="noStrike">
                <a:solidFill>
                  <a:srgbClr val="000000"/>
                </a:solidFill>
                <a:latin typeface="Times New Roman"/>
              </a:rPr>
              <a:t>expulsión</a:t>
            </a:r>
            <a:r>
              <a:rPr b="0" lang="es-MX" sz="1800" spc="-1" strike="noStrike">
                <a:solidFill>
                  <a:srgbClr val="000000"/>
                </a:solidFill>
                <a:latin typeface="Times New Roman"/>
              </a:rPr>
              <a:t>.- son guardas de tipo mecánico que se proyectan para retirar a las personas o partes del cuerpo que se encuentren en la zona de pelig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l programa de higiene y seguridad</a:t>
            </a:r>
            <a:endParaRPr b="0" lang="en-US" sz="4400" spc="-1" strike="noStrike">
              <a:solidFill>
                <a:srgbClr val="000000"/>
              </a:solidFill>
              <a:latin typeface="Times New Roman"/>
            </a:endParaRPr>
          </a:p>
        </p:txBody>
      </p:sp>
      <p:pic>
        <p:nvPicPr>
          <p:cNvPr id="102" name="IN00401_" descr=""/>
          <p:cNvPicPr/>
          <p:nvPr/>
        </p:nvPicPr>
        <p:blipFill>
          <a:blip r:embed="rId1"/>
          <a:stretch/>
        </p:blipFill>
        <p:spPr>
          <a:xfrm>
            <a:off x="3941640" y="3886200"/>
            <a:ext cx="1260720" cy="1863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ntenido básico de un programa de higiene y seguridad, es el siguient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ción de su contenido partiendo de la visión de la empresa en materia de seguridad e higien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siderar la naturaleza y características de los riesgos de los procesos operativos y las características del personal encargado de operar dichos proceso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grama debe incluir cada una de las siguientes áreas de acció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onsable de segur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servisio médic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upervis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isión y política  de segurida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bjetiv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pacit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mpaña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corri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ñalizació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Investigació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 las dosis letales orales y dérmicas (DL50) y concentraciones letales(CL50) se clasifican e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4" name=""/>
          <p:cNvGraphicFramePr/>
          <p:nvPr/>
        </p:nvGraphicFramePr>
        <p:xfrm>
          <a:off x="304920" y="1397160"/>
          <a:ext cx="8534160" cy="4852800"/>
        </p:xfrm>
        <a:graphic>
          <a:graphicData uri="http://schemas.openxmlformats.org/drawingml/2006/table">
            <a:tbl>
              <a:tblPr/>
              <a:tblGrid>
                <a:gridCol w="1057320"/>
                <a:gridCol w="747684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esgo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cripció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9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ver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dosis letal media (DL50) hasta  1 mg/Kg., cuando se administra oralmente a ratas albinas con peso de 200 y 300 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85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ri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una dosis letal media (DL50) de más de 20 mg/kg y hasta 50 mg/kg de peso corporal cuando se administra oralmente a ratas albinas con peso dde 200 y 300 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oderado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una dosis letal media de más de 50 mg/kg y hasta 500 mg/kg de peso corporal cuando se administra oralmente a ratas albinas con peso de 200 y 300 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122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igero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una dosis letal media de más de 1000 mg/kg y hasta 5000 mg/kg de peso corporal al administrarlas por contacto contínuo por 24 horas (o menos si la muerte ocurre en esas 24 horas) con la piel descubierta de conejos albinos de entre 2 y 3 K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06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ínim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ustancia química que tiene una conccentración letal media (CL50) en el aire de más de 200 ppm y no más de 10000 ppm por volumen de gases o vapor, entre 2 y 20 mg/l de niebla humo o polvo cuando se administra por inhalación contínua por una hora ( o menos si la muerte ocurre durante esa hora) a ratas albinas entre 200 y 300 g de pes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rganización del program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ograma debe satisfacer los objetivos, metas y actividades del mismo. Se recomienda la secuencia siguient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finición del campo de ac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finición de metas y objetivo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ticipant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scripción de actividad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laneación y programaci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imiento y ejecucuó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nual de procedimientos de seguridad</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ducción al personal de nuevo ingreso</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rol de equipos de emergenci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Control de situaciones de emergencia</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Operación de la Comisión de Seguridad e Higiene</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vestigación y reporte de accidente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Asignación y control de EPP</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Manejo y control de sustancias y situaciones peligrosa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rogramación y control de exámenes médicos</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Operación de procesos y operaciones de alto riesg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valuación del progra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e estar regida por tres parámetros a) avance porcentual de las actividaades, b) comportamiento estadístico de los índices de seguridad y c) resultados generales del clima de segur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la evaluación se puede recurrir a los elementos siguient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actores grupales: clima laboral, imagen empresarial, particip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Índices especiales: uso de EPP, orden y limpieza, condiciones de maquinaria equipo e instalaciones, participación en capacitació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portes: basados en los indicadores y referidos a las metas y a la situación de arranque y en las mismas unidades del inici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sarrollo y avance: por actividad y general del program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icipantes y voluntarios: es un indicador del desarrollo de la conciencia de seguridad.y de la motiv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eríodos de evaluación deben ser máximo de tres meses. Se considera adecuado que en la evaluación participe la Comiíón de Seguridad e Higie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etodología General para el desarrollo del program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l programa se recomienda la siguiente metodología:</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r los riesgo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dentificar procesos y subprocesos a controlar</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Identificar y definir las operaciones riesgosa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efinir los riesgo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alizar los riesgos</a:t>
            </a:r>
            <a:r>
              <a:rPr b="0" lang="es-MX" sz="1800" spc="-1" strike="noStrike">
                <a:solidFill>
                  <a:srgbClr val="000000"/>
                </a:solidFill>
                <a:latin typeface="Times New Roman"/>
              </a:rPr>
              <a:t> para determina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otencial de ocurrencia y perjuicio</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ecánica de acción: el proceso que genera el riesgo, factores catalizadore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recuencia de exposición</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arrollar técnicas de contro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Programación</a:t>
            </a:r>
            <a:r>
              <a:rPr b="0" lang="es-MX" sz="1800" spc="-1" strike="noStrike">
                <a:solidFill>
                  <a:srgbClr val="000000"/>
                </a:solidFill>
                <a:latin typeface="Times New Roman"/>
              </a:rPr>
              <a:t>, se debe defini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echas de inicio y terminación de la actividad tratada</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ursos para su desarrollo</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ersonal</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Área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eríodos de prueba y evaluación</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probación y difusión</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LD50  es la cantidad de un material, suministrada una sola vez, la cual causa la muerte del 50 % de un grupo de animales de prueba. Las LDC más comunmente empleadas son la dérmica y la oral; si la ruta de exposición es por inhalación, el valor es llamado LC5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el tipo de lesión o daño que pudieran producir se clasifican en 5 grados de riesgo: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vero grado 4</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rio   grado 3</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oderado  grado 2</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igero grado 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ínimo grado 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roductos químicos</a:t>
            </a:r>
            <a:r>
              <a:rPr b="0" lang="es-MX" sz="2000" spc="-1" strike="noStrike">
                <a:solidFill>
                  <a:srgbClr val="000000"/>
                </a:solidFill>
                <a:latin typeface="Times New Roman"/>
              </a:rPr>
              <a:t> .- es la fuente más común de riesgo toxicológico, por lo genral se absorben a través de los pulmones y la piel, raras veces por la oral. Lo más común es por inhalació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laguicidas organofosforosos se acumulan en los tejodops grasos y pueden permanecer ahí durante años, después cambian por reacciones metabólic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s neurotóxicos</a:t>
            </a:r>
            <a:r>
              <a:rPr b="0" lang="es-MX" sz="2000" spc="-1" strike="noStrike">
                <a:solidFill>
                  <a:srgbClr val="000000"/>
                </a:solidFill>
                <a:latin typeface="Times New Roman"/>
              </a:rPr>
              <a:t>. Pueden producir efectos carcinogénicos y mutagénicos. Por lo común los efectos de conducta coinciden con los cambios en los sitemas nervioso central y periférico. Los principales son los solventes industriales, hidrocarburos aromáticos, halogenados y alifáticos y sus mezclas. También los metales pesados: plomo, mercurio y manganeso. Por sus  características de acció se clasifica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toxicidad aguda</a:t>
            </a:r>
            <a:r>
              <a:rPr b="0" lang="es-MX" sz="1800" spc="-1" strike="noStrike">
                <a:solidFill>
                  <a:srgbClr val="000000"/>
                </a:solidFill>
                <a:latin typeface="Times New Roman"/>
              </a:rPr>
              <a:t>: con exposición baja produce efectos perjudiciales muy rápidamente (en segundos; en minut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toxicidad crónica</a:t>
            </a:r>
            <a:r>
              <a:rPr b="0" lang="es-MX" sz="1800" spc="-1" strike="noStrike">
                <a:solidFill>
                  <a:srgbClr val="000000"/>
                </a:solidFill>
                <a:latin typeface="Times New Roman"/>
              </a:rPr>
              <a:t>: con una exposición determinada requeriría de un largo tiempo para producir lesiones (días, mes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na sustancia no produce efectos crónicos o agudos no se considera ries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gentes tóxicos comu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lomo</a:t>
            </a:r>
            <a:r>
              <a:rPr b="0" lang="es-MX" sz="2000" spc="-1" strike="noStrike">
                <a:solidFill>
                  <a:srgbClr val="000000"/>
                </a:solidFill>
                <a:latin typeface="Times New Roman"/>
              </a:rPr>
              <a:t>: en la indistria minera, la metalúrgica, la producción de pilas y en la industria de la pintura. Por lo común se absorbe por inhalación, sobre todo de vapores de plomo, humos y polvo. El aparato digestivo y la piel pueden ser sitios de acceso. Síntomas: gastrointestinales, fatiga anormal, alteraciones del ánimo. Síntomas neurológicos (dolor de brazos y piernas). Tareas que requieren destreza manual reducen. El nivel de plomo en la sangre nunca debe exceder 70 mg/100 m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onóxido de carbono</a:t>
            </a:r>
            <a:r>
              <a:rPr b="0" lang="es-MX" sz="2000" spc="-1" strike="noStrike">
                <a:solidFill>
                  <a:srgbClr val="000000"/>
                </a:solidFill>
                <a:latin typeface="Times New Roman"/>
              </a:rPr>
              <a:t>: hornos de calentamiento, unidades de calefacción central, escapes de motores, las fundiciones y el humo de cigarrillos. Penetra por inhalación. Síntomas subjetivos como el cansancio, falta de energía mental, irritabilidad, falta de concent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olventes</a:t>
            </a:r>
            <a:r>
              <a:rPr b="0" lang="es-MX" sz="2000" spc="-1" strike="noStrike">
                <a:solidFill>
                  <a:srgbClr val="000000"/>
                </a:solidFill>
                <a:latin typeface="Times New Roman"/>
              </a:rPr>
              <a:t>: agentes químicos neurotóxicos de uso más común en el trabajo. Se absorben por inhalación y en parte a través de la pi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idrocarburos aromáticos.- tolueno y xileno son los más importantes. Se ha comprobado que el benceno es leucomogénico. Casi ya no se us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olueno.- el tolueno se usa en pinturas, lacas, adhesivos. Adelgazadores y líquidos limpiadores. Los pintores y barnizadores están expuestos al tolueno y a sus mezcla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Xileno.- se usa principalmente como adelgazador de pintura y barnices y como solvent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idrocarburos halogenados</a:t>
            </a:r>
            <a:r>
              <a:rPr b="0" lang="es-MX" sz="1800" spc="-1" strike="noStrike">
                <a:solidFill>
                  <a:srgbClr val="000000"/>
                </a:solidFill>
                <a:latin typeface="Times New Roman"/>
              </a:rPr>
              <a:t>.- son tambíen neurotóxicos y pueden afectar al hígado y a los riñones. Tienen efectos depresivos, sobre todo en el sistema central:</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icloro metano.- se usa como solvente, uno de sus usos es como limpiador de pintur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loruro de metilo.- se usa como refrigerante, afecta al sistema nervioso central y puede producir ataxia, debilitamiento, mareo, dificultades del habla, transtornos visuale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ricloroetano(metilcloroformo) se usa para desengrasar metales, causa prolongación de los tiempos de reacción, disminución de la capacidad visomotora y alteraciones en las destreza manual.</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idrocarburos alifáticos</a:t>
            </a:r>
            <a:r>
              <a:rPr b="0" lang="es-MX" sz="1800" spc="-1" strike="noStrike">
                <a:solidFill>
                  <a:srgbClr val="000000"/>
                </a:solidFill>
                <a:latin typeface="Times New Roman"/>
              </a:rPr>
              <a:t>: sirven como componentes de diversas mezclas de solventes, como solventes de petróleo refinado, solventes de caucho, la nafta y el barni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20:59:33Z</dcterms:created>
  <dc:creator>Ramiro Iván Vega Espinosa</dc:creator>
  <dc:description/>
  <dc:language>en-US</dc:language>
  <cp:lastModifiedBy>Ramiro Iván Vega Espinosa</cp:lastModifiedBy>
  <dcterms:modified xsi:type="dcterms:W3CDTF">2000-08-06T04:16:39Z</dcterms:modified>
  <cp:revision>46</cp:revision>
  <dc:subject/>
  <dc:title>Capítulo IV Higiene Industrial</dc:title>
</cp:coreProperties>
</file>