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4.bin" ContentType="application/vnd.openxmlformats-officedocument.oleObject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png" ContentType="image/png"/>
  <Override PartName="/ppt/media/image38.png" ContentType="image/png"/>
  <Override PartName="/ppt/media/image41.png" ContentType="image/png"/>
  <Override PartName="/ppt/media/image12.png" ContentType="image/png"/>
  <Override PartName="/ppt/media/image7.wmf" ContentType="image/x-wmf"/>
  <Override PartName="/ppt/media/image13.png" ContentType="image/png"/>
  <Override PartName="/ppt/media/image40.png" ContentType="image/png"/>
  <Override PartName="/ppt/media/image8.wmf" ContentType="image/x-wmf"/>
  <Override PartName="/ppt/media/image37.png" ContentType="image/png"/>
  <Override PartName="/ppt/media/image39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7621588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578F-CACD-4CB4-8E51-E0A6435FC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90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1E8-4655-4BC2-B951-C77D9665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3B56-33A9-4E10-9AB4-3A9C80BE3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01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900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2A35-AB05-46C9-A7C2-BD25F6422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7A64-2ECA-4448-83BB-FB4C8363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A985-12EA-4609-B8F3-A978EC37E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0AF4-A0C2-43A0-B626-50673822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6576-1D44-460B-8390-6EC32961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77880"/>
            <a:ext cx="777240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FCFA-5D53-4ACE-829B-89C5052F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AB87-A1AF-4C5B-AD65-CF9560A8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900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AF1-E095-431F-B6F4-A49C62FC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1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900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564A-64B8-4BAC-A57F-E6ABD2641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77880"/>
            <a:ext cx="777240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0176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94188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94188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941880"/>
            <a:ext cx="19051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A6402-EBC0-4CCE-A9C6-2A765A58E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png"/><Relationship Id="rId7" Type="http://schemas.openxmlformats.org/officeDocument/2006/relationships/package" Target="../embeddings/oleObject4.docx"/><Relationship Id="rId8" Type="http://schemas.openxmlformats.org/officeDocument/2006/relationships/image" Target="../media/image7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8.wmf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1295280"/>
            <a:ext cx="723888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INTRODUCCION A LAS REDES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Y 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OMUNICACIÓN DE DATOS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276720" y="45720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UNIDAD 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818640" y="3290760"/>
            <a:ext cx="768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GEN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JETIVOS Y ELEMENTOS DE UNA 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ASIFICACIÓN DE LAS RE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STEMAS ABIERTOS Y ORGANISMOS DE ESTANDA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O Y SUS FUN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Z RS-2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O HDL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DE FLU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CIÓN Y CONTROL DE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533520" y="846000"/>
            <a:ext cx="8076960" cy="59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istemas Abier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Son aquellos cumplen con los estándares internacionales, para que softwares y hardware de distintos fabricantes puedan interoperar sin problem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Los estándares pueden ser: de facto (por experiencia) o de jure (previo estudio)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Organización Internacional de Estándares (IS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utora del modelo OSI.  Documentos Serie ISO ___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ituto Nacional Estadounidense de estándar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ANSI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Unión Internacional de Telecomunicaciones (ITU-T)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Antes CCI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ies X para redes de datos públicas (ej. X.2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ies  V para acceso a la red telefónica convencio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uerza de Trabajo de Ingeniería para Internet (IET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ocumentos RFC (Request for Comment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Instituto de Ingenieros Eléctricos y Electrónicos (IE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es LAN. Series  IEEE 8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Foros de trabaj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abricantes de equipos. (Foro de ATM, Foro Frame Relay, et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8720" y="338040"/>
            <a:ext cx="742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3 Sistemas Abiertos y Organismos de Estand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CE03-8949-4EE7-9EDE-E5E00F9398F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932040"/>
            <a:ext cx="82296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otoco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junto de reglas que gobiernan el intercambio de datos entre dos o más ent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Funciones efectuadas por los protoco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ncapsulad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de la conex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(si hay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ireccion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debe identificar a las estaciones con nombres, direcciones o rutas para poder entregar los datos.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trol de fluj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a estación más rápida podría abrumar con datos a una estación len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tección y corrección de error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deber garantizar la entrega correcta de los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cuenci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datos deben llegar ordenados al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" y="338040"/>
            <a:ext cx="57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 Protocolo, funciones  y tipo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666880" y="2209680"/>
          <a:ext cx="2590920" cy="73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590920" cy="7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C6A2-B941-49A0-8BA4-0E4BF024491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79680" y="9907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gmentación y reensamb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3581280"/>
            <a:ext cx="786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Tipos de Servicio (Diálogo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Con conex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Tres fases: Establecimiento, transferencia y lib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Confiable, para diálogos largos, direccionamiento al ini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Ejemplo: La comunicación telefón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n conex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Solo una fase: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- No muy confiable, para diálogos cortos, direccionamiento en cada paquete. Ejemplo: Correo post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00200" y="1523880"/>
          <a:ext cx="6202440" cy="210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3880"/>
                    <a:ext cx="6202440" cy="210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378000" y="338040"/>
            <a:ext cx="57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 Protocolo, funciones  y tipo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C041-F310-48A4-B18C-A8156B754CA8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5400" y="33804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odelo de referencia 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457200" y="1219320"/>
            <a:ext cx="8305920" cy="5205240"/>
            <a:chOff x="457200" y="1219320"/>
            <a:chExt cx="8305920" cy="5205240"/>
          </a:xfrm>
        </p:grpSpPr>
        <p:graphicFrame>
          <p:nvGraphicFramePr>
            <p:cNvPr id="127" name=""/>
            <p:cNvGraphicFramePr/>
            <p:nvPr/>
          </p:nvGraphicFramePr>
          <p:xfrm>
            <a:off x="457200" y="1523880"/>
            <a:ext cx="8305920" cy="4900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1523880"/>
                      <a:ext cx="8305920" cy="490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9" name=""/>
            <p:cNvSpPr/>
            <p:nvPr/>
          </p:nvSpPr>
          <p:spPr>
            <a:xfrm>
              <a:off x="2819520" y="586728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ís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62000" y="198108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pl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66160" y="198108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plic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639040" y="2514600"/>
              <a:ext cx="71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s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43200" y="2514600"/>
              <a:ext cx="717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Presen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t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15000" y="327672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819520" y="3276720"/>
              <a:ext cx="659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61640" y="39625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5800" y="3962520"/>
              <a:ext cx="95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por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2400" y="457200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820600" y="457200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5720" y="5105520"/>
              <a:ext cx="66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820240" y="5105520"/>
              <a:ext cx="66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l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715000" y="5867280"/>
              <a:ext cx="60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ís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81280" y="6019920"/>
              <a:ext cx="2057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505320" y="5334120"/>
              <a:ext cx="21333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581280" y="472428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81280" y="4114800"/>
              <a:ext cx="2133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81280" y="3505320"/>
              <a:ext cx="2133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581280" y="2819520"/>
              <a:ext cx="2133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81280" y="2133720"/>
              <a:ext cx="2133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43560" y="1219320"/>
              <a:ext cx="95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uario 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562720" y="1219320"/>
              <a:ext cx="95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Usuario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D23E-4738-4934-8FDD-BF9F6993E6B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79080" y="338040"/>
            <a:ext cx="400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5 Modelo de referencia O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3520" y="966960"/>
            <a:ext cx="807696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ado en una arquitectura de cap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cada capa se definen las funciones a realizar con sus protoco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a capa ofrece u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rvic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 su capa inmediata sup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a capa requiere de los servicios de la capa inmediata inferi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define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fa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r medio de las cuales se proveerán los servicios entre las capas, así como los comandos que se usarán para solicitar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5960" y="3276720"/>
            <a:ext cx="818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Servicio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  Facilidades ofrecidas en cada capa a sus usuarios. (v.g. tx y  rx)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3886200"/>
            <a:ext cx="7924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Interfaces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 los mecanismos a través de los cuales se acceden a los servici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ntos de acceso al servicio (SAP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2438280" y="4572000"/>
          <a:ext cx="4267440" cy="22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572000"/>
                    <a:ext cx="4267440" cy="22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D752-3B74-43CC-91D4-98C831A134B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02400" y="338040"/>
            <a:ext cx="44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odelo de referencia OSI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3160" y="8377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ísic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de un flujo de bits por el medio físico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racterísticas  mecánicas, eléctricas, funcionales  y  procedimientos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nlace de dato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vierte el canal físico en un canal lógico conf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ed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orciona a las capas superiores  independencia de la tecnología de transmisión empleada. Establece la ruta entre la estación origen y el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ransport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porciona control de flujo y de errores extremo a extrem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ts val="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es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adicionales a la capa de transporte. Control de diálogo y puntos de sincronización contra err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resent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presentación de los datos (ASCII, EBCDIC), conversiones, encrip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Aplic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1560" indent="-231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cceso a OSI. Aplicaciones de archivos, impresión, correo, directorio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762120"/>
            <a:ext cx="8382240" cy="6180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29DF-87D5-4D4A-8380-1F0F2A5D35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3160" y="254160"/>
            <a:ext cx="36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 Interfaz  física RS-23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38080"/>
            <a:ext cx="79246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faz estándar entre un equipo terminal de datos (DTE) y un equipo de comunicación de datos (DCE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28195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pecificaciones mecánic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838080"/>
            <a:ext cx="815328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2743200" y="3200400"/>
            <a:ext cx="5257800" cy="37069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62120" y="472428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ector DB-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754280" y="1447920"/>
            <a:ext cx="6094440" cy="1224000"/>
            <a:chOff x="1754280" y="1447920"/>
            <a:chExt cx="6094440" cy="1224000"/>
          </a:xfrm>
        </p:grpSpPr>
        <p:graphicFrame>
          <p:nvGraphicFramePr>
            <p:cNvPr id="169" name=""/>
            <p:cNvGraphicFramePr/>
            <p:nvPr/>
          </p:nvGraphicFramePr>
          <p:xfrm>
            <a:off x="2057400" y="1447920"/>
            <a:ext cx="5791320" cy="1224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057400" y="1447920"/>
                      <a:ext cx="5791320" cy="12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1" name=""/>
            <p:cNvSpPr/>
            <p:nvPr/>
          </p:nvSpPr>
          <p:spPr>
            <a:xfrm>
              <a:off x="1754280" y="1828800"/>
              <a:ext cx="525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2400" y="152388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400080" y="1905120"/>
              <a:ext cx="105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d Públic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FCE2-21BA-443F-B4EB-D2A2E75AAA81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3160" y="254160"/>
            <a:ext cx="346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 Interfaz física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6240" y="3352680"/>
            <a:ext cx="7448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rigido a:      Fun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x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ón de da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nsmisión del D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x1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epción de dato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epción del D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T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tición de enví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DTE desea transmit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T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miso para envía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DCE está listo para recib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 lis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C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DTE está enc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S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CE listo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DTE está enc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icador de campan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icar llamada entr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cción de portador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T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dica canal li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GN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ierra de señal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3276720"/>
            <a:ext cx="7772400" cy="355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762120"/>
            <a:ext cx="792468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pecificaciones eléctr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RZ-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 binario (off) -3 a -15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0 binario (on)  +3 a +15 vol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ximo: 20 kbps y 15 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Especificaciones fun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uatro grupos de pines o circuitos: datos, control, sincronización y tier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64008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3657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449568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762120"/>
            <a:ext cx="8153280" cy="6172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382C-7DE2-4722-902F-3F77A51F167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34600" y="25416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6 Interfaz RS-2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762120"/>
            <a:ext cx="7924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Pruebas de loop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143000" y="1219320"/>
          <a:ext cx="215424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2154240" cy="13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583080" y="1139760"/>
          <a:ext cx="4722840" cy="142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3080" y="1139760"/>
                    <a:ext cx="472284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1831320" y="254016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641560" y="262404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mo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762120" y="3505320"/>
          <a:ext cx="4876560" cy="3416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505320"/>
                    <a:ext cx="487656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/>
          <p:cNvSpPr/>
          <p:nvPr/>
        </p:nvSpPr>
        <p:spPr>
          <a:xfrm>
            <a:off x="380880" y="3048120"/>
            <a:ext cx="792504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pecificaciones de procedimientos (protocol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5908680" y="3809880"/>
          <a:ext cx="2320920" cy="2819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08680" y="3809880"/>
                    <a:ext cx="23209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6477120" y="3429000"/>
            <a:ext cx="127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ódem N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762120"/>
            <a:ext cx="8153280" cy="6095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59F7-14C3-4271-B037-4609F309C3A5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09480" y="846000"/>
            <a:ext cx="792504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opología del enla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a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ultipu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Funciones de la capa de enlace de d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anejo o supervisión del en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reccionamiento (Enlaces multipu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fluj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 de err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trol de fluj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écnica para controlar la tasa de datos del transmisor,  para que no abrume al recep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écn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da y espera (Stop and Wa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ntana deslizante (Sliding Window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82320" y="304920"/>
            <a:ext cx="37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 Capa de enlace de 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8E13-C4BA-4030-A374-88D994D7C3F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1015920"/>
            <a:ext cx="7772400" cy="30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ef.-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un conjunto de entidades (hardware y software) interconectadas de maneras diversas y con necesidades de comun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ferencia rápida de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partición de recursos para la reducción de cos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nibilidad inmediata de la inform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Mover la información a la persona indicada, en el tiempo indicado para que ésta tome la decisión adecuad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000" y="457200"/>
            <a:ext cx="72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1 Definición, objetivos y elementos de una red de compu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480060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Hardware (elementos físicos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Estaciones de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Servid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Impreso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Unidades de disc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 Etc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875480" y="4800600"/>
            <a:ext cx="212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Softwar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Correo Electró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Bases de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Videocon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cceso Rem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6440" y="4114800"/>
            <a:ext cx="148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CURS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056-A266-43DF-859E-315662AC01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9800" y="304920"/>
            <a:ext cx="69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 Control de enlace de datos de alto nivel (HDL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09480" y="846000"/>
            <a:ext cx="777240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otocolo síncrono de la capa de enlace de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o ampliamente, y  base para muchos otros protocolos de esta cap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enlaces punto-punto y multipu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ipos de estacione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rim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trola la operación del enlace y sus tramas se denominan “comando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cund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 bajo el control de la estación primaria y sus tramas se denominan “respuesta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bin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bina las características de ambas, es decir, no hay jerarquí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figuraciones de lín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figuración no balancea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siste de una estación primaria y una o más secundar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figuración  balance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nsiste de dos estaciones combin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21C7-A483-44F8-93FB-127F542858F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800" y="845640"/>
            <a:ext cx="7772400" cy="31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Modos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odo de respuesta normal (N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configuración no balanceada. La estación primaria inicia la transferencia, mientras la estación secundaria se limita a respond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odo de respuesta asíncrona (AR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configuración no balanceada. La estación secundaria puede iniciar la transferenc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odo de balanceado asíncrono (AB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n  configuración balanceada. Cualquier estación puede iniciar la transferencia de da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978640" y="660384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tructura de 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219320" y="4038480"/>
          <a:ext cx="609588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038480"/>
                    <a:ext cx="609588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" y="338040"/>
            <a:ext cx="57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 Protocolo, funciones  y tipo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E0EA-5558-4CD3-BF2B-7B5B1F7A17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60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serción de bits para transparen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recciones : 8 ó 16 bits en enlaces multipu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comando con bit P debe ser respondido con una trama con bit F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Algunas tramas import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mbr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scrip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upervis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nocimiento positivo, listo para recib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N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nocimiento negativo, no lista para recib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J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nocimiento negativo. Regreso 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REJ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nocimiento negativo. Rechazo selec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No num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ABME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stablece modo balanceado asíncrono ext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IS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erminar la conexión 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A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onocimiento a tramas no num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SET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stablecer los contadores N(S) y N(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formación no nume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XID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Intercambio de identifi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RMR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hazo por una trama inacep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78000" y="338040"/>
            <a:ext cx="57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4 Protocolo, funciones  y tipo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DBD5-D53D-4094-838F-953FF03C62A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533520" y="846000"/>
            <a:ext cx="7772400" cy="23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. El transmisor envía una t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 El receptor recibe la trama y la recono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 El transmisor espera el reconocimiento para poder transmitir la siguiente tram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tilización del canal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ctor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304920"/>
            <a:ext cx="559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1 Control de flujo: de parada y esp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295280" y="3352680"/>
                <a:ext cx="346896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iempo de propagación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empo</m:t>
                        </m:r>
                        <m:r>
                          <m:rPr>
                            <m:lit/>
                            <m:nor/>
                          </m:rPr>
                          <m:t xml:space="preserve"> de transmisió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v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095880" y="4419720"/>
            <a:ext cx="1683000" cy="2438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617840" y="4826160"/>
                <a:ext cx="2709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831960" y="6019920"/>
            <a:ext cx="441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¿Qué efecto tiene “a” en la utilización 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029200" y="3124080"/>
            <a:ext cx="3305160" cy="1297800"/>
            <a:chOff x="5029200" y="3124080"/>
            <a:chExt cx="3305160" cy="1297800"/>
          </a:xfrm>
        </p:grpSpPr>
        <p:graphicFrame>
          <p:nvGraphicFramePr>
            <p:cNvPr id="220" name=""/>
            <p:cNvGraphicFramePr/>
            <p:nvPr/>
          </p:nvGraphicFramePr>
          <p:xfrm>
            <a:off x="5029200" y="3276720"/>
            <a:ext cx="3305160" cy="1076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029200" y="3276720"/>
                      <a:ext cx="3305160" cy="1076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5788800" y="3124080"/>
              <a:ext cx="1811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Times New Roman"/>
                </a:rPr>
                <a:t>V=Vel de propagac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93360" y="4114800"/>
              <a:ext cx="1613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asa de transmisió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990720" y="44956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tilización U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9AA1-A544-4C87-87CB-C4CFDDA92E1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609120" y="5105160"/>
            <a:ext cx="388620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clusión: “a” debe ser pequeñ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81240" y="304920"/>
            <a:ext cx="52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1 Control de flujo: parada y esp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2240" y="1143000"/>
            <a:ext cx="73080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=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9200" y="5638680"/>
            <a:ext cx="84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. d=1000 m,    L=576  byte,       B=33,600 bps       v= 0.6 c   (Módem en línea telefóni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. d=500 m,      L= 1518  bytes,  B=10 Mbps           v=0.6 c    (LA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3. d=100 km     L=53 bytes         B=155.52 Mbps    v= c         (ATM sobre F.O.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fig62" descr=""/>
          <p:cNvPicPr/>
          <p:nvPr/>
        </p:nvPicPr>
        <p:blipFill>
          <a:blip r:embed="rId1"/>
          <a:stretch/>
        </p:blipFill>
        <p:spPr>
          <a:xfrm>
            <a:off x="1143000" y="1066680"/>
            <a:ext cx="7391520" cy="363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42E-C111-4843-96D0-C7336DF7C79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533520" y="846000"/>
            <a:ext cx="8076960" cy="16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misión de varias tramas a la vez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máximo número de tramas transmitidas sin reconocimiento se denomina el tamaño de la ventana 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transmisor y el receptor mantienen una ventana cada uno para cada sentido de la transmi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56120" y="30492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1 Control de flujo: ventana desli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1523880" y="2590920"/>
          <a:ext cx="6782040" cy="202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590920"/>
                    <a:ext cx="6782040" cy="202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1676520" y="4724280"/>
          <a:ext cx="6324480" cy="190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724280"/>
                    <a:ext cx="6324480" cy="19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5168-1B06-4F14-98D0-EA6D613C51E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533520" y="846000"/>
            <a:ext cx="807696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jemplo: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800" y="30492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1 Control de flujo: ventana desli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5105520"/>
            <a:ext cx="807732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tiliz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pende de los valores de a y 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 &gt; 1 + 2a       --------&gt; U =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 &lt; 1 + 2a       --------&gt; U &lt; 1    ------&gt;   U = N / ( 1 + 2a )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4508640" y="3689280"/>
                <a:ext cx="12528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4876920" y="5943600"/>
            <a:ext cx="1676160" cy="50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77120" cy="351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120A-D685-43B2-8EF9-55777EEDAB00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79800" y="304920"/>
            <a:ext cx="552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1 Control de flujo: ventana desliz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508640" y="3689280"/>
                <a:ext cx="125280" cy="2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47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1600200" y="3809880"/>
          <a:ext cx="5638680" cy="27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809880"/>
                    <a:ext cx="5638680" cy="27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1600200" y="914400"/>
          <a:ext cx="5562720" cy="261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914400"/>
                    <a:ext cx="5562720" cy="26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4114440" y="335268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&gt; 2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160" y="6400800"/>
            <a:ext cx="114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 &lt; 2a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EE8E-D57F-4023-B6C1-2A16333A47C3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Principio bá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regar redundancia a los datos origin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s características de la función f(Datos) determina la capacidad de detección de erro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1600" y="304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2 Detección de errores.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2030400" y="2201760"/>
          <a:ext cx="5145120" cy="15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0" y="2201760"/>
                    <a:ext cx="5145120" cy="15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533520" y="3886200"/>
            <a:ext cx="7924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19000" indent="-285480">
              <a:lnSpc>
                <a:spcPct val="3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Verificación de Redundancia Cíclica (CR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ocida también como Secuencia de Verificación de Trama (FC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cuado para detectar ráfagas de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ípicamente de 16 ó 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do normalmente en hard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goritmo matemático basado en división binaria módulo 2 (X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20E7-9281-42A5-96C2-1C5FB12C037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5760" y="304920"/>
            <a:ext cx="62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2 Detección de errores. Operación del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4320" y="914400"/>
            <a:ext cx="375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 Mensaje de datos (k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=  Mensaje de verificación  (n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=  Trama a ser transmitida  (k+n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=  Polinomio generador  (n+1 bi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066680" y="1143000"/>
          <a:ext cx="2629080" cy="10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143000"/>
                    <a:ext cx="26290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25760" y="2286000"/>
            <a:ext cx="6509880" cy="29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DIFICACIÓN: Se hace que la trama a transmitirse sea múltiplo de 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cedimiento en el transmis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 Agregue  n ceros al mensaje M.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. Divida entre P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M / P  = Q + R / P        F= 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3. Sumar F al mensaje extendido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 = 2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M + 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rocedimiento en el recept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1. Dividir T entre P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 / P = 2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M/ P + F / P  = Q + F / P + F / 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2. Si no hay residuo, OK.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 / P = Q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s mensajes anteriores se pueden manejar en forma de polinom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M = 1 1 0 1 0 1      M(x)  =  1· x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+ 1· x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+ 0· x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+ 1· x</a:t>
            </a:r>
            <a:r>
              <a:rPr b="0" lang="es-ES_tradnl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+ 0· x +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4648320" y="5791320"/>
            <a:ext cx="3733560" cy="11286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834920" y="6172200"/>
            <a:ext cx="278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inomios generadores típic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1186-ECFF-4021-A70B-2C464711F602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838080"/>
            <a:ext cx="60958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1000" y="457200"/>
            <a:ext cx="72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1 Definición, objetivos y elementos de una red de compu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914400"/>
            <a:ext cx="7391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lemen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Workstations, Terminales, PC, Mainfram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ervidores  (de archivos, impresión, correo, proxies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arjetas de red (NIC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oftware: Sistemas operativos de red, drivers  y de aplicacion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spositivos de interconexión: concentradores o hubs, puentes, ruteadores, gatew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dios de transmisión, coaxial, fibra óptica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3657600"/>
          <a:ext cx="365760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36576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3429000" y="5867280"/>
          <a:ext cx="1038240" cy="304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5867280"/>
                    <a:ext cx="10382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2743200" y="5334120"/>
            <a:ext cx="83808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81640" y="6172200"/>
            <a:ext cx="87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o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267080" y="5943600"/>
            <a:ext cx="13716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5562720" y="3581280"/>
          <a:ext cx="3181320" cy="306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3581280"/>
                    <a:ext cx="318132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DB3A-5DEA-4AD2-8AED-A1E558878FC4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685440" y="845640"/>
            <a:ext cx="792468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Ejempl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= 1 1 0 0 11  P =  1 1 0 0 1   F = 4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560" y="30492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2 Detección de errores.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5562720" y="838080"/>
            <a:ext cx="2360520" cy="3505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" y="4233960"/>
            <a:ext cx="7924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pacidad de detección de err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s los errores simples (1 bit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os los errores dobles, mientras P(x), contenga al menos tres términ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lquier número impar de errores mientras P(x) tenga a (x+1) como fac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lquier ráfaga de error menor a n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19000" indent="-2854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mayor parte de la ráfaga de errores de más de n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F9A-4E1E-49DA-AAA8-0A0BCFA23FF3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685440" y="76212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Implem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mpuertas Xor y registros de corr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gistro de corrimiento de n bits (longitud de 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áximo n compuertas X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2440" indent="-279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presencia o ausencia de una compuerta corresponde con la presencia o ausencia de un término en P(x)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33880" y="254160"/>
            <a:ext cx="435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2 Detección de errores.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143000" y="4724280"/>
            <a:ext cx="1219320" cy="279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12000" y="4648320"/>
            <a:ext cx="6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(x)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317360" y="4724280"/>
            <a:ext cx="3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5410080"/>
            <a:ext cx="14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=101000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17000" y="5943600"/>
            <a:ext cx="65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745000" y="64771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2514600" y="3733920"/>
            <a:ext cx="4648320" cy="30556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135160" y="65530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6781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209680" y="2514600"/>
          <a:ext cx="533412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533412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"/>
          <p:cNvSpPr/>
          <p:nvPr/>
        </p:nvSpPr>
        <p:spPr>
          <a:xfrm>
            <a:off x="7543800" y="2590920"/>
            <a:ext cx="75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892960" y="342900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o 1 b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29200" y="3352680"/>
            <a:ext cx="13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uerta X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A032-76C6-4FF4-B760-EE8038E5242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609480" y="83772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Son los mecanismos para corregir los errores detectados por el recep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ipos de err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2311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perd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2311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dañada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écnicas de corrección de err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2311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orrección en el receptor (FE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-23112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tición automática de repetición (ARQ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3120" indent="0">
              <a:lnSpc>
                <a:spcPct val="2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AR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0492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3 Control de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61400" y="4495680"/>
            <a:ext cx="426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asado e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cción de err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ransmision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nocimientos positivos (AC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nocimientos nega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oriz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799520" y="4495680"/>
            <a:ext cx="3091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écnic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da y esp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reso a 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hazo selec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143000" y="4495680"/>
            <a:ext cx="3809880" cy="18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34120" y="4495680"/>
            <a:ext cx="2514600" cy="1862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81BF-7E92-42A2-87D0-87EF44E6C61D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04920" y="30492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3 Control de errores: ARQ de parada y esp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4800" y="846000"/>
            <a:ext cx="4572360" cy="53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Requerimiento de buffer míni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In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x envía una 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Rx  verifica la trama recibida y enví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un ACK ó NA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El Tx espera un ACK o N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 ACK ..... Siguiente tr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 NACK ... Retransmi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rr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os reconocimientos pueden perder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Trama perd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. Usar temporiz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osible duplicación de tram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. Numerar las tra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Cuantos números de secuencia se requieren?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34240" y="3581280"/>
            <a:ext cx="1070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a perd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trans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6840" y="5334120"/>
            <a:ext cx="1012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perd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retransm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9680" y="5672160"/>
            <a:ext cx="81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 descar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plic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6019920" y="990720"/>
          <a:ext cx="2428920" cy="54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990720"/>
                    <a:ext cx="2428920" cy="54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"/>
          <p:cNvSpPr/>
          <p:nvPr/>
        </p:nvSpPr>
        <p:spPr>
          <a:xfrm>
            <a:off x="5186160" y="472428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iz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09840" y="2971800"/>
            <a:ext cx="1041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oriza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07E-6234-4AA1-AB0E-FE0139F7B9C8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80520" y="30492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3 Control de errores: Regresar a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73680" y="838080"/>
            <a:ext cx="4913640" cy="60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asado en ventana desliz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quiere un buffer del tamaño de la ventana W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x envía trama mientras no se cierre su vent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Rx  verifica la trama recibida y env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n ACK o REJ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Tx espera un ACK o REJ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ACK ..... Siguiente t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i REJ N ... Retransmite a partir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 la trama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rrores adicion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perdida y ventana abie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Trama perdida y ventana cer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érdida de reconocimientos RR 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¿Cuál debe ser el tamaño de la venta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ara un campo de secuencia de k bi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= 2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-1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5262480" y="1100160"/>
          <a:ext cx="2959200" cy="54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2480" y="1100160"/>
                    <a:ext cx="2959200" cy="54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"/>
          <p:cNvSpPr/>
          <p:nvPr/>
        </p:nvSpPr>
        <p:spPr>
          <a:xfrm>
            <a:off x="8001720" y="4648320"/>
            <a:ext cx="715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ra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descar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94960" y="5410080"/>
            <a:ext cx="84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s r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m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8B2D-C44D-4D91-835E-5BBAC02D96A6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533160" y="254160"/>
            <a:ext cx="336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.3 Control de err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762120"/>
            <a:ext cx="7543800" cy="36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Times New Roman"/>
              </a:rPr>
              <a:t>Rechazo Selectiv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racteríst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ado en ventana desliz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rimiento de buffer del tamaño de la ventana W pero más difícil de   manej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ic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amente retransmite las tramas con error o para las cuales venció 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orizad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¿Cuál debe ser el tamaño de la ventana para un campo de secuencia de k bit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2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2438280" y="4343400"/>
            <a:ext cx="3810240" cy="25653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326280" y="655308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4648320"/>
            <a:ext cx="13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til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352680" y="5410080"/>
            <a:ext cx="685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Stop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wa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4724280"/>
            <a:ext cx="8384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=2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o-back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57800" y="49528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=2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chzao S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91120" y="5410080"/>
            <a:ext cx="914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N=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Go-back 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rechazo s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5B6E-9A84-414C-8A04-6AB191C42322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80520" y="30492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.7 Enlace de datos de alto nivel (HD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846000"/>
            <a:ext cx="7772400" cy="4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jemplos de oper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33520" y="1281240"/>
            <a:ext cx="4876560" cy="322092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2"/>
          <a:stretch/>
        </p:blipFill>
        <p:spPr>
          <a:xfrm>
            <a:off x="5562720" y="1295280"/>
            <a:ext cx="2949480" cy="314964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835560" y="4546440"/>
            <a:ext cx="1335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tablecimi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y liber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 en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513160" y="4630680"/>
            <a:ext cx="112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nterecamb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bidirecci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66000" y="4630680"/>
            <a:ext cx="100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 ocup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9760" y="472428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reso a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13400" y="4572000"/>
            <a:ext cx="119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riz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nci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62840" y="5562720"/>
            <a:ext cx="2233440" cy="12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rivados de HDLC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PB  en X.25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PD en ISD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PM en mod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762120"/>
            <a:ext cx="8305920" cy="617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6019920"/>
            <a:ext cx="35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LC en L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PF en Frame rel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DLC  en versión IB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158-8A43-448D-8768-A1D4BF08B0EA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762120" y="846000"/>
            <a:ext cx="79246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erspectiva histór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as redes de computadoras se empezaron a implementar en los 60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inicio el procesamiento era centralizado en Mainframes. Tim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Los usuarios se conectaban por medios de terminales tont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los 80s se popularizan las computadoras personales que tienen capacidad para realizar procesa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ualmente, procesamiento distribuido en muchas máqu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657600"/>
            <a:ext cx="419112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Aplic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es corporativ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es en centros de Educ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acceso remoto (VPN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reservació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cajero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stemas de información distribu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rconexión mundial (Inter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3581280"/>
            <a:ext cx="3657600" cy="24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Tendenci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des de mayor veloc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yor cobertura y menor cos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ntegración de servicios: 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texto, voz, audio, imagen, vid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ransferencia seg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merci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3581280"/>
            <a:ext cx="4038840" cy="310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581280"/>
            <a:ext cx="3505320" cy="25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41000" y="457200"/>
            <a:ext cx="728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1 Definición, objetivos y elementos de una red de computad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FEE8-DC3B-46F8-B18C-1B542926CBCF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pología.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 la forma en que las estaciones están conectadas a la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4572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Clasificación de las redes por: su topologí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388620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stre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3809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i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990720"/>
            <a:ext cx="8153640" cy="601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905120"/>
          <a:ext cx="2009880" cy="192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05120"/>
                    <a:ext cx="2009880" cy="19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2514600" y="2209680"/>
          <a:ext cx="3838680" cy="10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14600" y="2209680"/>
                    <a:ext cx="383868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"/>
          <p:cNvGraphicFramePr/>
          <p:nvPr/>
        </p:nvGraphicFramePr>
        <p:xfrm>
          <a:off x="6553080" y="1981080"/>
          <a:ext cx="1791000" cy="1838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3080" y="1981080"/>
                    <a:ext cx="1791000" cy="18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"/>
          <p:cNvGraphicFramePr/>
          <p:nvPr/>
        </p:nvGraphicFramePr>
        <p:xfrm>
          <a:off x="1454040" y="1778040"/>
          <a:ext cx="6235920" cy="4064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54040" y="1778040"/>
                    <a:ext cx="623592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1371600" y="4419720"/>
          <a:ext cx="6229440" cy="243828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371600" y="4419720"/>
                    <a:ext cx="622944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C576-9C17-498C-BBCE-ADC865B4B87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2040" y="33804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Clasificación de las redes por: su 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6840" y="845640"/>
            <a:ext cx="8001000" cy="54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edes de área local (L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es de propiedad privada, localizadas dentro de un edificio o grupo de él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es de transferencia altas. 4, 10, 16,  100, 1000 Mbp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s de transmisión: Par trenzado, coaxial, fibra óptica, radio, infrarro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típicos de archivos, impresión, correo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: Ethernet, Token ring, Token bu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edes de área amplia (W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es públicas o privadas que abarcan uno o varios paí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es de transferencia  bajas.  9600 bps, 64 Kbps, 2 Mbps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edios de transmisión: Fibra óptica, Par trenz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típicos:  acceso remoto e interconexión de L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: ISDN, X.25, Frame Rel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14A7-A106-4393-9F1F-13C0DDB15CC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3160" y="1066680"/>
            <a:ext cx="8001000" cy="22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Redes de área metropolitana (MA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es privadas que abarcan un grupo de oficinas corporativas generalmente distribuidas en una ciu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Velocidades de transferencia de 100 Mbps en adelant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rvicios de interconexión de LANs (Backbone), tranferencia de voz, vide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ejemplos típicos de redes MAN son: FDDI, DQDB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4960" y="37339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846000"/>
            <a:ext cx="8382240" cy="60962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2040" y="338040"/>
            <a:ext cx="609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Clasificación de las redes por: su cober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19320" y="3581280"/>
          <a:ext cx="3181320" cy="306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81280"/>
                    <a:ext cx="3181320" cy="306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4" name=""/>
          <p:cNvGrpSpPr/>
          <p:nvPr/>
        </p:nvGrpSpPr>
        <p:grpSpPr>
          <a:xfrm>
            <a:off x="4495680" y="3429000"/>
            <a:ext cx="4007160" cy="3225960"/>
            <a:chOff x="4495680" y="3429000"/>
            <a:chExt cx="4007160" cy="3225960"/>
          </a:xfrm>
        </p:grpSpPr>
        <p:graphicFrame>
          <p:nvGraphicFramePr>
            <p:cNvPr id="95" name=""/>
            <p:cNvGraphicFramePr/>
            <p:nvPr/>
          </p:nvGraphicFramePr>
          <p:xfrm>
            <a:off x="4724280" y="3429000"/>
            <a:ext cx="3733920" cy="3225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24280" y="3429000"/>
                      <a:ext cx="3733920" cy="322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" name=""/>
            <p:cNvSpPr/>
            <p:nvPr/>
          </p:nvSpPr>
          <p:spPr>
            <a:xfrm>
              <a:off x="4495680" y="3505320"/>
              <a:ext cx="668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24960" y="4267080"/>
              <a:ext cx="1346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stación de trabaj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22640" y="5715000"/>
              <a:ext cx="88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ervid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2ACE-22E2-4FBD-BD99-DEEF4ABB69B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35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Difusión (Broadcast)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datos transmitidos por una estación son recibidas por todas las demá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l medio de comunicación es compartido. Por ejemplo el aire, el cab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quiere de un mecanismo que regule el acceso al medio (MA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a en </a:t>
            </a:r>
            <a:r>
              <a:rPr b="1" i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LA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 y M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a red está constituida por nodos de conmutación interconectad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xiste más de una trayectoria o ruta entre cada  estación origen y desti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e requiere un mecanismo d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</a:rPr>
              <a:t>enrut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sada en redes WAN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y actualmente en L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45720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Clasificación de las redes por:  la trans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4952880"/>
            <a:ext cx="2057400" cy="19051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743200" y="64771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fu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1880" y="64771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nmu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91320" y="4648320"/>
            <a:ext cx="2301840" cy="2225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FC3-197D-4F5C-BD98-94C2FFDCF06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Esta clasficación está ligada con el sistema operativo de 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Peer to peer”.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ada estación tiene servicios que ofrec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ca seguridad y confiabilidad de los da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Util en redes pequeñas y difícil de administrar en redes gran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isma configuración en todas las estacion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 de NOS: Lantastic, Windows para grupos, Windows 95/9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3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Basadas en serv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os servicios (archivos, correo,  impresión) se encuentran en estaciones con alta capacidad de procesamiento, llamadas “servidores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lta seguridad y confiabilidad del uso de los recursos a través de logins y contraseñ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decuado para redes grandes por lo que cuentan con software especial para la Administración de la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Software reducido en las máquinas cliente y software complejo en las máquinas servido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jemplos de NOS: Windows NT, Novell Ne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4572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2 Clasificación de las redes por: la ubicación de serv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914400"/>
            <a:ext cx="81532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.- Introducción a las redes..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4170-78BB-496A-89EA-4BFB45EE738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.T. de Mérida, DIEE, Agosto 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3:08:10Z</dcterms:created>
  <dc:creator>J. Agustín Hernández Benítez</dc:creator>
  <dc:description/>
  <dc:language>en-US</dc:language>
  <cp:lastModifiedBy>José Agustín Hernández B.</cp:lastModifiedBy>
  <cp:lastPrinted>1998-08-21T14:19:15Z</cp:lastPrinted>
  <dcterms:modified xsi:type="dcterms:W3CDTF">2000-07-10T23:43:33Z</dcterms:modified>
  <cp:revision>44</cp:revision>
  <dc:subject/>
  <dc:title>Sin título de diapositiva</dc:title>
</cp:coreProperties>
</file>