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0.wmf" ContentType="image/x-wmf"/>
  <Override PartName="/ppt/media/image18.png" ContentType="image/png"/>
  <Override PartName="/ppt/media/image6.png" ContentType="image/png"/>
  <Override PartName="/ppt/media/image37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68.png" ContentType="image/png"/>
  <Override PartName="/ppt/media/image21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25.png" ContentType="image/png"/>
  <Override PartName="/ppt/media/image62.png" ContentType="image/png"/>
  <Override PartName="/ppt/media/image82.wmf" ContentType="image/x-wmf"/>
  <Override PartName="/ppt/media/image79.png" ContentType="image/png"/>
  <Override PartName="/ppt/media/image67.png" ContentType="image/png"/>
  <Override PartName="/ppt/media/image77.wmf" ContentType="image/x-wmf"/>
  <Override PartName="/ppt/media/image76.png" ContentType="image/png"/>
  <Override PartName="/ppt/media/image75.png" ContentType="image/png"/>
  <Override PartName="/ppt/media/image74.png" ContentType="image/png"/>
  <Override PartName="/ppt/media/image73.wmf" ContentType="image/x-wmf"/>
  <Override PartName="/ppt/media/image33.png" ContentType="image/png"/>
  <Override PartName="/ppt/media/image72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.png" ContentType="image/png"/>
  <Override PartName="/ppt/media/image38.png" ContentType="image/png"/>
  <Override PartName="/ppt/media/image19.png" ContentType="image/png"/>
  <Override PartName="/ppt/media/image41.wmf" ContentType="image/x-wmf"/>
  <Override PartName="/ppt/media/image3.png" ContentType="image/png"/>
  <Override PartName="/ppt/media/image80.png" ContentType="image/png"/>
  <Override PartName="/ppt/media/image15.png" ContentType="image/png"/>
  <Override PartName="/ppt/media/image27.png" ContentType="image/png"/>
  <Override PartName="/ppt/media/image34.png" ContentType="image/png"/>
  <Override PartName="/ppt/media/image7.jpeg" ContentType="image/jpeg"/>
  <Override PartName="/ppt/media/image4.png" ContentType="image/png"/>
  <Override PartName="/ppt/media/image81.png" ContentType="image/png"/>
  <Override PartName="/ppt/media/image16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78.wmf" ContentType="image/x-wmf"/>
  <Override PartName="/ppt/media/image10.png" ContentType="image/png"/>
  <Override PartName="/ppt/media/image47.png" ContentType="image/png"/>
  <Override PartName="/ppt/media/image3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2.docx" ContentType="application/vnd.openxmlformats-officedocument.wordprocessingml.documen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BBF-917A-41BF-AAB0-02395AA3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5900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B976-B575-4009-BBEA-D3D2B84F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590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590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EF18-853A-4810-95CA-766F94AA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1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1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590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590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590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EBD-B027-4B6B-B27D-4B554D10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B22-B583-4633-AFBB-B24FDEB7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CFF5-761E-4524-B858-1F62EEA9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176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963-3B89-44B9-87AF-7B6D4545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76C-0B2A-4F2D-ADEB-310E25BD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77880"/>
            <a:ext cx="77724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0EB-10AA-4563-8110-3C10D26C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176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590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927-CEF6-4E3D-BC83-C4784534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590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983-B9BD-4899-A34D-7AB7B808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5900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3D8A-A907-44E6-A3F9-157E2E63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94188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94188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94188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361F-E4D8-40D4-998B-2C61FB3CE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9.png"/><Relationship Id="rId1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73.wmf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8.wmf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09680" y="1295280"/>
            <a:ext cx="5410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EDES DE AREA LOCAL</a:t>
            </a:r>
            <a:endParaRPr b="0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52680" y="457200"/>
            <a:ext cx="1981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IDAD 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278000" y="3241800"/>
            <a:ext cx="3100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GE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quitectura IEEE 8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s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entes, LAN Swit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ken Ring y 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990720"/>
            <a:ext cx="75438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peración full-d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deshabilita el CSMA/C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velocidad se duplica (20 Mbps, 200 Mbps, etc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portado en: 10Base-T, 10Base-FL, 100Base-FX, 100Base-T2, 1000Base-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0Base-SX, 1000Base-LS y 1000Base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soportado en: 10Base5, 10Base2, 10Base FB y 100Base-T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stringido a enlaces punto a punto entre dos es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mbas estaciones deben soportar la operación full dúplex en los N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mite el control de flujo con tramas de control llamadas “PAUS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mite la facilidad de Agregación de enlace o “trunking” que permite operar múltiples enlaces físicos como uno lógico para aumentar el ancho de ba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.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42A-ABF4-4D14-BA17-60EF4BD77DD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160" y="3580920"/>
            <a:ext cx="8001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. Preámbulo .- Es un tren de bits que permite la sincronización del receptor (1010101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FD. Inicio de trama.- Le indican al receptor el inicio de una tr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 y SA.  Dirección de destino y origen. 2 o 6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- Indica la longitud del área de d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po.  Indica el protocolo de la capa sup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os.- Datos del usuario  (PDU de  LLC o de un protocolo de r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D.  Relleno.- Se utiliza cuando el tamaño de la trama no cumple el tamaño mínimo permit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S.- CRC de 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790960" cy="1876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40600" y="12952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cte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. Ethernet. Formato de T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AA3-7E5D-45A8-B97A-062D6573FCC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 Ethernet. Capa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160" y="2819520"/>
            <a:ext cx="80010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menclatura para redes Etherne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velocidad de operación. 10 para 10Mbps , 100 para 100Mb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tipo de señalización: en banda base (BASE) o en banda ancha (BROAD). En banda base el código utilizado es el Manchester, excepto en el 10Base-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tamaño aproximado de un segmento, dado en cientos de metros. (5 = 500 m). La notación no se cumple en 10BASE-T y F, en donde T significa par trenzado y F indica que se usa la fibra ópt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81080" y="5105520"/>
            <a:ext cx="5105520" cy="1123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82840" y="6324480"/>
            <a:ext cx="226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ñalización  Manch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76520" y="1143000"/>
            <a:ext cx="5715000" cy="1219320"/>
            <a:chOff x="1676520" y="1143000"/>
            <a:chExt cx="5715000" cy="1219320"/>
          </a:xfrm>
        </p:grpSpPr>
        <p:grpSp>
          <p:nvGrpSpPr>
            <p:cNvPr id="123" name=""/>
            <p:cNvGrpSpPr/>
            <p:nvPr/>
          </p:nvGrpSpPr>
          <p:grpSpPr>
            <a:xfrm>
              <a:off x="1676520" y="1828800"/>
              <a:ext cx="5715000" cy="533520"/>
              <a:chOff x="1676520" y="1828800"/>
              <a:chExt cx="5715000" cy="533520"/>
            </a:xfrm>
          </p:grpSpPr>
          <p:sp>
            <p:nvSpPr>
              <p:cNvPr id="124" name=""/>
              <p:cNvSpPr/>
              <p:nvPr/>
            </p:nvSpPr>
            <p:spPr>
              <a:xfrm>
                <a:off x="1676520" y="1828800"/>
                <a:ext cx="114300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677600" y="1955880"/>
                <a:ext cx="1028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0Base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00400" y="1828800"/>
                <a:ext cx="114300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248520" y="1828800"/>
                <a:ext cx="114300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24640" y="1828800"/>
                <a:ext cx="114300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201480" y="1955880"/>
                <a:ext cx="107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0Base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02040" y="1955880"/>
                <a:ext cx="90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Bas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26280" y="1955880"/>
                <a:ext cx="89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Base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988000" y="1143000"/>
              <a:ext cx="3051000" cy="533520"/>
              <a:chOff x="2988000" y="1143000"/>
              <a:chExt cx="3051000" cy="533520"/>
            </a:xfrm>
          </p:grpSpPr>
          <p:sp>
            <p:nvSpPr>
              <p:cNvPr id="133" name=""/>
              <p:cNvSpPr/>
              <p:nvPr/>
            </p:nvSpPr>
            <p:spPr>
              <a:xfrm>
                <a:off x="2990880" y="1143000"/>
                <a:ext cx="30481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88000" y="1295280"/>
                <a:ext cx="3044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trol de Acceso al Medio CSMA/C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DAAF-D70D-4A87-8869-684E217BA78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120" y="3581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dio de transmisió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- Opciones: Cable coaxial, par trenzado o fibra ópt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gment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- Es el medio de transmisión en el que la señal no se regen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erfaz Dependiente del Medio (MDI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.- Es la pieza de hardware que hace la conexión directa al cable de red, es decir, son los conectores BNC, RJ-45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Unidad de Acceso al Medio (MAU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.- Transceiver que transmite y recibe las señales del medio, tanto de datos como de colis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erfaz de la Unidad de Acceso (AUI).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Cable del transceiver al DTE que lleva  los datos e indicación de colisiones y la energía para el MA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quipo Terminal de Datos (DTE).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Es el equipo con la tarjeta interfaz de red (N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647960" cy="2306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 Ethernet. Capa física, nomencl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3F0-1FE0-47DB-9259-0C3FCB8CE5B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 Ethernet. Capa física. 10Base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001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ntaj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ran cobertura  para usarse como 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ble con poca atenuación y excelente blinda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fícil de guiar por su inflex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pertura en el bus ocasiona una falla to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fícil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usceptible a lazos de tier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37000" y="3809880"/>
            <a:ext cx="6782760" cy="2598840"/>
            <a:chOff x="837000" y="3809880"/>
            <a:chExt cx="6782760" cy="2598840"/>
          </a:xfrm>
        </p:grpSpPr>
        <p:graphicFrame>
          <p:nvGraphicFramePr>
            <p:cNvPr id="145" name=""/>
            <p:cNvGraphicFramePr/>
            <p:nvPr/>
          </p:nvGraphicFramePr>
          <p:xfrm>
            <a:off x="1676160" y="3886200"/>
            <a:ext cx="5943600" cy="2522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160" y="3886200"/>
                      <a:ext cx="5943600" cy="252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>
              <a:off x="2506320" y="3809880"/>
              <a:ext cx="300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ngitud máxima del segmento =500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24000" y="4114800"/>
              <a:ext cx="380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áximo número de estaciones por segmento =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68560" y="5486400"/>
              <a:ext cx="185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stancia mínima ent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os estaciones = 2.5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8680" y="6095880"/>
              <a:ext cx="29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ámetro máximo de la red = 2,800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2520" y="464832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peti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7000" y="4572000"/>
              <a:ext cx="102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ermina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99720" y="4343400"/>
              <a:ext cx="102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ermina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17120" y="472428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361600" y="45716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59400" y="45720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U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429000" y="4724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AC5-CED7-4572-9306-58E1E3AA6D7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 Ethernet. Capa física. 10Base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724280" cy="28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5715000" y="990720"/>
          <a:ext cx="2505240" cy="359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990720"/>
                    <a:ext cx="2505240" cy="35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533520" y="4800600"/>
            <a:ext cx="800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pología de B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ble grueso (1cm diámetro), impedancia característica de 50 ohms (RG 8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ble con cubierta exterior de PVC (color amarillo) o Teflón (color naranja-café) para exterio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erminadores tipo N de 50 ohms en cada extremo evitan reflexiones de la señ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lamente una de las terminaciones deberá aterriza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381-333E-42DB-8D74-05EC3C167D9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723920" y="990720"/>
            <a:ext cx="396252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pología en b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ble delgado (0.5 cm), flexible y puede ser dirigible hasta la P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rato pero difícil de administr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UI, MAU y MDI inter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axial  RG 58 A/U, RG 58 C/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terrizado en un extre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09480" y="1015920"/>
            <a:ext cx="4114800" cy="2403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 Ethernet. Capa física. 10 B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08400" y="3886200"/>
            <a:ext cx="7240320" cy="2625840"/>
            <a:chOff x="608400" y="3886200"/>
            <a:chExt cx="7240320" cy="2625840"/>
          </a:xfrm>
        </p:grpSpPr>
        <p:graphicFrame>
          <p:nvGraphicFramePr>
            <p:cNvPr id="171" name=""/>
            <p:cNvGraphicFramePr/>
            <p:nvPr/>
          </p:nvGraphicFramePr>
          <p:xfrm>
            <a:off x="1371600" y="3962520"/>
            <a:ext cx="6477120" cy="2549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71600" y="3962520"/>
                      <a:ext cx="6477120" cy="254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" name=""/>
            <p:cNvSpPr/>
            <p:nvPr/>
          </p:nvSpPr>
          <p:spPr>
            <a:xfrm>
              <a:off x="2966760" y="6172200"/>
              <a:ext cx="278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ámetro máximo de la red = 925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90320" y="3886200"/>
              <a:ext cx="305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ngitud máxima del segmento =185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95760" y="4114800"/>
              <a:ext cx="380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áximo número de estaciones por segmento =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47440" y="4419720"/>
              <a:ext cx="102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ermina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400" y="4724280"/>
              <a:ext cx="102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ermina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95160" y="472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peti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92240" y="5638680"/>
              <a:ext cx="185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stancia mínima ent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os estaciones = 0.5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C6C-D498-40C4-AAFF-9DE7B0534DC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1760" y="434304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pología: Estrell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do central : Concentrador o 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dio: par trenzado UT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ran aceptación en edificios de oficinas por su fácil administración bajo las normas de cableado estruc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ngitud máxima del segmento: 100 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ngitud máxima de la red: Determinada por la regla de re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724280" cy="3062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 Ethernet. Capa física. 10 Base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181480" y="990720"/>
          <a:ext cx="3292560" cy="347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990720"/>
                    <a:ext cx="3292560" cy="34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BB04-5530-412B-9463-7D9B6C96EED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914040" y="1143000"/>
            <a:ext cx="4876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ntaj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lerante a fallos. Particionado de seg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ácil de monitoreo de fa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 fácil mover las estaciones y hacer camb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mplea cableado común y ba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tancia máxima a la estación de solo 100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cable UTP la hace sensible al ru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 Ethernet. Capa física. 10 Base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791320" y="1752480"/>
          <a:ext cx="2743200" cy="15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752480"/>
                    <a:ext cx="27432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143000" y="4800600"/>
          <a:ext cx="2276640" cy="15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800600"/>
                    <a:ext cx="227664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962520" y="4191120"/>
          <a:ext cx="4038480" cy="259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4191120"/>
                    <a:ext cx="403848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B7E9-4C24-46AD-B07B-86AF03A2FE7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09480" y="4495320"/>
            <a:ext cx="7848720" cy="19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bra óptica MMD (62.5/125) en la ventana de 850 n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U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ectores del tipo ST (ej. BFOC/2.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es variantes : 10BASEFP,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BASEF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y 10BASEF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BASEFL es el más usado y sustituye a la especificación FOIR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pecifica un enlace asíncrono punto-punto de 2 km máximo (1 km en FOIR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4647960" cy="3132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 Ethernet. Capa física. 10 Bas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BAC-A78E-422B-B5C3-755C9974231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93204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o de referencia de IEEE 8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de la capa de enlace de datos 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LC (Control lógico del enlac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 (Control de acceso al me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1 Arquitectura IEEE 8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932040"/>
            <a:ext cx="3809880" cy="3057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3962160" cy="1052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03200" y="25909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to de trama MAC gené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114800"/>
            <a:ext cx="784872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trol lógico del enlace (LL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porciona a las capas superiores conectividad en una LAN sin importar las características dela subcapa MAC utiliz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mite identificar múltiples protocolos de red mediante los SA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ervicios ofrecidos por LL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po 1. Sin conexión y sin reconocimient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 El más us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po 2. Con conex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po 3. Sin conexión y con reconoc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67D2-437B-4B61-A378-67B389B7D6E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3 Ethernet. 10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581280" y="5791320"/>
          <a:ext cx="50101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5791320"/>
                    <a:ext cx="50101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762120" y="3352680"/>
          <a:ext cx="5364000" cy="20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352680"/>
                    <a:ext cx="53640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295280" y="990720"/>
          <a:ext cx="6915240" cy="24764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990720"/>
                    <a:ext cx="691524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ECB7-F87C-45D9-9ACE-5E1E162F214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3 Repetid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3520" y="932040"/>
            <a:ext cx="815328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peran en la capa física del modelo O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eden ser de dos puertos o multipuer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u función es regenerar o amplificar la señal (tramas o colisiones ) que llegan a uno de sus puertos y repetirla en los de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ominio de colisión: región en la que las colisiones son vistas por to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repetidores mantienen el dominio de colis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repetidores deben conectarse de tal manera que los segmentos que una, no formen lazos cerr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bido a que operan en la capa física, no tienen mucho procesamiento y por ello son los dispositivos de interconexión más rápi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lgunos tienen la capacidad para inhabilitar alguno de sus puertos ante fallas (Particionad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8120" y="4876920"/>
            <a:ext cx="3124080" cy="18050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5ED-C970-4495-B4A2-6E0935975DB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3 Repetid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3520" y="932040"/>
            <a:ext cx="8153280" cy="27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glas de repetido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Segmentos de enlace. No tienen estaciones excepto por los re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Segmentos mezclados. Contienen est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la 5-4-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Estaciones cualesquiera pueden estar conectados hasta por 5 segmentos, 4 repetidores, en donde 3 de los segmentos pueden ser segmentos mezclados y 2 segmentos de enl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ndo la ruta consiste de 3 repetidores y 4 segmentos,  los 4 segmentos pueden tener est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514600" y="3962520"/>
            <a:ext cx="4267080" cy="2974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13FF-8F88-4DDA-8EC1-480F64A97D0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4 Fast Eth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3520" y="2590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pología: estrel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bertura reducida debido al protocolo MAC más que por la atenu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porciona una fácil migración de las redes de 10 Mbps mediante la capacidad de Autonegociación de los dispositiv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petidores (Hub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ase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solo repetidor I por dominio de colisión. Diámetro máximo de 200 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fectúa traslación de señal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ase II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áximo dos repetidores máximos por dominio de colis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ámetro máximo de 205 m. (5 m para interconexión de repeti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efectúa conversión de señal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438280" y="1143000"/>
            <a:ext cx="4191120" cy="1219320"/>
            <a:chOff x="2438280" y="1143000"/>
            <a:chExt cx="4191120" cy="1219320"/>
          </a:xfrm>
        </p:grpSpPr>
        <p:sp>
          <p:nvSpPr>
            <p:cNvPr id="223" name=""/>
            <p:cNvSpPr/>
            <p:nvPr/>
          </p:nvSpPr>
          <p:spPr>
            <a:xfrm>
              <a:off x="2438280" y="1828800"/>
              <a:ext cx="11430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39360" y="1955880"/>
              <a:ext cx="110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Base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62520" y="1828800"/>
              <a:ext cx="11430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86400" y="1828800"/>
              <a:ext cx="11430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63240" y="1955880"/>
              <a:ext cx="109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BaseF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87480" y="1955880"/>
              <a:ext cx="110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Base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2988000" y="1143000"/>
              <a:ext cx="3051000" cy="533520"/>
              <a:chOff x="2988000" y="1143000"/>
              <a:chExt cx="3051000" cy="533520"/>
            </a:xfrm>
          </p:grpSpPr>
          <p:sp>
            <p:nvSpPr>
              <p:cNvPr id="230" name=""/>
              <p:cNvSpPr/>
              <p:nvPr/>
            </p:nvSpPr>
            <p:spPr>
              <a:xfrm>
                <a:off x="2990880" y="1143000"/>
                <a:ext cx="30481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988000" y="1295280"/>
                <a:ext cx="3044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trol de Acceso al Medio CSMA/C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B11-E006-477E-9DB4-7E13CAECBB4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5720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4 Fast Ethernet. 100Base-TX y F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3809880" cy="23018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343400" y="3429000"/>
            <a:ext cx="4114800" cy="2800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533520" y="3733920"/>
            <a:ext cx="3763800" cy="1287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826920" y="5572080"/>
            <a:ext cx="311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ñalización MLT3 en 100Base 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spectro &lt; 30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ivel de DC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07440" y="6248520"/>
            <a:ext cx="32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te de la señalización 4B/5B-NR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asa de señalización= 125 Mbau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0" y="914400"/>
          <a:ext cx="4071960" cy="235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914400"/>
                    <a:ext cx="407196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2F80-6351-42D7-A1A5-D3DBE2118DB0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753080" cy="275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7010280" y="2286000"/>
          <a:ext cx="1546200" cy="206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2286000"/>
                    <a:ext cx="154620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533520" y="3809880"/>
            <a:ext cx="3886200" cy="20210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18120" y="5943600"/>
            <a:ext cx="435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8B6T= 8 símbolos binarios a 6 símbolos tern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Nivel de DC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Su espectro cabe en un Cat 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334120" y="914400"/>
            <a:ext cx="3276360" cy="1295280"/>
            <a:chOff x="5334120" y="914400"/>
            <a:chExt cx="3276360" cy="1295280"/>
          </a:xfrm>
        </p:grpSpPr>
        <p:sp>
          <p:nvSpPr>
            <p:cNvPr id="250" name=""/>
            <p:cNvSpPr/>
            <p:nvPr/>
          </p:nvSpPr>
          <p:spPr>
            <a:xfrm>
              <a:off x="5486040" y="1066680"/>
              <a:ext cx="609480" cy="106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19760" y="1066680"/>
              <a:ext cx="609120" cy="106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95880" y="129528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87480" y="13716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21560" y="1143000"/>
              <a:ext cx="66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P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095880" y="198108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95880" y="152388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95880" y="175248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30120" y="10666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30120" y="175248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30120" y="1295280"/>
              <a:ext cx="34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30120" y="1523880"/>
              <a:ext cx="34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4120" y="914400"/>
              <a:ext cx="3276360" cy="1295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800600" y="4419720"/>
            <a:ext cx="3679560" cy="2437920"/>
            <a:chOff x="4800600" y="4419720"/>
            <a:chExt cx="3679560" cy="2437920"/>
          </a:xfrm>
        </p:grpSpPr>
        <p:pic>
          <p:nvPicPr>
            <p:cNvPr id="264" name="" descr=""/>
            <p:cNvPicPr/>
            <p:nvPr/>
          </p:nvPicPr>
          <p:blipFill>
            <a:blip r:embed="rId5"/>
            <a:stretch/>
          </p:blipFill>
          <p:spPr>
            <a:xfrm>
              <a:off x="4800600" y="4419720"/>
              <a:ext cx="3679560" cy="24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7644240" y="472320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33 Mb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44240" y="52297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33 Mb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44240" y="614088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33 Mb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5720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4 Fast Ethernet. 100Base-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7E44-845A-456F-BAEF-43A2BEB38137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335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4 Fast Ethernet.Dominios de colisión y auto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59480" y="5410080"/>
            <a:ext cx="710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s dispositivos 10/100 Mbps efectúan la Autonegociación, a través de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ie de pulsos (NLP) entre tramas, en la cual acuerdan transmitir a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pacidad máxima  a la que ambos pueden hacer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9160" y="4572000"/>
            <a:ext cx="24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uto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816840" y="1066680"/>
            <a:ext cx="7415280" cy="3733920"/>
            <a:chOff x="816840" y="1066680"/>
            <a:chExt cx="7415280" cy="3733920"/>
          </a:xfrm>
        </p:grpSpPr>
        <p:graphicFrame>
          <p:nvGraphicFramePr>
            <p:cNvPr id="275" name=""/>
            <p:cNvGraphicFramePr/>
            <p:nvPr/>
          </p:nvGraphicFramePr>
          <p:xfrm>
            <a:off x="990720" y="1390680"/>
            <a:ext cx="7029360" cy="34099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1390680"/>
                      <a:ext cx="7029360" cy="340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7" name=""/>
            <p:cNvSpPr/>
            <p:nvPr/>
          </p:nvSpPr>
          <p:spPr>
            <a:xfrm>
              <a:off x="816840" y="1066680"/>
              <a:ext cx="741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istancias máximas de dominio de colisión para Fast Ethernet half dúpl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9583-C99E-4CD7-8324-9D3F9E45A1E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5720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4 Gigabit E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533520" y="281916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pología en estrel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solo repetidor en el dominio de col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SMA/CD con algunas modif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dios de transmisión: fibra óptica, twinax, par tren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rmalmente opera en full-dúple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porta Agrupación de enl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neja control de flu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pa física basada en el estándar de Canal de Fi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plicaciones de backbone, conexión a servi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037960" y="1143000"/>
            <a:ext cx="5715360" cy="1219320"/>
            <a:chOff x="2037960" y="1143000"/>
            <a:chExt cx="5715360" cy="1219320"/>
          </a:xfrm>
        </p:grpSpPr>
        <p:grpSp>
          <p:nvGrpSpPr>
            <p:cNvPr id="282" name=""/>
            <p:cNvGrpSpPr/>
            <p:nvPr/>
          </p:nvGrpSpPr>
          <p:grpSpPr>
            <a:xfrm>
              <a:off x="2037960" y="1828800"/>
              <a:ext cx="5715360" cy="533520"/>
              <a:chOff x="2037960" y="1828800"/>
              <a:chExt cx="5715360" cy="533520"/>
            </a:xfrm>
          </p:grpSpPr>
          <p:sp>
            <p:nvSpPr>
              <p:cNvPr id="283" name=""/>
              <p:cNvSpPr/>
              <p:nvPr/>
            </p:nvSpPr>
            <p:spPr>
              <a:xfrm>
                <a:off x="2038320" y="1828800"/>
                <a:ext cx="114300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037960" y="1981080"/>
                <a:ext cx="109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00BaseC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562200" y="1828800"/>
                <a:ext cx="114300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610320" y="1828800"/>
                <a:ext cx="114300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086440" y="1828800"/>
                <a:ext cx="114300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561480" y="1981080"/>
                <a:ext cx="108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00BaseL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161680" y="1981080"/>
                <a:ext cx="107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00BaseS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686280" y="198108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00Bas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349440" y="1143000"/>
              <a:ext cx="3134160" cy="533520"/>
              <a:chOff x="3349440" y="1143000"/>
              <a:chExt cx="3134160" cy="533520"/>
            </a:xfrm>
          </p:grpSpPr>
          <p:sp>
            <p:nvSpPr>
              <p:cNvPr id="292" name=""/>
              <p:cNvSpPr/>
              <p:nvPr/>
            </p:nvSpPr>
            <p:spPr>
              <a:xfrm>
                <a:off x="3352680" y="1143000"/>
                <a:ext cx="30481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349440" y="1295280"/>
                <a:ext cx="3134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trol de Acceso al Medio CSMA/CD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74B-FB11-4BF0-8CF4-F9647F14E3F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5720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4 Gigabit Ehern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09120" y="9903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000BaseL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ser de onda larga (1300 nm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bra Monomodo SMF (9u) y Multimodo MMF (62.5 u y 50 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tancia máxima con SMF = 3000 m, MMF=550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ector 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000BaseS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áser de onda corta (850 n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bra multimodo MMF (62.5 u y 50 u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tancia máxima MMF de 62.5 u =300 m, MMF de 50 u =5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ector 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000Bas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winax Cable balanceado de cobre blindado (150 oh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tancia máxima de 2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ector HS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000Ba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TP Cat 5  y  conector RJ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misión en los cuatro pa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tancia máxima de 100 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58F-4825-4622-8701-AABFCD96D3A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5720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4 Gigabit Ehern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dificación de lín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0Base LX, SX y CX utilizan 8B/10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Base T utiliza PAM de 5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SMA/CD variaciones (Half dúp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ngitud de trama mínima de 512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xtensión de portadora para tramas menores a 512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misión continua. No libera el canal después de transmitir una tr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4419720"/>
            <a:ext cx="7943760" cy="2838240"/>
            <a:chOff x="533520" y="4419720"/>
            <a:chExt cx="7943760" cy="2838240"/>
          </a:xfrm>
        </p:grpSpPr>
        <p:graphicFrame>
          <p:nvGraphicFramePr>
            <p:cNvPr id="301" name=""/>
            <p:cNvGraphicFramePr/>
            <p:nvPr/>
          </p:nvGraphicFramePr>
          <p:xfrm>
            <a:off x="533520" y="4876920"/>
            <a:ext cx="7943760" cy="23810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4876920"/>
                      <a:ext cx="7943760" cy="23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3" name=""/>
            <p:cNvSpPr/>
            <p:nvPr/>
          </p:nvSpPr>
          <p:spPr>
            <a:xfrm>
              <a:off x="664200" y="4419720"/>
              <a:ext cx="77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istancias máximas de dominio de colisión para Gigabit Ethernet half dúpl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EBAE-670A-474C-95B9-8D500BBC367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049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1 Arquitectura IEEE 802. Formato de t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70320" y="388620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pos de tra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93600" y="4495680"/>
            <a:ext cx="7371360" cy="2241720"/>
            <a:chOff x="993600" y="4495680"/>
            <a:chExt cx="7371360" cy="2241720"/>
          </a:xfrm>
        </p:grpSpPr>
        <p:graphicFrame>
          <p:nvGraphicFramePr>
            <p:cNvPr id="55" name=""/>
            <p:cNvGraphicFramePr/>
            <p:nvPr/>
          </p:nvGraphicFramePr>
          <p:xfrm>
            <a:off x="2286000" y="4572000"/>
            <a:ext cx="5459040" cy="165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4572000"/>
                      <a:ext cx="5459040" cy="16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"/>
            <p:cNvSpPr/>
            <p:nvPr/>
          </p:nvSpPr>
          <p:spPr>
            <a:xfrm>
              <a:off x="993600" y="5790960"/>
              <a:ext cx="127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 nume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97080" y="541008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70640" y="4876560"/>
              <a:ext cx="118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26680" y="5790960"/>
              <a:ext cx="3338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N(S)= Número de secuencia a envi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N(R)=Número de secuencia reconoci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S= Tramas de control:RR, RNR, REJ, SRE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M= SABME, UA, DISC, et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30600" y="4495680"/>
              <a:ext cx="47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1447920" y="990720"/>
          <a:ext cx="644976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990720"/>
                    <a:ext cx="64497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4B2-4624-4B8B-A2A4-8BCE891C1F9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4 Ehernet cone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33520" y="4343400"/>
            <a:ext cx="5105160" cy="23320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267080" y="2666880"/>
            <a:ext cx="4114800" cy="19335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533520" y="1066680"/>
            <a:ext cx="3962160" cy="153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C3B-3BA4-43EB-B4BA-8AF5A652D23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5720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5 Pu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533520" y="932040"/>
            <a:ext cx="8076960" cy="57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positivos de interconexión de redes que operan en la capa 2 de O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da puerto del puente es un dominio de colisión. (Sus colisiones no interfier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ntienen el dominio de difusión.(Las tramas broadcast no son afecta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aliza filtrado, conmutación y enrutamiento de tram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uncionan en modo “store and forward”. Almacenan, analizan y transmi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reados  inicialmente para la interconexión de redes de igual MA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ctualmente interconectan LANs diferentes (Problemas de convers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pera en modo promiscuo, es decir, recibe y analiza todas las tram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retardos de procesamiento son mayores que en un repeti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interconexión de LAN con puentes no debe formar lazos cerr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¿Por qué usar pu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fiabilidad.- El funcionamiento deficiente de una red no afecta a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empeño.- Al segmentar un dominio de colisión en varios de menor car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guridad.- Se puede hacer filtrado establecido por el administrador de l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tanci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- Se rompen las limitaciones de distancia de CSMA/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8A1-7841-43B6-9B3B-7B21B5DF26A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57200" y="30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uentes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533160" y="931680"/>
            <a:ext cx="79246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ionamiento bás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990720" y="1219320"/>
          <a:ext cx="5248080" cy="31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19320"/>
                    <a:ext cx="524808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6096960" y="2438280"/>
            <a:ext cx="26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s tramas broadc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empre son retransmit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4724280"/>
            <a:ext cx="7924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ipos de pu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ransparentes.-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s estaciones no requieren configuración en presencia del puente. Se utiliza en redes Ether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No Transparent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- La estaciones requieren configurarse al agregar un puente. Se utiliza en Token ring.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558-201E-4C2B-B870-09AA27373DD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5720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5. Puentes. Funcionamiento de puentes transpa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990720"/>
            <a:ext cx="44197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puente construye un tabla de con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ciones MAC conectadas en 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e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Transmisión de t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En base a las direcciones destino (DA) de las t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i una dirección no está registrada. Se difunde en todos sus puer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prendizaje de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Aprende en base a la dirección origen 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5181480" y="914400"/>
          <a:ext cx="3573720" cy="36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914400"/>
                    <a:ext cx="357372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181480" y="4495680"/>
          <a:ext cx="359568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495680"/>
                    <a:ext cx="359568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9DDD-EC5D-4196-8BC1-DD71D13B1B33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088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5 LAN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828800" y="990720"/>
          <a:ext cx="230652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90720"/>
                    <a:ext cx="230652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4794120" y="1185840"/>
          <a:ext cx="2216160" cy="14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94120" y="1185840"/>
                    <a:ext cx="221616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609480" y="2895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positivos con puertos de entrada/salida y una lógica de transmisión defin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rsión moderna de los puent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yor número de puertos, mayor procesamiento en hardware (más rápid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capacidad total de un puerto puede ser dedicada a cada estación (Servidores) o a un grupo de estaciones a través de un hu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mite el diálogo simultáneo de más de dos convers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pos puertos de un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acceso. A el se conectan las estaciones o un hub con varias est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subida. Se conecta al siguiente nivel superior de la red o al servidor. Normalmente es de mayor capacidad que los puertos de acce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8E01-B434-4157-B08B-7F4D68593DD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0880" y="457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5 LAN Switch. Clas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ut-Through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transmiten inmediatamente después de leer la dirección destino. Son ráp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pagan las tramas errón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soportan diferentes tecnologías en sus puer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sado para switches de grupo de trabaj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tore and For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ibe toda la trama y si no tiene errores la retransmiten. Son más l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portan diferentes tecnologías en sus puertos (10/100 Mbps, Ethernet/FDD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sado para switches backb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Híbr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uncionan en modo Cut Through cuando la tasa de errores es baja, y en modo store and forward cuando la cantidad de errores cre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E29-9C21-4CF3-85AF-ACB2F406659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80880" y="457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5 LAN Switch. Clasificación por su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ackbo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terconecta toda la red, el grupo de usuarios con el grupo de servi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ertos de alta capacidad, redundancia en la alimentación de pot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ecta a los switches interme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lecta el tráfico de todos los grupos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ecta con switches de grupos de trabajo y con el 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Grupos de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ecta con usuarios ya sea por puerto o a través de hubs y con los switchs interme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arámetros de desempeñ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pacidad del Backplane en bits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pacidad de transmisión de paquetes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nsidad de puer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amaño de la tabla de direcciones (SA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D1E-D513-4DA2-882A-3B65D0DFD37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931680"/>
            <a:ext cx="7772400" cy="59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IEEE 802.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tocolo de acceso tipo raund robin, basado en el paso de un tok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arrollada por IBM y ahora estándar IEEE 802.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terconexión en anillo pero topología física en estrel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cceso “determinístico”, adecuado para cargas altas de tráf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porta el uso de prior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tocolo complejo y robusto. 19 tramas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empeño deficiente para baja carga de tráf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token se encuentra circulando siempre en el ani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s estaciones que no desean transmitir simplemente repiten el tok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estación que desea transmitir debe esperar la llegada de un token libre, ponerlo en ocupado y transmitir su trama o tram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estación destino copia la trama y la retransm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estación fuente remueve la trama en su regresa y activa el token libre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380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6 Token Ring y 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888-AB74-4054-8744-318C60F2B3E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088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6 Token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57200" y="1440000"/>
            <a:ext cx="5105520" cy="20523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3200400" cy="19576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609480" y="3726000"/>
            <a:ext cx="1765440" cy="2199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2590920" y="3809880"/>
            <a:ext cx="5181480" cy="20527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838080" y="93204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0EE1-34C7-4B36-89EE-30B432FB95BD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57200" y="380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6 Token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800" y="93168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ato de tr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743200" y="1353960"/>
            <a:ext cx="4267080" cy="5288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990720" y="2031840"/>
            <a:ext cx="5943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D= Delimitador de inicio    DA= Dirección destino        FS= Estado de la tr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C= Control de acceso         SA= Dirección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C= Control de la trama       ED= Delimitador de 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49360" y="330192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1143000" cy="2635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3581280" y="3048120"/>
            <a:ext cx="1540080" cy="2635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6400800" y="2963880"/>
            <a:ext cx="1501920" cy="2714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3271680" y="3301920"/>
            <a:ext cx="24818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mpo Control de acces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PP= bits de prior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RR= bits para reser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= bit de token libre/ocup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= bit para monitorear la tr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38920" y="3301920"/>
            <a:ext cx="26571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limitador fin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, K=  símbolos para transpar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=  bit de trama inter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= bit de error detec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5"/>
          <a:stretch/>
        </p:blipFill>
        <p:spPr>
          <a:xfrm>
            <a:off x="1143000" y="3894120"/>
            <a:ext cx="1494000" cy="2206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833040" y="4233960"/>
            <a:ext cx="2399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stado de t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= bit de dirección reconoc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= bit de trama copi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507996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FC indica si la trama es de control o de d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Campo FCS es un CRC de 32 b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Se pueden establecer hasta 8 niveles de prior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No hay tamaño de trama mínim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Tamaño máximo de trama depende del tiempo de rotación del token (10 mse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4,048 bytes en 4 Mbps y 18,000 a 16 Mb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4D0-673B-440F-A194-F9857DDD0E3A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3049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1 Arquitectura IEEE 8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015920"/>
            <a:ext cx="777240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irecciones 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cales (16 bits) y Universales (48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pos de dire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Unicast. Una est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roadcast. Todas las estac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ulticast   Un grupo de estac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rabadas en la tarjeta de red (direcciones física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da tarjeta tiene una dirección MAC ú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rte de la dirección la forma el Identificador Unico de Organizaciones (OUI) asignado a los fabricantes de N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4910040"/>
            <a:ext cx="2209680" cy="1704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657600" y="5757840"/>
            <a:ext cx="38070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8:0:20:b:4a:71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8:0:20    - ---&gt;   S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:60:8C:e:aa:4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2:60:8C  ----&gt;  3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657600" y="4995720"/>
            <a:ext cx="2163600" cy="516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311880" y="4894200"/>
            <a:ext cx="128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 Individ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= Gru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= Univer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= 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4CD-FADE-4991-8EEA-3D0F84BBE70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80880" y="3808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6 Token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685800" y="932040"/>
            <a:ext cx="7772400" cy="31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antenimiento del an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elige a una estación monitora activa, las demás son monitoras pasiv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nciones del 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icialización del anill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ntenimiento del tok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igilar tramas no remov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serción de bits de retardo para asegurar que quepa el tok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opología en est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tr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4038480"/>
            <a:ext cx="3327480" cy="2787840"/>
          </a:xfrm>
          <a:prstGeom prst="rect">
            <a:avLst/>
          </a:prstGeom>
          <a:ln w="0">
            <a:noFill/>
          </a:ln>
        </p:spPr>
      </p:pic>
      <p:pic>
        <p:nvPicPr>
          <p:cNvPr id="369" name="trd0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029200" y="4038480"/>
            <a:ext cx="2673360" cy="27878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0B2-D99A-4A6B-8D11-375E01766CCF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0880" y="3049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6 Token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85800" y="932040"/>
            <a:ext cx="77724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SAU o MAU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idad de acceso multiestación. Pueden ser pasivas (no se conectan a la toma de corriente) o activ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BM8218 y 1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BM 8228 MSAU pasivo con 8 puer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pecificación de capa fís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dio de transmisión: STP (IBM tipo1 y 6), UTP y F.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ódigo de línea: Manchester Dif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dio de trans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TP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asa  de dat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4 ó 16 Mbp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áximo número de repetidor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áxima longitud entre repetidor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No especificad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ecto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ector de datos universal (UDC), DB9, RJ45 ó RJ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8_31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2286000" cy="8827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5101920" y="5791320"/>
            <a:ext cx="220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in 1 - Rojo - Receive +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in 5 - Negro - Transmit -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in 6 - Verde - Receive -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in 9 - Naranja - Transmit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14400" y="624852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344840" y="617220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DF9-E204-4221-ADF1-E2CB75327BD8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57200" y="304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6 Interfaz de datos distribuidos por fibra (FDD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09480" y="990720"/>
          <a:ext cx="3657600" cy="13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3657600" cy="13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4572000" y="990720"/>
          <a:ext cx="3914640" cy="14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391464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685800" y="2514600"/>
          <a:ext cx="3571920" cy="14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2514600"/>
                    <a:ext cx="357192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4800600" y="2514600"/>
          <a:ext cx="3632040" cy="137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2514600"/>
                    <a:ext cx="363204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762120" y="4038480"/>
          <a:ext cx="358128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4038480"/>
                    <a:ext cx="358128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4876920" y="4038480"/>
          <a:ext cx="3582720" cy="137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4038480"/>
                    <a:ext cx="35827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838080" y="5562720"/>
          <a:ext cx="3514680" cy="1363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5562720"/>
                    <a:ext cx="35146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4952880" y="5562720"/>
          <a:ext cx="3498840" cy="137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5562720"/>
                    <a:ext cx="349884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457200" y="838080"/>
            <a:ext cx="8305920" cy="609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7057-8546-4C3E-B410-5F5716AAD251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5720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6 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1015920"/>
            <a:ext cx="77724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iferencias con IEEE 802.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token es absorbido en vez de modificarle un b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token es liberado al término de la transmisión de la trama (ET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pología en doble anillo para redunda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porta diferentes tipo de tráf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ene un módulo de software (SMT) para administrar cada es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2903760" cy="30654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759960" y="342900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pos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920" y="4495680"/>
            <a:ext cx="487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íncrono.-   Siempre se transm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síncrono.- Se transmite si hay capacidad dejad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por  el tráfico síncro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síncrono   Restringido. Para transmisión continu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urante un periodo de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síncrono   no restringido: Igual que en token 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973-D6D6-4759-A560-BBF658F31954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45720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6 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685800" y="93168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ato de t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438280" y="2201760"/>
            <a:ext cx="2362320" cy="373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182920" y="220968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2209680" y="1353960"/>
            <a:ext cx="5105520" cy="6033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066680" y="3657600"/>
          <a:ext cx="7162920" cy="3211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657600"/>
                    <a:ext cx="716292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609480" y="2971800"/>
            <a:ext cx="7772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pecificaciones de capa fís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A47-0084-4399-A0E2-6C315AA357B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0880" y="3049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6 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FddiDblRing" descr=""/>
          <p:cNvPicPr/>
          <p:nvPr/>
        </p:nvPicPr>
        <p:blipFill>
          <a:blip r:embed="rId1"/>
          <a:stretch/>
        </p:blipFill>
        <p:spPr>
          <a:xfrm>
            <a:off x="2743200" y="914400"/>
            <a:ext cx="3276720" cy="29131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609480" y="1353960"/>
            <a:ext cx="205740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nillo Prim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 por donde circulan los datos normal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172200" y="135396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nillo secundari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 el anillo de respald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 circulación es en sent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uesto al anillo primar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FaultCable" descr=""/>
          <p:cNvPicPr/>
          <p:nvPr/>
        </p:nvPicPr>
        <p:blipFill>
          <a:blip r:embed="rId2"/>
          <a:stretch/>
        </p:blipFill>
        <p:spPr>
          <a:xfrm>
            <a:off x="1447920" y="4114800"/>
            <a:ext cx="3047760" cy="2825640"/>
          </a:xfrm>
          <a:prstGeom prst="rect">
            <a:avLst/>
          </a:prstGeom>
          <a:ln w="0">
            <a:noFill/>
          </a:ln>
        </p:spPr>
      </p:pic>
      <p:pic>
        <p:nvPicPr>
          <p:cNvPr id="416" name="FaultHost" descr=""/>
          <p:cNvPicPr/>
          <p:nvPr/>
        </p:nvPicPr>
        <p:blipFill>
          <a:blip r:embed="rId3"/>
          <a:stretch/>
        </p:blipFill>
        <p:spPr>
          <a:xfrm>
            <a:off x="4952880" y="4038480"/>
            <a:ext cx="3048120" cy="28227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761040" y="4419720"/>
            <a:ext cx="58608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 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924680" y="4267080"/>
            <a:ext cx="76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 u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E05-6DFA-47A9-B46B-66F3E097792E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880" y="304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6 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57200" y="4465800"/>
          <a:ext cx="8229600" cy="251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465800"/>
                    <a:ext cx="8229600" cy="25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143000" y="990720"/>
          <a:ext cx="6858000" cy="3390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990720"/>
                    <a:ext cx="685800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D91-502C-4822-ADE0-86DCF5F83A5F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57200" y="380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6 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2560" y="990720"/>
            <a:ext cx="25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aciones y  puer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konfig5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3351240" cy="4267080"/>
          </a:xfrm>
          <a:prstGeom prst="rect">
            <a:avLst/>
          </a:prstGeom>
          <a:ln w="0">
            <a:noFill/>
          </a:ln>
        </p:spPr>
      </p:pic>
      <p:pic>
        <p:nvPicPr>
          <p:cNvPr id="429" name="konfig1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3274920" cy="3276360"/>
          </a:xfrm>
          <a:prstGeom prst="rect">
            <a:avLst/>
          </a:prstGeom>
          <a:ln w="0">
            <a:noFill/>
          </a:ln>
        </p:spPr>
      </p:pic>
      <p:pic>
        <p:nvPicPr>
          <p:cNvPr id="430" name="s1297" descr=""/>
          <p:cNvPicPr/>
          <p:nvPr/>
        </p:nvPicPr>
        <p:blipFill>
          <a:blip r:embed="rId3"/>
          <a:stretch/>
        </p:blipFill>
        <p:spPr>
          <a:xfrm>
            <a:off x="5029200" y="5181480"/>
            <a:ext cx="3657600" cy="17161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7773120" y="5638680"/>
            <a:ext cx="9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er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 un 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76520" y="1353960"/>
            <a:ext cx="20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illo de árbo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" y="91440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540D-D9B6-43D3-A4AF-97C8053FFC69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Resumen de cables para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1066680" y="1295280"/>
          <a:ext cx="6953400" cy="27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69534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1209600" y="914400"/>
            <a:ext cx="48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 trenzado sin blindaje (UTP)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100 o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32920" y="3809880"/>
            <a:ext cx="4836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 trenzado con blindaje (STP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. 150 o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pos 1, 2, 6, 8 y 9 para 16 MHz (token ring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pos 1A, 2A, 6A y 9A para 100 MHz (FDD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0680" y="4876920"/>
            <a:ext cx="6189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 trenzado apantallado (FTP o ScTP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. 100 o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quivalente a UTP 3, 4 y 5 con mejores características (Ethern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17520" y="5562720"/>
            <a:ext cx="5261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able Coaxial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balanceado. RG58A/U (10Base2) y RG8(10Base5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lanceado. Twinax (1000BaseC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67EA-36C9-480B-888D-5DF2E452A810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93168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ándares LAN/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122" descr=""/>
          <p:cNvPicPr/>
          <p:nvPr/>
        </p:nvPicPr>
        <p:blipFill>
          <a:blip r:embed="rId1"/>
          <a:stretch/>
        </p:blipFill>
        <p:spPr>
          <a:xfrm>
            <a:off x="533520" y="1719360"/>
            <a:ext cx="8076960" cy="4506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3049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1 Arquitectura IEEE 8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E1C0-9E2C-4686-AFF8-ABB1A5F26AA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.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09120" y="931680"/>
            <a:ext cx="800100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racterísticas Generales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 la red LAN más popular (80 % del mercad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asa de transmisión: 10 Mbps, 100 Mbps (Fast), 1 Gbps (Gig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pologías soportadas: bus y estrella (más popular actualment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tocolo de acceso al medio del tipo contención: CSMA/C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sencia de colis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decuado para cargas bajas de tráfic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misión Half Dúplex en buses y full dúplex en Hub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dios de transmisión soportados: UTP, Coaxial, Fibra Opt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amaño máximo de trama (MTU) de 1518 bytes y tamaño mínimo de 64 by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0EE-A3C9-4416-B37C-DFB646AB894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120" y="931680"/>
            <a:ext cx="800100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Historia de Ether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arrollada en los 70s, en  el Centro de Investigación de Xerox en Palo Alto por  Robert M. Metcalfe a 2.94 Mb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1979, 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c,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tel y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rox crean el estándar DIX. Llamado “Thick Ethernet” o 10Base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1983 la IEEE lo adopta como estándar en su especificación 802.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1985 se define “Thin Ethernet” (10BASE2) y 10BROAD3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1987 se define “Fiber Optic Interrepeater Link” (FOIR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1990 se define Ethernet sobre UTP (10BASE-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1993 se define 10BASE-F, actualización de FOIR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1995 se define Fast Ethernet (100 Mbp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1997 se define la operación full dúplex para Ether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1997 se define un estándar para operar a 100 Mbps sobre UTP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1998 se define un estándar para operar a 1 Gbps sobre F.O y S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1999 se define un estándar para operar 1 Gbps sobre UTP 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progreso estándar para 10 Gb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.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A10-2A19-4EC7-BFB4-EEA414B52D2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5587920"/>
            <a:ext cx="8153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09120" y="932040"/>
            <a:ext cx="80010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tocolo MAC de Ethernet. Control de acceso al medio con sensado de portadora y    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tección de colision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ransmisió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295280" y="1981080"/>
          <a:ext cx="6934320" cy="47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69343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3352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. Ethernet. CSMA/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DA1-568E-4500-9D1C-C06C185AEDD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empo de transmisión mínimo por parte de una es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 · T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+ margen =  1 ranura de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amaño de trama mínimo =512 tiempos de bit = 64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da estación introduce entre tramas un retardo (gap time) para permitir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cesamiento en el receptor (9.6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 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048120"/>
            <a:ext cx="3679920" cy="1269000"/>
            <a:chOff x="838080" y="3048120"/>
            <a:chExt cx="3679920" cy="12690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838080" y="3048120"/>
              <a:ext cx="367992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455120" y="3979800"/>
              <a:ext cx="22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(c) Las tramas colision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724280" y="3048120"/>
            <a:ext cx="3750840" cy="1353600"/>
            <a:chOff x="4724280" y="3048120"/>
            <a:chExt cx="3750840" cy="135360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4724280" y="3048120"/>
              <a:ext cx="3695760" cy="10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037480" y="4064400"/>
              <a:ext cx="343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d) A se da cuenta y cesa su transmis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62120" y="1143000"/>
            <a:ext cx="3695760" cy="1480320"/>
            <a:chOff x="762120" y="1143000"/>
            <a:chExt cx="3695760" cy="1480320"/>
          </a:xfrm>
        </p:grpSpPr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762120" y="1143000"/>
              <a:ext cx="369576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684800" y="2286000"/>
              <a:ext cx="229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a) A inicia la transmis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48320" y="1219320"/>
            <a:ext cx="3703680" cy="1480320"/>
            <a:chOff x="4648320" y="1219320"/>
            <a:chExt cx="3703680" cy="1480320"/>
          </a:xfrm>
        </p:grpSpPr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4648320" y="1219320"/>
              <a:ext cx="3703680" cy="10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181840" y="2362320"/>
              <a:ext cx="231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b) C “ve” el canal lib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3352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2.2. Ethernet. CSMA/CD. Col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.- Redes L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A7D-926A-4682-8573-5C631D85F34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9T21:11:54Z</dcterms:created>
  <dc:creator>J. Agustín Hernández Benítez</dc:creator>
  <dc:description/>
  <dc:language>en-US</dc:language>
  <cp:lastModifiedBy>José Agustín Hernández B.</cp:lastModifiedBy>
  <cp:lastPrinted>1998-09-15T20:12:36Z</cp:lastPrinted>
  <dcterms:modified xsi:type="dcterms:W3CDTF">2000-07-15T21:43:45Z</dcterms:modified>
  <cp:revision>85</cp:revision>
  <dc:subject/>
  <dc:title>Sin título de diapositiva</dc:title>
</cp:coreProperties>
</file>