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77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8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81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7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67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81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</p:sldIdLst>
  <p:sldSz cx="9907588" cy="7621588"/>
  <p:notesSz cx="6670675" cy="9820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ABC75-8C3E-480D-96D3-26665552D8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21704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1E550-65BB-42E9-9801-EB4D9DB88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763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B4305-52A1-48D1-862E-C848A0842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0900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5588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0900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5588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05A8-0CEE-481E-8958-4B12970DE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592F2-E673-43CA-B3DB-AB2D426ADF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641F1-AE1D-4E68-A924-2DB2A4E42B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C0F755-07A8-4C48-A270-50E778DE1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07DFA-F6A1-4AD4-9309-147F98210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8CD32-9D1B-4E4B-920A-2C748B758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742680" y="380880"/>
            <a:ext cx="84200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3863F5-C963-4AD4-9510-DC6CBC654E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81B28-6633-4250-94A9-88563E843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9CEA7-790C-4126-A806-6DE222275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763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3FF79-C718-4714-9FA4-060C55F2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26369-F9F3-448E-9E7F-BE9FDA106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761760" y="421704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2E2305-161B-49AE-9C91-7D71CE98A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763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FCF03F-839F-452C-8ECE-49A1EA5CE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60900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455880" y="182880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76176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60900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455880" y="4217040"/>
            <a:ext cx="271116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FA93-9DDD-435F-AA4B-C5D701EF8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7695A-5302-4866-BBE6-282537E439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EEB0-11EA-4F27-B65C-92DF8259BD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AA5EA-78E9-4B74-8FD0-4D6D825CE3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380880"/>
            <a:ext cx="842004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6DEA-D1D9-4D06-85F3-5BF3FAB06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0A081-22E6-4A35-AB04-54B662E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76360" y="421704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B1213-291D-4422-9482-3CF574512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76360" y="1828800"/>
            <a:ext cx="410868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217040"/>
            <a:ext cx="8420040" cy="2180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1996-9DE3-42A5-9D0B-9B86DC40B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2" marL="1143000" indent="-228600">
              <a:spcBef>
                <a:spcPts val="700"/>
              </a:spcBef>
              <a:buClr>
                <a:srgbClr val="ffcc66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3" marL="16002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4" marL="2057400" indent="-228600">
              <a:spcBef>
                <a:spcPts val="7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5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6" marL="2057400" indent="-228600">
              <a:spcBef>
                <a:spcPts val="7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7027560"/>
            <a:ext cx="20635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8153280" y="7187760"/>
            <a:ext cx="16891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ff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ff00"/>
                </a:solidFill>
                <a:latin typeface="Times New Roman"/>
              </a:rPr>
              <a:t>디지털 전자회로 설계</a:t>
            </a:r>
            <a:r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841880" y="-360"/>
            <a:ext cx="206388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D896AF-8FEC-46E2-9FEC-BE50EA5C4CE5}" type="slidenum">
              <a:rPr b="0" lang="en-US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"/>
          <p:cNvGrpSpPr/>
          <p:nvPr/>
        </p:nvGrpSpPr>
        <p:grpSpPr>
          <a:xfrm>
            <a:off x="495360" y="2625840"/>
            <a:ext cx="8832240" cy="1777320"/>
            <a:chOff x="495360" y="2625840"/>
            <a:chExt cx="8832240" cy="1777320"/>
          </a:xfrm>
        </p:grpSpPr>
        <p:sp>
          <p:nvSpPr>
            <p:cNvPr id="42" name=""/>
            <p:cNvSpPr/>
            <p:nvPr/>
          </p:nvSpPr>
          <p:spPr>
            <a:xfrm>
              <a:off x="3126960" y="2625840"/>
              <a:ext cx="6200640" cy="17773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157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1576"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46320" y="2809440"/>
              <a:ext cx="6204240" cy="14097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6" swAng="108534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6" swAng="10853497"/>
                </a:path>
              </a:pathLst>
            </a:custGeom>
            <a:gradFill rotWithShape="0">
              <a:gsLst>
                <a:gs pos="0">
                  <a:srgbClr val="8944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002040" y="3054600"/>
              <a:ext cx="6199920" cy="920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794" y="0"/>
                  </a:moveTo>
                  <a:arcTo wR="10800" hR="10800" stAng="-5401907" swAng="108535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794" y="0"/>
                  </a:moveTo>
                  <a:arcTo wR="10800" hR="10800" stAng="-5401907" swAng="10853596"/>
                </a:path>
              </a:pathLst>
            </a:custGeom>
            <a:gradFill rotWithShape="0">
              <a:gsLst>
                <a:gs pos="0">
                  <a:srgbClr val="b75b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95360" y="3421440"/>
              <a:ext cx="8578440" cy="182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ffbf00"/>
                </a:gs>
                <a:gs pos="100000">
                  <a:srgbClr val="0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42680" y="160812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743040" y="7027560"/>
            <a:ext cx="206352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384360" y="7027560"/>
            <a:ext cx="313668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cc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98840" y="7027560"/>
            <a:ext cx="2063880" cy="507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123305-3BA7-49A6-87E1-A345F6F83791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95360" y="1783080"/>
            <a:ext cx="89161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cond Outline Lev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914400" algn="ctr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Third Outline Level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3" marL="1371600" algn="ctr">
              <a:spcBef>
                <a:spcPts val="425"/>
              </a:spcBef>
              <a:buClr>
                <a:srgbClr val="ffcc66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1700" spc="-1" strike="noStrike">
              <a:solidFill>
                <a:srgbClr val="ffffcc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742680" y="1218960"/>
            <a:ext cx="8420040" cy="1269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00ff00"/>
                </a:solidFill>
                <a:latin typeface="Times New Roman"/>
              </a:rPr>
              <a:t>The Basic of  VHDL</a:t>
            </a:r>
            <a:endParaRPr b="0" i="1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523880" y="5714640"/>
            <a:ext cx="693432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00"/>
                </a:solidFill>
                <a:latin typeface="Times New Roman"/>
              </a:rPr>
              <a:t>디지털 전자회로 설계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</a:rPr>
              <a:t>박 창대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pic>
        <p:nvPicPr>
          <p:cNvPr id="89" name="GVS653B5" descr=""/>
          <p:cNvPicPr/>
          <p:nvPr/>
        </p:nvPicPr>
        <p:blipFill>
          <a:blip r:embed="rId1"/>
          <a:stretch/>
        </p:blipFill>
        <p:spPr>
          <a:xfrm>
            <a:off x="3886200" y="3048120"/>
            <a:ext cx="2362320" cy="21445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4733A9-A056-40B4-B947-28C3F351C740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1252440" y="1792440"/>
            <a:ext cx="2530440" cy="12412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582560" y="6280200"/>
            <a:ext cx="1952640" cy="4795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626840" y="1920960"/>
            <a:ext cx="570960" cy="40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u-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612520" y="1920960"/>
            <a:ext cx="883440" cy="40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cac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452960" y="2538360"/>
            <a:ext cx="953640" cy="375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  <a:ea typeface="돋움"/>
              </a:rPr>
              <a:t>I/O,Bu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611080" y="2538360"/>
            <a:ext cx="886680" cy="375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DRA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163" name=""/>
          <p:cNvGrpSpPr/>
          <p:nvPr/>
        </p:nvGrpSpPr>
        <p:grpSpPr>
          <a:xfrm>
            <a:off x="1582560" y="3400560"/>
            <a:ext cx="1952280" cy="1156680"/>
            <a:chOff x="1582560" y="3400560"/>
            <a:chExt cx="1952280" cy="1156680"/>
          </a:xfrm>
        </p:grpSpPr>
        <p:sp>
          <p:nvSpPr>
            <p:cNvPr id="164" name=""/>
            <p:cNvSpPr/>
            <p:nvPr/>
          </p:nvSpPr>
          <p:spPr>
            <a:xfrm>
              <a:off x="1582560" y="3400560"/>
              <a:ext cx="1952280" cy="1156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721520" y="3513240"/>
              <a:ext cx="1744560" cy="9219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wait until CLK =1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TR_PTR&lt;=N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end process;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N&lt;=STR_PTR+1;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6" name=""/>
          <p:cNvGrpSpPr/>
          <p:nvPr/>
        </p:nvGrpSpPr>
        <p:grpSpPr>
          <a:xfrm>
            <a:off x="592200" y="4924440"/>
            <a:ext cx="1787040" cy="902880"/>
            <a:chOff x="592200" y="4924440"/>
            <a:chExt cx="1787040" cy="902880"/>
          </a:xfrm>
        </p:grpSpPr>
        <p:sp>
          <p:nvSpPr>
            <p:cNvPr id="167" name=""/>
            <p:cNvSpPr/>
            <p:nvPr/>
          </p:nvSpPr>
          <p:spPr>
            <a:xfrm>
              <a:off x="592200" y="4924440"/>
              <a:ext cx="1787040" cy="902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630720" y="5028120"/>
              <a:ext cx="163188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:0100010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:0100010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2573280" y="4924440"/>
            <a:ext cx="1787400" cy="902880"/>
            <a:chOff x="2573280" y="4924440"/>
            <a:chExt cx="1787400" cy="902880"/>
          </a:xfrm>
        </p:grpSpPr>
        <p:sp>
          <p:nvSpPr>
            <p:cNvPr id="170" name=""/>
            <p:cNvSpPr/>
            <p:nvPr/>
          </p:nvSpPr>
          <p:spPr>
            <a:xfrm>
              <a:off x="2573280" y="4924440"/>
              <a:ext cx="1787400" cy="902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975400" y="50796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975400" y="52488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635280" y="5164200"/>
              <a:ext cx="40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52840" y="558756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175" name=""/>
            <p:cNvGrpSpPr/>
            <p:nvPr/>
          </p:nvGrpSpPr>
          <p:grpSpPr>
            <a:xfrm>
              <a:off x="2972520" y="4927680"/>
              <a:ext cx="663840" cy="477360"/>
              <a:chOff x="2972520" y="4927680"/>
              <a:chExt cx="663840" cy="477360"/>
            </a:xfrm>
          </p:grpSpPr>
          <p:sp>
            <p:nvSpPr>
              <p:cNvPr id="176" name=""/>
              <p:cNvSpPr/>
              <p:nvPr/>
            </p:nvSpPr>
            <p:spPr>
              <a:xfrm>
                <a:off x="2976480" y="5000040"/>
                <a:ext cx="659880" cy="40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4" y="0"/>
                    </a:moveTo>
                    <a:arcTo wR="10800" hR="10800" stAng="-5417905" swAng="54179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4" y="0"/>
                    </a:moveTo>
                    <a:arcTo wR="10800" hR="10800" stAng="-5417905" swAng="5417905"/>
                  </a:path>
                </a:pathLst>
              </a:custGeom>
              <a:noFill/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>
                <a:off x="2972520" y="4927680"/>
                <a:ext cx="658440" cy="40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78" name=""/>
              <p:cNvSpPr/>
              <p:nvPr/>
            </p:nvSpPr>
            <p:spPr>
              <a:xfrm>
                <a:off x="3301920" y="4998240"/>
                <a:ext cx="0" cy="334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79" name=""/>
            <p:cNvGrpSpPr/>
            <p:nvPr/>
          </p:nvGrpSpPr>
          <p:grpSpPr>
            <a:xfrm>
              <a:off x="3219480" y="5421600"/>
              <a:ext cx="329760" cy="334800"/>
              <a:chOff x="3219480" y="5421600"/>
              <a:chExt cx="329760" cy="334800"/>
            </a:xfrm>
          </p:grpSpPr>
          <p:sp>
            <p:nvSpPr>
              <p:cNvPr id="180" name=""/>
              <p:cNvSpPr/>
              <p:nvPr/>
            </p:nvSpPr>
            <p:spPr>
              <a:xfrm>
                <a:off x="3219480" y="5421600"/>
                <a:ext cx="0" cy="334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222720" y="5421600"/>
                <a:ext cx="326520" cy="1659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 flipV="1">
                <a:off x="3220920" y="5588640"/>
                <a:ext cx="326520" cy="1659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83" name=""/>
            <p:cNvSpPr/>
            <p:nvPr/>
          </p:nvSpPr>
          <p:spPr>
            <a:xfrm flipV="1">
              <a:off x="3714480" y="5335200"/>
              <a:ext cx="0" cy="250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 flipH="1">
              <a:off x="2975040" y="5587560"/>
              <a:ext cx="243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718080" y="53334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86" name=""/>
          <p:cNvSpPr/>
          <p:nvPr/>
        </p:nvSpPr>
        <p:spPr>
          <a:xfrm>
            <a:off x="1960560" y="6248520"/>
            <a:ext cx="119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돋움"/>
              </a:rPr>
              <a:t>Layou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400480" y="3139920"/>
            <a:ext cx="317160" cy="2397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492200" y="4578480"/>
            <a:ext cx="317520" cy="2412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308400" y="4578480"/>
            <a:ext cx="317520" cy="2412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308400" y="5934240"/>
            <a:ext cx="317520" cy="239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492200" y="5934240"/>
            <a:ext cx="317520" cy="239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4618440" y="1751040"/>
            <a:ext cx="1715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HDL Desig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Ent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865560" y="2513160"/>
            <a:ext cx="202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im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ystem Desig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Ver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765680" y="3699000"/>
            <a:ext cx="2264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ynthe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RTL Optimiz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HDL Transl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Logic Optimiz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Test Gener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081920" y="5222880"/>
            <a:ext cx="185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im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mplemen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Ver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9532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New Design Flow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’s Histo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ery High speed Integrated Circuit(VHSIC) Program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Launched in 1980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ggressive effort to advanced state of the ar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 was to achieve significant gains in VLSI technolog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Need for common description langu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$17 Million for direct VHDL developmen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$16 Million for VHDL design tool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AFFB4-4E19-423D-827A-46CA79365C6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’s History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 1983, a team of Intermetrics, IBM and TI were awarded a contract to develop V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 1985, the final version of the language under government contract was released: VHDL Version 7.2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 1987, VHDL became IEEE standard 1076-1987 and in 1988 an ANSI stand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 1993, VHDL was re-standardized to clarify and enhance the langu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A9CFB-A9AF-4082-B7B1-321DB12CAE9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dditional Benefits of VHD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s for various design methodolog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technology independen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cribes a wide variety of digital hard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ases communication through standard langu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s for better design manage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a flexible design langu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Has given rise to derivative standards 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WAVE, VITAL, analog VHD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108FB-8E5F-4A06-B494-3C4B9D33C7D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utting It All Together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62520" y="2286000"/>
            <a:ext cx="1238040" cy="507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3218040"/>
            <a:ext cx="1238040" cy="507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ntit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907920" y="4317840"/>
            <a:ext cx="1733760" cy="5083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97280" y="4233960"/>
            <a:ext cx="1733400" cy="507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7016760" y="4233960"/>
            <a:ext cx="1733400" cy="5079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rchitectur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073160" y="5334120"/>
            <a:ext cx="1485720" cy="846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5200560" y="5334120"/>
            <a:ext cx="1486080" cy="846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roces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5200560" y="6434280"/>
            <a:ext cx="1486080" cy="84744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equenti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622760" y="2793960"/>
            <a:ext cx="0" cy="3380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622760" y="3726000"/>
            <a:ext cx="0" cy="42228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816200" y="3894120"/>
            <a:ext cx="619128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1816200" y="3894120"/>
            <a:ext cx="0" cy="3398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07480" y="3894120"/>
            <a:ext cx="0" cy="2541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816200" y="4826160"/>
            <a:ext cx="0" cy="5079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58880" y="3132000"/>
            <a:ext cx="1403640" cy="507960"/>
          </a:xfrm>
          <a:custGeom>
            <a:avLst/>
            <a:gdLst>
              <a:gd name="textAreaLeft" fmla="*/ 0 w 1403640"/>
              <a:gd name="textAreaRight" fmla="*/ 1404000 w 140364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neric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5283360" y="3132000"/>
            <a:ext cx="1403280" cy="507960"/>
          </a:xfrm>
          <a:custGeom>
            <a:avLst/>
            <a:gdLst>
              <a:gd name="textAreaLeft" fmla="*/ 360 w 1403280"/>
              <a:gd name="textAreaRight" fmla="*/ 1404000 w 1403280"/>
              <a:gd name="textAreaTop" fmla="*/ 0 h 507960"/>
              <a:gd name="textAreaBottom" fmla="*/ 508320 h 507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rt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137040" y="5334120"/>
            <a:ext cx="1485720" cy="8460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Concurr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Statemen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632040" y="5079960"/>
            <a:ext cx="2229120" cy="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3632040" y="5079960"/>
            <a:ext cx="0" cy="2541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861160" y="5079960"/>
            <a:ext cx="0" cy="2541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5861160" y="6180120"/>
            <a:ext cx="0" cy="25416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622760" y="4741920"/>
            <a:ext cx="0" cy="338040"/>
          </a:xfrm>
          <a:prstGeom prst="line">
            <a:avLst/>
          </a:prstGeom>
          <a:ln w="3816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12D3-C367-4C69-A2F0-AEEB019708D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666880" y="457200"/>
            <a:ext cx="384156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4000" spc="-1" strike="noStrike">
                <a:solidFill>
                  <a:srgbClr val="ffff00"/>
                </a:solidFill>
                <a:latin typeface="Times New Roman"/>
                <a:ea typeface="돋움"/>
              </a:rPr>
              <a:t>New Design Flow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252440" y="1792440"/>
            <a:ext cx="2530440" cy="12412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82560" y="6280200"/>
            <a:ext cx="1952640" cy="47952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255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26840" y="1920960"/>
            <a:ext cx="570960" cy="40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u-p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612520" y="1920960"/>
            <a:ext cx="883440" cy="4060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cach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452960" y="2538360"/>
            <a:ext cx="953640" cy="375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  <a:ea typeface="돋움"/>
              </a:rPr>
              <a:t>I/O,Buf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611080" y="2538360"/>
            <a:ext cx="886680" cy="375480"/>
          </a:xfrm>
          <a:prstGeom prst="rect">
            <a:avLst/>
          </a:prstGeom>
          <a:gradFill rotWithShape="0">
            <a:gsLst>
              <a:gs pos="0">
                <a:srgbClr val="5f5f5f"/>
              </a:gs>
              <a:gs pos="50000">
                <a:srgbClr val="6e6e6e"/>
              </a:gs>
              <a:gs pos="100000">
                <a:srgbClr val="5f5f5f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DRAM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233" name=""/>
          <p:cNvGrpSpPr/>
          <p:nvPr/>
        </p:nvGrpSpPr>
        <p:grpSpPr>
          <a:xfrm>
            <a:off x="1582560" y="3400560"/>
            <a:ext cx="1952280" cy="1156680"/>
            <a:chOff x="1582560" y="3400560"/>
            <a:chExt cx="1952280" cy="1156680"/>
          </a:xfrm>
        </p:grpSpPr>
        <p:sp>
          <p:nvSpPr>
            <p:cNvPr id="234" name=""/>
            <p:cNvSpPr/>
            <p:nvPr/>
          </p:nvSpPr>
          <p:spPr>
            <a:xfrm>
              <a:off x="1582560" y="3400560"/>
              <a:ext cx="1952280" cy="11566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721520" y="3513240"/>
              <a:ext cx="1744560" cy="92196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wait until CLK =1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TR_PTR&lt;=N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end process;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9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1" lang="en-US" sz="1500" spc="-1" strike="noStrike">
                  <a:solidFill>
                    <a:srgbClr val="ffffcc"/>
                  </a:solidFill>
                  <a:latin typeface="Arial"/>
                  <a:ea typeface="돋움"/>
                </a:rPr>
                <a:t>N&lt;=STR_PTR+1;</a:t>
              </a:r>
              <a:endParaRPr b="0" lang="en-US" sz="15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6" name=""/>
          <p:cNvGrpSpPr/>
          <p:nvPr/>
        </p:nvGrpSpPr>
        <p:grpSpPr>
          <a:xfrm>
            <a:off x="592200" y="4924440"/>
            <a:ext cx="1787040" cy="902880"/>
            <a:chOff x="592200" y="4924440"/>
            <a:chExt cx="1787040" cy="902880"/>
          </a:xfrm>
        </p:grpSpPr>
        <p:sp>
          <p:nvSpPr>
            <p:cNvPr id="237" name=""/>
            <p:cNvSpPr/>
            <p:nvPr/>
          </p:nvSpPr>
          <p:spPr>
            <a:xfrm>
              <a:off x="592200" y="4924440"/>
              <a:ext cx="1787040" cy="902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30720" y="5028120"/>
              <a:ext cx="1631880" cy="771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00800" rIns="100800" tIns="50400" bIns="504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:0100010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:0100010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2573280" y="4924440"/>
            <a:ext cx="1787400" cy="902880"/>
            <a:chOff x="2573280" y="4924440"/>
            <a:chExt cx="1787400" cy="902880"/>
          </a:xfrm>
        </p:grpSpPr>
        <p:sp>
          <p:nvSpPr>
            <p:cNvPr id="240" name=""/>
            <p:cNvSpPr/>
            <p:nvPr/>
          </p:nvSpPr>
          <p:spPr>
            <a:xfrm>
              <a:off x="2573280" y="4924440"/>
              <a:ext cx="1787400" cy="902880"/>
            </a:xfrm>
            <a:prstGeom prst="rect">
              <a:avLst/>
            </a:prstGeom>
            <a:gradFill rotWithShape="0">
              <a:gsLst>
                <a:gs pos="0">
                  <a:srgbClr val="5f5f5f"/>
                </a:gs>
                <a:gs pos="50000">
                  <a:srgbClr val="6e6e6e"/>
                </a:gs>
                <a:gs pos="100000">
                  <a:srgbClr val="5f5f5f"/>
                </a:gs>
              </a:gsLst>
              <a:lin ang="5400000"/>
            </a:gradFill>
            <a:ln w="2556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975400" y="50796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975400" y="52488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3635280" y="5164200"/>
              <a:ext cx="4089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3552840" y="558756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2972520" y="4927680"/>
              <a:ext cx="663840" cy="477360"/>
              <a:chOff x="2972520" y="4927680"/>
              <a:chExt cx="663840" cy="477360"/>
            </a:xfrm>
          </p:grpSpPr>
          <p:sp>
            <p:nvSpPr>
              <p:cNvPr id="246" name=""/>
              <p:cNvSpPr/>
              <p:nvPr/>
            </p:nvSpPr>
            <p:spPr>
              <a:xfrm>
                <a:off x="2976480" y="5000040"/>
                <a:ext cx="659880" cy="40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744" y="0"/>
                    </a:moveTo>
                    <a:arcTo wR="10800" hR="10800" stAng="-5417905" swAng="5417905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744" y="0"/>
                    </a:moveTo>
                    <a:arcTo wR="10800" hR="10800" stAng="-5417905" swAng="5417905"/>
                  </a:path>
                </a:pathLst>
              </a:custGeom>
              <a:noFill/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2972520" y="4927680"/>
                <a:ext cx="658440" cy="4050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21600" y="10800"/>
                    </a:moveTo>
                    <a:arcTo wR="10800" hR="10800" stAng="0" swAng="540000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21600" y="10800"/>
                    </a:moveTo>
                    <a:arcTo wR="10800" hR="10800" stAng="0" swAng="5400000"/>
                  </a:path>
                </a:pathLst>
              </a:custGeom>
              <a:noFill/>
              <a:ln cap="rnd"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3301920" y="4998240"/>
                <a:ext cx="0" cy="334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249" name=""/>
            <p:cNvGrpSpPr/>
            <p:nvPr/>
          </p:nvGrpSpPr>
          <p:grpSpPr>
            <a:xfrm>
              <a:off x="3219480" y="5421600"/>
              <a:ext cx="329760" cy="334800"/>
              <a:chOff x="3219480" y="5421600"/>
              <a:chExt cx="329760" cy="334800"/>
            </a:xfrm>
          </p:grpSpPr>
          <p:sp>
            <p:nvSpPr>
              <p:cNvPr id="250" name=""/>
              <p:cNvSpPr/>
              <p:nvPr/>
            </p:nvSpPr>
            <p:spPr>
              <a:xfrm>
                <a:off x="3219480" y="5421600"/>
                <a:ext cx="0" cy="33480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3222720" y="5421600"/>
                <a:ext cx="326520" cy="1659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 flipV="1">
                <a:off x="3220920" y="5588640"/>
                <a:ext cx="326520" cy="165960"/>
              </a:xfrm>
              <a:prstGeom prst="line">
                <a:avLst/>
              </a:prstGeom>
              <a:ln w="1260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253" name=""/>
            <p:cNvSpPr/>
            <p:nvPr/>
          </p:nvSpPr>
          <p:spPr>
            <a:xfrm flipV="1">
              <a:off x="3714480" y="5335200"/>
              <a:ext cx="0" cy="2505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>
              <a:off x="2975040" y="5587560"/>
              <a:ext cx="2437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3718080" y="5333400"/>
              <a:ext cx="3265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56" name=""/>
          <p:cNvSpPr/>
          <p:nvPr/>
        </p:nvSpPr>
        <p:spPr>
          <a:xfrm>
            <a:off x="1960560" y="6248520"/>
            <a:ext cx="11973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Arial"/>
                <a:ea typeface="돋움"/>
              </a:rPr>
              <a:t>Layout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400480" y="3139920"/>
            <a:ext cx="317160" cy="23976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492200" y="4578480"/>
            <a:ext cx="317520" cy="2412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08400" y="4578480"/>
            <a:ext cx="317520" cy="2412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308400" y="5934240"/>
            <a:ext cx="317520" cy="239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492200" y="5934240"/>
            <a:ext cx="317520" cy="239400"/>
          </a:xfrm>
          <a:prstGeom prst="downArrow">
            <a:avLst>
              <a:gd name="adj1" fmla="val 50000"/>
              <a:gd name="adj2" fmla="val 50023"/>
            </a:avLst>
          </a:prstGeom>
          <a:solidFill>
            <a:srgbClr val="cc00cc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4618440" y="1751040"/>
            <a:ext cx="1715760" cy="71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HDL Design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Entity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6865560" y="2513160"/>
            <a:ext cx="2026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im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ystem Desig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Ver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4765680" y="3699000"/>
            <a:ext cx="2264400" cy="150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ynthe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RTL Optimiz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HDL Transl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Logic Optimiz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  <a:ea typeface="돋움"/>
              </a:rPr>
              <a:t>Test Gener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7081920" y="5222880"/>
            <a:ext cx="185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imul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mplemen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Verificatio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66" name=""/>
          <p:cNvGrpSpPr/>
          <p:nvPr/>
        </p:nvGrpSpPr>
        <p:grpSpPr>
          <a:xfrm>
            <a:off x="437400" y="1778040"/>
            <a:ext cx="9099360" cy="5081040"/>
            <a:chOff x="437400" y="1778040"/>
            <a:chExt cx="9099360" cy="5081040"/>
          </a:xfrm>
        </p:grpSpPr>
        <p:sp>
          <p:nvSpPr>
            <p:cNvPr id="267" name=""/>
            <p:cNvSpPr/>
            <p:nvPr/>
          </p:nvSpPr>
          <p:spPr>
            <a:xfrm>
              <a:off x="1124280" y="2051280"/>
              <a:ext cx="1557720" cy="807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928440" y="2116800"/>
              <a:ext cx="195012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RTL VHDL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ource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124280" y="3575520"/>
              <a:ext cx="1587240" cy="807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926280" y="3640680"/>
              <a:ext cx="198360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RTL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 </a:t>
              </a: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mula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207080" y="5099400"/>
              <a:ext cx="1358280" cy="807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010160" y="5164560"/>
              <a:ext cx="175176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Function 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OK?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4178880" y="2389680"/>
              <a:ext cx="1587240" cy="80784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3979800" y="2455200"/>
              <a:ext cx="19850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Transla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to Gates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096080" y="3405960"/>
              <a:ext cx="1833120" cy="80784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3935520" y="3471120"/>
              <a:ext cx="21542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Gate-level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Optimiza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0960" y="5099400"/>
              <a:ext cx="1511280" cy="807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064040" y="5164560"/>
              <a:ext cx="19058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Gate-level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mula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7480440" y="2559600"/>
              <a:ext cx="1283040" cy="114624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7284960" y="2624760"/>
              <a:ext cx="1674000" cy="130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peed &amp;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Function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OK?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7398360" y="4506480"/>
              <a:ext cx="1480320" cy="807480"/>
            </a:xfrm>
            <a:prstGeom prst="rect">
              <a:avLst/>
            </a:prstGeom>
            <a:noFill/>
            <a:ln w="25560">
              <a:solidFill>
                <a:srgbClr val="ffffcc"/>
              </a:solidFill>
              <a:miter/>
            </a:ln>
            <a:effectLst>
              <a:outerShdw dist="107932" dir="2700000" blurRad="0" rotWithShape="0">
                <a:srgbClr val="5f5f5f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7200720" y="4571640"/>
              <a:ext cx="1875240" cy="97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Gate-level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2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ign-Off</a:t>
              </a:r>
              <a:endParaRPr b="0" lang="en-US" sz="22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654640" y="2488680"/>
              <a:ext cx="2038320" cy="41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>
                <a:lnSpc>
                  <a:spcPct val="3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lang="en-US" sz="2600" spc="-1" strike="noStrike">
                  <a:solidFill>
                    <a:srgbClr val="ffffcc"/>
                  </a:solidFill>
                  <a:latin typeface="Arial"/>
                  <a:ea typeface="돋움"/>
                </a:rPr>
                <a:t>Synthesis</a:t>
              </a:r>
              <a:endParaRPr b="0" lang="en-US" sz="26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975480" y="2215440"/>
              <a:ext cx="2118600" cy="2172600"/>
            </a:xfrm>
            <a:prstGeom prst="rect">
              <a:avLst/>
            </a:prstGeom>
            <a:noFill/>
            <a:ln w="25560">
              <a:solidFill>
                <a:srgbClr val="ffcc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742680" y="2455200"/>
              <a:ext cx="414360" cy="3134160"/>
            </a:xfrm>
            <a:custGeom>
              <a:avLst/>
              <a:gdLst/>
              <a:ahLst/>
              <a:rect l="l" t="t" r="r" b="b"/>
              <a:pathLst>
                <a:path w="241" h="1777">
                  <a:moveTo>
                    <a:pt x="240" y="1776"/>
                  </a:moveTo>
                  <a:lnTo>
                    <a:pt x="0" y="1776"/>
                  </a:lnTo>
                  <a:lnTo>
                    <a:pt x="0" y="0"/>
                  </a:lnTo>
                  <a:lnTo>
                    <a:pt x="192" y="0"/>
                  </a:lnTo>
                </a:path>
              </a:pathLst>
            </a:custGeom>
            <a:noFill/>
            <a:ln cap="rnd" w="2556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1898280" y="2881800"/>
              <a:ext cx="0" cy="58896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00240" rIns="300240" tIns="150120" bIns="150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1898280" y="4405680"/>
              <a:ext cx="0" cy="58896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00240" rIns="300240" tIns="150120" bIns="150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5035320" y="4405680"/>
              <a:ext cx="0" cy="58896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00240" rIns="300240" tIns="150120" bIns="150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8172000" y="3813480"/>
              <a:ext cx="0" cy="588960"/>
            </a:xfrm>
            <a:prstGeom prst="line">
              <a:avLst/>
            </a:prstGeom>
            <a:ln w="25560">
              <a:solidFill>
                <a:srgbClr val="ffcc66"/>
              </a:solidFill>
              <a:miter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300240" rIns="300240" tIns="150120" bIns="150120" anchor="t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898280" y="1778040"/>
              <a:ext cx="3138480" cy="4658040"/>
            </a:xfrm>
            <a:custGeom>
              <a:avLst/>
              <a:gdLst/>
              <a:ahLst/>
              <a:rect l="l" t="t" r="r" b="b"/>
              <a:pathLst>
                <a:path w="1825" h="2641">
                  <a:moveTo>
                    <a:pt x="0" y="2352"/>
                  </a:moveTo>
                  <a:lnTo>
                    <a:pt x="0" y="2640"/>
                  </a:lnTo>
                  <a:lnTo>
                    <a:pt x="768" y="2640"/>
                  </a:lnTo>
                  <a:lnTo>
                    <a:pt x="768" y="0"/>
                  </a:lnTo>
                  <a:lnTo>
                    <a:pt x="1824" y="0"/>
                  </a:lnTo>
                  <a:lnTo>
                    <a:pt x="1824" y="240"/>
                  </a:lnTo>
                </a:path>
              </a:pathLst>
            </a:custGeom>
            <a:noFill/>
            <a:ln cap="rnd" w="2556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035320" y="1778040"/>
              <a:ext cx="3138120" cy="4658040"/>
            </a:xfrm>
            <a:custGeom>
              <a:avLst/>
              <a:gdLst/>
              <a:ahLst/>
              <a:rect l="l" t="t" r="r" b="b"/>
              <a:pathLst>
                <a:path w="1825" h="2641">
                  <a:moveTo>
                    <a:pt x="0" y="2352"/>
                  </a:moveTo>
                  <a:lnTo>
                    <a:pt x="0" y="2640"/>
                  </a:lnTo>
                  <a:lnTo>
                    <a:pt x="768" y="2640"/>
                  </a:lnTo>
                  <a:lnTo>
                    <a:pt x="768" y="0"/>
                  </a:lnTo>
                  <a:lnTo>
                    <a:pt x="1824" y="0"/>
                  </a:lnTo>
                  <a:lnTo>
                    <a:pt x="1824" y="432"/>
                  </a:lnTo>
                </a:path>
              </a:pathLst>
            </a:custGeom>
            <a:noFill/>
            <a:ln cap="rnd" w="2556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971440" y="3132720"/>
              <a:ext cx="6357960" cy="3726360"/>
            </a:xfrm>
            <a:custGeom>
              <a:avLst/>
              <a:gdLst/>
              <a:ahLst/>
              <a:rect l="l" t="t" r="r" b="b"/>
              <a:pathLst>
                <a:path w="3697" h="2113">
                  <a:moveTo>
                    <a:pt x="3408" y="0"/>
                  </a:moveTo>
                  <a:lnTo>
                    <a:pt x="3696" y="0"/>
                  </a:lnTo>
                  <a:lnTo>
                    <a:pt x="3696" y="2112"/>
                  </a:lnTo>
                  <a:lnTo>
                    <a:pt x="144" y="2112"/>
                  </a:lnTo>
                  <a:lnTo>
                    <a:pt x="0" y="2112"/>
                  </a:lnTo>
                  <a:lnTo>
                    <a:pt x="0" y="1872"/>
                  </a:lnTo>
                </a:path>
              </a:pathLst>
            </a:custGeom>
            <a:noFill/>
            <a:ln cap="rnd" w="25560">
              <a:solidFill>
                <a:srgbClr val="ffcc66"/>
              </a:solidFill>
              <a:round/>
              <a:tailEnd len="med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437400" y="5646240"/>
              <a:ext cx="92736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000" spc="-1" strike="noStrike">
                  <a:solidFill>
                    <a:srgbClr val="66ff33"/>
                  </a:solidFill>
                  <a:latin typeface="Arial"/>
                  <a:ea typeface="돋움"/>
                </a:rPr>
                <a:t>N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013760" y="5984640"/>
              <a:ext cx="104004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000" spc="-1" strike="noStrike">
                  <a:solidFill>
                    <a:srgbClr val="66ff33"/>
                  </a:solidFill>
                  <a:latin typeface="Arial"/>
                  <a:ea typeface="돋움"/>
                </a:rPr>
                <a:t>Y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609400" y="2682720"/>
              <a:ext cx="92736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000" spc="-1" strike="noStrike">
                  <a:solidFill>
                    <a:srgbClr val="66ff33"/>
                  </a:solidFill>
                  <a:latin typeface="Arial"/>
                  <a:ea typeface="돋움"/>
                </a:rPr>
                <a:t>No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030520" y="3809880"/>
              <a:ext cx="1040040" cy="60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00240" rIns="300240" tIns="150120" bIns="15012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1001880"/>
                  <a:tab algn="l" pos="2003400"/>
                  <a:tab algn="l" pos="3005280"/>
                  <a:tab algn="l" pos="4006800"/>
                  <a:tab algn="l" pos="5008680"/>
                  <a:tab algn="l" pos="6010200"/>
                  <a:tab algn="l" pos="7012080"/>
                  <a:tab algn="l" pos="8013600"/>
                  <a:tab algn="l" pos="9015480"/>
                  <a:tab algn="l" pos="10017000"/>
                </a:tabLst>
              </a:pPr>
              <a:r>
                <a:rPr b="0" i="1" lang="en-US" sz="2000" spc="-1" strike="noStrike">
                  <a:solidFill>
                    <a:srgbClr val="66ff33"/>
                  </a:solidFill>
                  <a:latin typeface="Arial"/>
                  <a:ea typeface="돋움"/>
                </a:rPr>
                <a:t>Yes</a:t>
              </a:r>
              <a:endParaRPr b="0" lang="en-US" sz="20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297" name=""/>
          <p:cNvSpPr/>
          <p:nvPr/>
        </p:nvSpPr>
        <p:spPr>
          <a:xfrm>
            <a:off x="2515320" y="457200"/>
            <a:ext cx="559260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HDL Design Methodolog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esign Exampl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blem : Design a single bit half adder with carry and enab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fic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819000" indent="-2854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puts and outputs are each one bi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819000" indent="-2854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When enable is high, result gets x plus 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819000" indent="-2854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When enable is high, carry gets any carry of x plus 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819000" indent="-2854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utputs are zero when enable input is low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300" name=""/>
          <p:cNvGrpSpPr/>
          <p:nvPr/>
        </p:nvGrpSpPr>
        <p:grpSpPr>
          <a:xfrm>
            <a:off x="1361520" y="6012000"/>
            <a:ext cx="6550560" cy="1099800"/>
            <a:chOff x="1361520" y="6012000"/>
            <a:chExt cx="6550560" cy="1099800"/>
          </a:xfrm>
        </p:grpSpPr>
        <p:sp>
          <p:nvSpPr>
            <p:cNvPr id="301" name=""/>
            <p:cNvSpPr/>
            <p:nvPr/>
          </p:nvSpPr>
          <p:spPr>
            <a:xfrm>
              <a:off x="3384000" y="6096240"/>
              <a:ext cx="2476080" cy="10155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Adde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860440" y="635004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860440" y="685800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393640" y="635004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393640" y="660420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2393640" y="685800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1796760" y="60120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1796760" y="62658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1361520" y="660420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nab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7050240" y="609624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arr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51680" y="651960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C4DE5-CE2B-4869-9B32-3E5E3E3DD78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esign Example:</a:t>
            </a:r>
            <a:br>
              <a:rPr sz="4000"/>
            </a:b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 </a:t>
            </a: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Entity Declar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s a first step, the entity declaration describes the interface of the compon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put and output </a:t>
            </a:r>
            <a:r>
              <a:rPr b="0" i="1" lang="en-US" sz="2400" spc="-1" strike="noStrike">
                <a:solidFill>
                  <a:srgbClr val="ffffcc"/>
                </a:solidFill>
                <a:latin typeface="Arial Narrow"/>
              </a:rPr>
              <a:t>ports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are declar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14" name=""/>
          <p:cNvSpPr/>
          <p:nvPr/>
        </p:nvSpPr>
        <p:spPr>
          <a:xfrm>
            <a:off x="1447920" y="3886200"/>
            <a:ext cx="5603760" cy="13136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TITY half_adder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PORT( x, y, enable : IN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arry, result :  OUT BI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D half_add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3260160" y="5925960"/>
            <a:ext cx="6550920" cy="1101600"/>
            <a:chOff x="3260160" y="5925960"/>
            <a:chExt cx="6550920" cy="1101600"/>
          </a:xfrm>
        </p:grpSpPr>
        <p:sp>
          <p:nvSpPr>
            <p:cNvPr id="316" name=""/>
            <p:cNvSpPr/>
            <p:nvPr/>
          </p:nvSpPr>
          <p:spPr>
            <a:xfrm>
              <a:off x="5282640" y="6010200"/>
              <a:ext cx="2476440" cy="1017360"/>
            </a:xfrm>
            <a:prstGeom prst="rect">
              <a:avLst/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Half Adder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759080" y="626472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759080" y="677340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4292280" y="626472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292280" y="651888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292280" y="6773400"/>
              <a:ext cx="9903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695400" y="592596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3695400" y="618012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260160" y="6518880"/>
              <a:ext cx="977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enable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8949240" y="6010200"/>
              <a:ext cx="808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carr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950680" y="6434640"/>
              <a:ext cx="86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cc"/>
                  </a:solidFill>
                  <a:latin typeface="Times New Roman"/>
                </a:rPr>
                <a:t>resul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862D9-0B3A-4505-910A-E5769FC2F00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esign Example: 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Behavioral Specif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93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high level description can be used to describe the function of the add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1238400" y="3124080"/>
            <a:ext cx="6191280" cy="405792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half_adder_a OF half_adder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 ( x, y, enable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IF enable = ‘1’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result &lt;= x XOR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arry &lt;= x AND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arry &lt;= ‘0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result &lt;= ‘0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D half_adder_a;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E638B-252D-4BFC-A823-14858AE585B4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1. Introduce  basic VHDL constr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2. Introduce the VHDL simulation cycle and timing mod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3. Illustrate VHDL’s utility as digital hardware description langu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ABC1D-1217-46D6-8944-F35AD8D2933A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esign Example: 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Data Flow Specif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1238400" y="3657600"/>
            <a:ext cx="6191280" cy="16185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half_adder_b OF half_adder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arry  &lt;= enable AND (x AND y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result &lt;= enable AND (x XOR y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END half_adder_b;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743040" y="2286000"/>
            <a:ext cx="8420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econd method is to use logic equations to develop a data flow descri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825480" y="5925960"/>
            <a:ext cx="8420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gain, the model can be simulated at this level to confirm the logic equation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71679-12A3-4506-ADD2-2C97D2888B7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825120" y="338040"/>
            <a:ext cx="842004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esign Example: 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tructural Specifica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743040" y="2286000"/>
            <a:ext cx="8420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 a third method, a structural description can be created from pre-described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>
            <a:off x="743040" y="5925960"/>
            <a:ext cx="8420040" cy="93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se gates can be pulled from a library of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graphicFrame>
        <p:nvGraphicFramePr>
          <p:cNvPr id="337" name=""/>
          <p:cNvGraphicFramePr/>
          <p:nvPr/>
        </p:nvGraphicFramePr>
        <p:xfrm>
          <a:off x="5214960" y="3614760"/>
          <a:ext cx="696960" cy="638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14960" y="3614760"/>
                    <a:ext cx="696960" cy="638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39" name=""/>
          <p:cNvGraphicFramePr/>
          <p:nvPr/>
        </p:nvGraphicFramePr>
        <p:xfrm>
          <a:off x="5203800" y="4492800"/>
          <a:ext cx="696960" cy="637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340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203800" y="4492800"/>
                    <a:ext cx="696960" cy="637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41" name=""/>
          <p:cNvGraphicFramePr/>
          <p:nvPr/>
        </p:nvGraphicFramePr>
        <p:xfrm>
          <a:off x="3301920" y="4660920"/>
          <a:ext cx="863640" cy="673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42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301920" y="4660920"/>
                    <a:ext cx="863640" cy="673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"/>
          <p:cNvSpPr/>
          <p:nvPr/>
        </p:nvSpPr>
        <p:spPr>
          <a:xfrm flipH="1">
            <a:off x="2481120" y="3727440"/>
            <a:ext cx="273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H="1">
            <a:off x="2481120" y="3933720"/>
            <a:ext cx="273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H="1">
            <a:off x="2481120" y="4141800"/>
            <a:ext cx="27338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121280" y="4971960"/>
            <a:ext cx="1093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>
            <a:off x="3026880" y="4869000"/>
            <a:ext cx="365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 flipH="1">
            <a:off x="2846160" y="5180040"/>
            <a:ext cx="546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3027240" y="3727080"/>
            <a:ext cx="0" cy="114156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 flipV="1">
            <a:off x="2846520" y="3933720"/>
            <a:ext cx="0" cy="12463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668840" y="4141800"/>
            <a:ext cx="0" cy="506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4668840" y="4648320"/>
            <a:ext cx="546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5899320" y="3948120"/>
            <a:ext cx="3981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5910120" y="4791240"/>
            <a:ext cx="3985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070000" y="346716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x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070000" y="3733920"/>
            <a:ext cx="28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1824840" y="4006800"/>
            <a:ext cx="71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enable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6327720" y="4557600"/>
            <a:ext cx="631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result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6327720" y="3727440"/>
            <a:ext cx="59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cc"/>
                </a:solidFill>
                <a:latin typeface="Times New Roman"/>
              </a:rPr>
              <a:t>carry</a:t>
            </a:r>
            <a:endParaRPr b="0" lang="en-US" sz="1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789280" y="3868560"/>
            <a:ext cx="90360" cy="10512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94120" y="3675240"/>
            <a:ext cx="90360" cy="1029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920" bIns="259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611600" y="4076640"/>
            <a:ext cx="90720" cy="10476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BE35D-C95B-4F8F-9102-0D3F5AE330D3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esign Example: 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Structural Specification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1238400" y="2201760"/>
            <a:ext cx="6191280" cy="47574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ARCHITECTURE half_adder_c OF half_adder IS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Component and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PORT(in0, in1 : IN BI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out0 : OUT BIT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END COMPONEN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Component and3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PORT(in0, in1, in2 : IN BI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out0 : OUT BIT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END COMPONEN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Component xor2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PORT(in0, in1 : IN BI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out0 : OUT BIT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1800" spc="-1" strike="noStrike">
                <a:solidFill>
                  <a:srgbClr val="ffffcc"/>
                </a:solidFill>
                <a:latin typeface="돋움"/>
                <a:ea typeface="돋움"/>
              </a:rPr>
              <a:t>END COMPONENT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ffff"/>
                </a:solidFill>
                <a:latin typeface="돋움"/>
                <a:ea typeface="돋움"/>
              </a:rPr>
              <a:t>-- next continu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C870B-F0B8-49CC-8CE7-F99F48CCB7B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1238400" y="2962440"/>
            <a:ext cx="7264080" cy="34480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FOR ALL : and2 USE ENTITY gate_lib.and2_Nty(and2_a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FOR ALL : and3 USE ENTITY gate_lib.and3_Nty(and3_a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FOR ALL : xor2 USE ENTITY gate_lib.xor2_Nty(xor2_a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xor_res :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0 : and2 PORT MAP (enable, xor_res, resul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1 : and3 PORT MAP (x,y, enable, carry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X0 : and2 PORT MAP (x,y, xor_res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half_adder_c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051F-E595-43E9-9831-EBE2CD8CB455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Model Compon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complete VHDL component description requires a VHDL</a:t>
            </a:r>
            <a:r>
              <a:rPr b="0" lang="en-US" sz="2800" spc="-1" strike="noStrike">
                <a:solidFill>
                  <a:srgbClr val="cc00cc"/>
                </a:solidFill>
                <a:latin typeface="Times New Roman"/>
              </a:rPr>
              <a:t> 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</a:rPr>
              <a:t>entity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and a VHDL </a:t>
            </a:r>
            <a:r>
              <a:rPr b="0" i="1" lang="en-US" sz="2800" spc="-1" strike="noStrike">
                <a:solidFill>
                  <a:srgbClr val="cc00cc"/>
                </a:solidFill>
                <a:latin typeface="Times New Roman"/>
              </a:rPr>
              <a:t>architectu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e entity defines a component’s interfac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e architecture defines a component’s func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everal alternative architectures may be developed for use with the s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areas of description for a VHDL compon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tructural descrip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ehavioral descrip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35480" indent="-2829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iming and delay descrip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79AF6-A917-4605-9F6C-AF4790D12341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/>
          </p:nvPr>
        </p:nvSpPr>
        <p:spPr>
          <a:xfrm>
            <a:off x="742680" y="1608120"/>
            <a:ext cx="916308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undamental unit for component behavior description is the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rocess may be explicitly or implicitly defined and are packaged in the architectur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imary communication mechanism is the sign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rocess executions result in new values being assigned to signals which are then accessible to other processes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milarly, a single may be accessed by a process in another architecture by connecting the signal to ports in the entities associated with the two architectures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 signal assignment statement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title"/>
          </p:nvPr>
        </p:nvSpPr>
        <p:spPr>
          <a:xfrm>
            <a:off x="743040" y="338040"/>
            <a:ext cx="8750160" cy="127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Model Components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2209680" y="6629400"/>
            <a:ext cx="396252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Output &lt;= My_id +10;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0AD3C-876C-460E-B8AC-8862410BA2D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ntity Declara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rimary purpose of the entity is to declare the signals in the component’s interfac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e interface signals are listed in the PORT claus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In this respect, the entity is akin to the schematic symbol for the component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dditional entity clauses and statement will be introduced later in this and subsequent modul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50BC7-A6A7-4508-8E60-C41342B9E46B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/>
          </p:nvPr>
        </p:nvSpPr>
        <p:spPr>
          <a:xfrm>
            <a:off x="742680" y="194796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ORT clause declares the interface signals of the object to the outside worl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parts of the PORT  cla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Nam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Mod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ata Typ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 PORT cla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Note port signals(I.e. ‘port’) of the same mode and type or subtype may be declared on the same lin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ntity Declaration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Port Claus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286000" y="6324480"/>
            <a:ext cx="6191280" cy="6426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PORT ( input : IN BIT_VECTOR(3 DOWNTO 0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           </a:t>
            </a: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ready, output : OUT BIT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505320" y="3809880"/>
            <a:ext cx="5695920" cy="3682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PORT (</a:t>
            </a:r>
            <a:r>
              <a:rPr b="0" i="1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signal_name : mode data_type</a:t>
            </a: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C7041-47E4-4370-B5AF-AB75DB388C4C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ort mode of the interface describes the direction in which data travels with respect to the compon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ive available port modes are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-data comes in this port and can only be rea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ut-data travels out this por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uffer-data may travel in either direction, but only one signal driver may be on at any one tim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 out-data may travel in either direction with any number of active drivers allowed ; requires a Bus Resolution Func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Linkage-direction of data flow is unknow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Entity Declaration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Port Clause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71683-84E2-435D-AA17-950A1526F06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"/>
          <p:cNvSpPr/>
          <p:nvPr/>
        </p:nvSpPr>
        <p:spPr>
          <a:xfrm>
            <a:off x="3797640" y="425520"/>
            <a:ext cx="110592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Por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1438200" y="1778040"/>
            <a:ext cx="3019680" cy="5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2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Design block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과의 연결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>
            <a:off x="1698120" y="2695680"/>
            <a:ext cx="4865040" cy="156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IN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OUT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INOUT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bidirec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BUFFER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output and read </a:t>
            </a:r>
            <a:r>
              <a:rPr b="0" lang="ko-KR" sz="2400" spc="-1" strike="noStrike">
                <a:solidFill>
                  <a:srgbClr val="ffffcc"/>
                </a:solidFill>
                <a:latin typeface="Arial"/>
                <a:ea typeface="돋움"/>
              </a:rPr>
              <a:t>가능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rot="5340000">
            <a:off x="2428560" y="4790880"/>
            <a:ext cx="50796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1819440" y="5079960"/>
            <a:ext cx="57456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2975040" y="5079960"/>
            <a:ext cx="574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 rot="5340000">
            <a:off x="6225840" y="4874760"/>
            <a:ext cx="50796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5616720" y="5164200"/>
            <a:ext cx="574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772320" y="5164200"/>
            <a:ext cx="65736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 rot="5340000">
            <a:off x="2428200" y="5891040"/>
            <a:ext cx="50832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 rot="16140000">
            <a:off x="2428560" y="6652800"/>
            <a:ext cx="50796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2975040" y="6180120"/>
            <a:ext cx="409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 flipH="1">
            <a:off x="1819440" y="6180120"/>
            <a:ext cx="574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 flipV="1">
            <a:off x="2641680" y="5758920"/>
            <a:ext cx="0" cy="2509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flipH="1">
            <a:off x="1819440" y="5757840"/>
            <a:ext cx="822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2975040" y="6942240"/>
            <a:ext cx="409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V="1">
            <a:off x="3384720" y="6181560"/>
            <a:ext cx="0" cy="75888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 flipH="1">
            <a:off x="1901520" y="6942240"/>
            <a:ext cx="492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3387600" y="6180120"/>
            <a:ext cx="409680" cy="0"/>
          </a:xfrm>
          <a:prstGeom prst="line">
            <a:avLst/>
          </a:prstGeom>
          <a:ln w="12600">
            <a:solidFill>
              <a:srgbClr val="ffffcc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 rot="5340000">
            <a:off x="6225840" y="5976720"/>
            <a:ext cx="50796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0" name=""/>
          <p:cNvSpPr/>
          <p:nvPr/>
        </p:nvSpPr>
        <p:spPr>
          <a:xfrm rot="16140000">
            <a:off x="6225840" y="6738480"/>
            <a:ext cx="507960" cy="577800"/>
          </a:xfrm>
          <a:prstGeom prst="triangle">
            <a:avLst>
              <a:gd name="adj" fmla="val 49981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772320" y="6265800"/>
            <a:ext cx="7398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 flipH="1">
            <a:off x="5616720" y="6265800"/>
            <a:ext cx="57456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6772320" y="7027920"/>
            <a:ext cx="4096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>
            <a:off x="7182000" y="6267240"/>
            <a:ext cx="0" cy="75852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 flipH="1">
            <a:off x="5698800" y="7027920"/>
            <a:ext cx="492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1235160" y="4826160"/>
            <a:ext cx="48132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돋움"/>
              </a:rPr>
              <a:t>I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7655040" y="4923000"/>
            <a:ext cx="790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돋움"/>
              </a:rPr>
              <a:t>OU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890520" y="5925960"/>
            <a:ext cx="10695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돋움"/>
              </a:rPr>
              <a:t>INOU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7669800" y="6012000"/>
            <a:ext cx="1317960" cy="43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cc66"/>
                </a:solidFill>
                <a:latin typeface="Arial"/>
                <a:ea typeface="돋움"/>
              </a:rPr>
              <a:t>BUFF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D225D-EEC0-49CA-A080-533F92F696A6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Module Outlin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761760" y="1676520"/>
            <a:ext cx="8420040" cy="5943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troduc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Design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Mode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ntity Declara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rchitecture descrip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iming Mode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VHDL Constr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ata Typ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equential and concurrent statemen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ackage and librari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ttribut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redefined operator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ECDDA-7559-4FD0-B98D-8F12C47E081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Entity Declaration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Generic Claus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ics may be used for readability, maintenance and configu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ic clause synta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f optional default_value missing in generic clause declaration, it must be present when component is to be used (I.e. instantiated)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ic clause example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288000" indent="-2880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generic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My_ID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, with a default value of 37, can be referenced by any architecture of the entity with this generic claus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1676520" y="3352680"/>
            <a:ext cx="6019560" cy="3682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GENERIC (generic_name : type [ :=default_value]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1676520" y="5715000"/>
            <a:ext cx="4419360" cy="3682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돋움"/>
                <a:ea typeface="돋움"/>
              </a:rPr>
              <a:t>GENERIC (My_ID : INTEGER  :=37);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BC3D-ECD0-4CAC-A172-106D3A72601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"/>
          <p:cNvSpPr/>
          <p:nvPr/>
        </p:nvSpPr>
        <p:spPr>
          <a:xfrm>
            <a:off x="2214000" y="495360"/>
            <a:ext cx="5339880" cy="71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ARCHITECTURE BOD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>
            <a:off x="1588680" y="1778040"/>
            <a:ext cx="5220000" cy="90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2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zh-CN" sz="2200" spc="-1" strike="noStrike">
                <a:solidFill>
                  <a:srgbClr val="ffffcc"/>
                </a:solidFill>
                <a:latin typeface="Arial"/>
                <a:ea typeface="돋움"/>
              </a:rPr>
              <a:t>회로의 실질적인 동작이나 연결 상태 등을 표현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2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zh-CN" sz="2200" spc="-1" strike="noStrike">
                <a:solidFill>
                  <a:srgbClr val="ffffcc"/>
                </a:solidFill>
                <a:latin typeface="Arial"/>
                <a:ea typeface="돋움"/>
              </a:rPr>
              <a:t>하나의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entity</a:t>
            </a:r>
            <a:r>
              <a:rPr b="0" lang="zh-CN" sz="2200" spc="-1" strike="noStrike">
                <a:solidFill>
                  <a:srgbClr val="ffffcc"/>
                </a:solidFill>
                <a:latin typeface="Arial"/>
                <a:ea typeface="돋움"/>
              </a:rPr>
              <a:t>에 복수개의 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architecture </a:t>
            </a:r>
            <a:r>
              <a:rPr b="0" lang="zh-CN" sz="2200" spc="-1" strike="noStrike">
                <a:solidFill>
                  <a:srgbClr val="ffffcc"/>
                </a:solidFill>
                <a:latin typeface="Arial"/>
                <a:ea typeface="돋움"/>
              </a:rPr>
              <a:t>사용 가능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2147760" y="3895560"/>
            <a:ext cx="4330800" cy="2527560"/>
          </a:xfrm>
          <a:prstGeom prst="rect">
            <a:avLst/>
          </a:prstGeom>
          <a:noFill/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437200" y="3951360"/>
            <a:ext cx="3751560" cy="24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돋움"/>
              </a:rPr>
              <a:t>architecture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돋움"/>
              </a:rPr>
              <a:t>   </a:t>
            </a:r>
            <a:r>
              <a:rPr b="0" lang="zh-CN" sz="2400" spc="-1" strike="noStrike">
                <a:solidFill>
                  <a:srgbClr val="ffcc66"/>
                </a:solidFill>
                <a:latin typeface="Arial"/>
                <a:ea typeface="돋움"/>
              </a:rPr>
              <a:t>동작 표현 이름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돋움"/>
              </a:rPr>
              <a:t>i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돋움"/>
              </a:rPr>
              <a:t>	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돋움"/>
              </a:rPr>
              <a:t>[</a:t>
            </a:r>
            <a:r>
              <a:rPr b="0" lang="zh-CN" sz="2400" spc="-1" strike="noStrike">
                <a:solidFill>
                  <a:srgbClr val="ffcc66"/>
                </a:solidFill>
                <a:latin typeface="Arial"/>
                <a:ea typeface="돋움"/>
              </a:rPr>
              <a:t>선언문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돋움"/>
              </a:rPr>
              <a:t>]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돋움"/>
              </a:rPr>
              <a:t>begi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zh-CN" sz="2400" spc="-1" strike="noStrike">
                <a:solidFill>
                  <a:srgbClr val="ffcc66"/>
                </a:solidFill>
                <a:latin typeface="Arial"/>
                <a:ea typeface="돋움"/>
              </a:rPr>
              <a:t>동작 표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3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400" spc="-1" strike="noStrike">
                <a:solidFill>
                  <a:srgbClr val="cc00cc"/>
                </a:solidFill>
                <a:latin typeface="Arial"/>
                <a:ea typeface="돋움"/>
              </a:rPr>
              <a:t>end </a:t>
            </a:r>
            <a:r>
              <a:rPr b="0" lang="en-US" sz="2400" spc="-1" strike="noStrike">
                <a:solidFill>
                  <a:srgbClr val="ffcc66"/>
                </a:solidFill>
                <a:latin typeface="Arial"/>
                <a:ea typeface="돋움"/>
              </a:rPr>
              <a:t>entity</a:t>
            </a:r>
            <a:r>
              <a:rPr b="0" lang="zh-CN" sz="2400" spc="-1" strike="noStrike">
                <a:solidFill>
                  <a:srgbClr val="ffcc66"/>
                </a:solidFill>
                <a:latin typeface="Arial"/>
                <a:ea typeface="돋움"/>
              </a:rPr>
              <a:t>이름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F795-286D-490A-B69B-E4E3F70AA2C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rchitecture Bod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scribe the operation of the compon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sist of two part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eclarative part -- includes necessary declarations, e.g.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type declarations, signal declarations, component declarations, subprogram declarations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tatement part -- includes statements that describe organization and/or functional operation of component, e.g.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concurrent signal assignment statements, process statements, component instantiation statements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0" name=""/>
          <p:cNvSpPr/>
          <p:nvPr/>
        </p:nvSpPr>
        <p:spPr>
          <a:xfrm>
            <a:off x="1447920" y="5334120"/>
            <a:ext cx="6191280" cy="22284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half_adder_d OF half_adder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ignal xor_res :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carry    &lt;= enable AND (x AND y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result   &lt;= enable AND xor_re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xor_res &lt;= x XOR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half_adder_d;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299AF-991B-4818-B36C-3A6BE4A1F63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Structural Descrip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e-defined VHDL components are ‘instantiated’ and connected togeth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ructural descriptions may connect simple gates or complex, abstract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sms for supporting hierarchical descrip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sms for describing highly repetitive structures easi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9220-5A27-40E2-9D8D-859CF9CF7D8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provides two styles of describing component behavio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ata Flow : concurrent signal assignment statements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ehavioral : processes use to describe complex behavior by means of high-level language construc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variables, loops, if-then-else statements, etc.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behavioral model may bear little resemblance to system imple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tructure not necessarily impli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Behavioral Description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505320" y="6248520"/>
            <a:ext cx="2361960" cy="68580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havioral 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Descrip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66880" y="6553080"/>
            <a:ext cx="83844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5867280" y="655308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570320" y="6364440"/>
            <a:ext cx="92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6757200" y="6324480"/>
            <a:ext cx="11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C0DC7-6E5B-4063-B24E-4898E39CF5B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iming Model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uses a simulation cycle to model the stimulus and response nature of digital hardwar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295280" y="3276720"/>
            <a:ext cx="2590920" cy="533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tart simula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1295280" y="4572000"/>
            <a:ext cx="2590920" cy="5335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pdate signal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6248520" y="4572000"/>
            <a:ext cx="2590560" cy="53352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xecute proces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6248520" y="6019920"/>
            <a:ext cx="2590560" cy="533160"/>
          </a:xfrm>
          <a:prstGeom prst="rect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000000"/>
                </a:solidFill>
                <a:latin typeface="Arial"/>
              </a:rPr>
              <a:t>End simualtion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2514600" y="3809880"/>
            <a:ext cx="0" cy="762120"/>
          </a:xfrm>
          <a:prstGeom prst="line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7467480" y="5181480"/>
            <a:ext cx="0" cy="762120"/>
          </a:xfrm>
          <a:prstGeom prst="line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 flipV="1">
            <a:off x="7467480" y="4114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 flipH="1">
            <a:off x="6095880" y="411480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flipH="1">
            <a:off x="3276720" y="411480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276720" y="411480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 flipV="1">
            <a:off x="2895480" y="51055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 flipH="1">
            <a:off x="5715000" y="5562720"/>
            <a:ext cx="137160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flipH="1">
            <a:off x="2895480" y="5562720"/>
            <a:ext cx="2819520" cy="0"/>
          </a:xfrm>
          <a:prstGeom prst="line">
            <a:avLst/>
          </a:prstGeom>
          <a:ln w="2844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7086600" y="5105520"/>
            <a:ext cx="0" cy="457200"/>
          </a:xfrm>
          <a:prstGeom prst="line">
            <a:avLst/>
          </a:prstGeom>
          <a:ln w="28440">
            <a:solidFill>
              <a:srgbClr val="ffffcc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667760" y="3884760"/>
            <a:ext cx="95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Arial"/>
              </a:rPr>
              <a:t>delay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75DA-4C63-4263-887E-E0478ECEA3ED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elay Typ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VHDL signal assignment statements prescribe an amount of time that must transpire before the signal assumes its new valu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prescribed delay can be in one of three form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ransport - prescribes propagation delay onl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ertial - prescribes minimum input pulse width and propagation dela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elta - the default if no delay is explicitly specifi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grpSp>
        <p:nvGrpSpPr>
          <p:cNvPr id="449" name=""/>
          <p:cNvGrpSpPr/>
          <p:nvPr/>
        </p:nvGrpSpPr>
        <p:grpSpPr>
          <a:xfrm>
            <a:off x="2667600" y="5867280"/>
            <a:ext cx="4481640" cy="1143000"/>
            <a:chOff x="2667600" y="5867280"/>
            <a:chExt cx="4481640" cy="1143000"/>
          </a:xfrm>
        </p:grpSpPr>
        <p:sp>
          <p:nvSpPr>
            <p:cNvPr id="450" name=""/>
            <p:cNvSpPr/>
            <p:nvPr/>
          </p:nvSpPr>
          <p:spPr>
            <a:xfrm rot="5400000">
              <a:off x="4152600" y="5829120"/>
              <a:ext cx="1143000" cy="1219320"/>
            </a:xfrm>
            <a:prstGeom prst="triangle">
              <a:avLst>
                <a:gd name="adj" fmla="val 50000"/>
              </a:avLst>
            </a:prstGeom>
            <a:solidFill>
              <a:srgbClr val="ff9933"/>
            </a:solidFill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delay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334120" y="643896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657600" y="6477120"/>
              <a:ext cx="45720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667600" y="6172200"/>
              <a:ext cx="925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inp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6020640" y="6172200"/>
              <a:ext cx="11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cc"/>
                  </a:solidFill>
                  <a:latin typeface="Arial"/>
                </a:rPr>
                <a:t>output</a:t>
              </a: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748AA-3C4E-4B08-BB75-E018E8CCD15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"/>
          <p:cNvSpPr/>
          <p:nvPr/>
        </p:nvSpPr>
        <p:spPr>
          <a:xfrm>
            <a:off x="1523880" y="3809880"/>
            <a:ext cx="662940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-- TRANSPORT must be specifie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Output &lt;= TRANSPORT NOT Input AFTER 10 n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Transport Dela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lay must be explicitly specified by us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Keyword “TRANSPORT” must be us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ignal will assume its new value after specified de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 rot="5400000">
            <a:off x="1925280" y="4822560"/>
            <a:ext cx="761760" cy="87012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2741760" y="5257800"/>
            <a:ext cx="326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544760" y="5283360"/>
            <a:ext cx="326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762480" y="51814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3188520" y="51530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5410080" y="5105520"/>
            <a:ext cx="0" cy="16002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5410080" y="6705720"/>
            <a:ext cx="38862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5410080" y="57150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7010280" y="57150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7" name=""/>
          <p:cNvSpPr/>
          <p:nvPr/>
        </p:nvSpPr>
        <p:spPr>
          <a:xfrm>
            <a:off x="6324480" y="52578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6324480" y="52578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7010280" y="52578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7924680" y="52578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7924680" y="52578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5410080" y="6095880"/>
            <a:ext cx="1828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 flipV="1">
            <a:off x="7238880" y="60958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 flipV="1">
            <a:off x="7924680" y="60958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65530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924680" y="6095880"/>
            <a:ext cx="9907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4420080" y="54100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344120" y="59436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666880" y="5181480"/>
            <a:ext cx="152640" cy="15264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BD4A-0D0D-4B0E-AD8E-41B8868A321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ertial Dela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s for specification of input pulse width, I.e. ‘inertial’ of output, and propagation delay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762120" y="350532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Inertial delay is default and REJECT is optional :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1447920" y="4191120"/>
            <a:ext cx="746748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Output &lt;= TRANSPORT NOT Input AFTER 10 n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-- Propagation delay and minimum pulse width are 10 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 rot="5400000">
            <a:off x="1773360" y="5051520"/>
            <a:ext cx="761760" cy="869760"/>
          </a:xfrm>
          <a:prstGeom prst="triangle">
            <a:avLst>
              <a:gd name="adj" fmla="val 50000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delay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589120" y="5500800"/>
            <a:ext cx="327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1392120" y="5526000"/>
            <a:ext cx="327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610200" y="54244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3035880" y="539604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410080" y="5562720"/>
            <a:ext cx="0" cy="16002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5410080" y="7162920"/>
            <a:ext cx="388620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5410080" y="61722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7010280" y="61722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6324480" y="571500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 flipV="1">
            <a:off x="6324480" y="5715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 flipV="1">
            <a:off x="7010280" y="5715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7924680" y="571500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 flipV="1">
            <a:off x="7924680" y="571500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5410080" y="6553080"/>
            <a:ext cx="2971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 flipV="1">
            <a:off x="8381880" y="65530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8381880" y="7010280"/>
            <a:ext cx="685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4420080" y="586728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4344120" y="640080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2514600" y="5424480"/>
            <a:ext cx="152280" cy="152280"/>
          </a:xfrm>
          <a:prstGeom prst="ellipse">
            <a:avLst/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1523880" y="2895480"/>
            <a:ext cx="762012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Target &lt;= [REJECT time_expression] INERTIAL waveform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0418F-744D-4EF5-B06A-ED5857AE5288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Inertial Delay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Example of gate with ‘inertia’ smaller than propagation de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e.g. Inverter with propagation delay of 10 ns which suppresses pulses shorter than 5 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07" name=""/>
          <p:cNvSpPr/>
          <p:nvPr/>
        </p:nvSpPr>
        <p:spPr>
          <a:xfrm>
            <a:off x="762120" y="6553080"/>
            <a:ext cx="842004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 that REJECT feature is new to VHDL 1076-1993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1523880" y="3705120"/>
            <a:ext cx="77724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Output &lt;= REJECT 5 ns INERTIAL NOT Input AFTER 10 n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3124080" y="4343400"/>
            <a:ext cx="0" cy="160020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3124080" y="5943600"/>
            <a:ext cx="518184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124080" y="4952880"/>
            <a:ext cx="7621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4267080" y="4952880"/>
            <a:ext cx="121932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3886200" y="4495680"/>
            <a:ext cx="38088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 flipV="1">
            <a:off x="38862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 flipV="1">
            <a:off x="426708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6400800" y="4952880"/>
            <a:ext cx="18288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 flipV="1">
            <a:off x="64008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3124080" y="5334120"/>
            <a:ext cx="38862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flipV="1">
            <a:off x="7010280" y="53341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7010280" y="579132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58120" y="4648320"/>
            <a:ext cx="74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in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981800" y="5181480"/>
            <a:ext cx="89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cc"/>
                </a:solidFill>
                <a:latin typeface="Arial"/>
              </a:rPr>
              <a:t>output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388620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472428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48640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24852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01028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5486400" y="4495680"/>
            <a:ext cx="91440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 flipV="1">
            <a:off x="5486400" y="449568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7772400" y="4343400"/>
            <a:ext cx="0" cy="1600200"/>
          </a:xfrm>
          <a:prstGeom prst="line">
            <a:avLst/>
          </a:prstGeom>
          <a:ln cap="rnd" w="12600">
            <a:solidFill>
              <a:srgbClr val="00ff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 flipV="1">
            <a:off x="7924680" y="5334120"/>
            <a:ext cx="0" cy="45720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7924680" y="5334120"/>
            <a:ext cx="381240" cy="0"/>
          </a:xfrm>
          <a:prstGeom prst="line">
            <a:avLst/>
          </a:prstGeom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2973240" y="598500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0        5        10      15      20      25      3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C28A-ED35-4FA1-821C-81919FB796C9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Introduction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Design Exampl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Mode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VHDL Construc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lnSpc>
                <a:spcPct val="200000"/>
              </a:lnSpc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56365-4D09-4D4A-AD96-AC3F7170551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elta Dela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3124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fault signal assignment propagation delay if no delay is explicitly prescrib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HDL signals assignment cannot take place immediatel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Delta is an infinitesimal VHDL time unit so that all signal assignment can result in signals assuming their values at some future tim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.g. 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536" name=""/>
          <p:cNvSpPr/>
          <p:nvPr/>
        </p:nvSpPr>
        <p:spPr>
          <a:xfrm>
            <a:off x="762120" y="5257800"/>
            <a:ext cx="8420040" cy="312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pport a model of concurrent VHDL process execu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rder in which processes are executed by simulator does not affect simulation outpu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2209680" y="4543560"/>
            <a:ext cx="647712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Output &lt;= NOT Inpu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--Output assumes new value in one delta cycl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6077E-E996-45D9-9DC8-69D2F367CA12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elta Dela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is the behavior of C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902520" y="4789440"/>
            <a:ext cx="3873240" cy="22885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NAND gate evaluated first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: 1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 : 0-&gt;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  : 1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  : 0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473800" y="4791240"/>
            <a:ext cx="3670200" cy="22885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ND gate evaluated first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IN : 1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A  : 0-&gt;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  : 0-&gt;1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B  : 1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ffffcc"/>
                </a:solidFill>
                <a:latin typeface="Arial"/>
              </a:rPr>
              <a:t>C  : 1-&gt;0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1144080" y="2514600"/>
            <a:ext cx="6626160" cy="1857240"/>
            <a:chOff x="1144080" y="2514600"/>
            <a:chExt cx="6626160" cy="1857240"/>
          </a:xfrm>
        </p:grpSpPr>
        <p:graphicFrame>
          <p:nvGraphicFramePr>
            <p:cNvPr id="543" name=""/>
            <p:cNvGraphicFramePr/>
            <p:nvPr/>
          </p:nvGraphicFramePr>
          <p:xfrm>
            <a:off x="4851360" y="3733920"/>
            <a:ext cx="69696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851360" y="3733920"/>
                      <a:ext cx="69696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45" name=""/>
            <p:cNvGraphicFramePr/>
            <p:nvPr/>
          </p:nvGraphicFramePr>
          <p:xfrm>
            <a:off x="6299280" y="2790720"/>
            <a:ext cx="69696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299280" y="2790720"/>
                      <a:ext cx="69696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47" name=""/>
            <p:cNvSpPr/>
            <p:nvPr/>
          </p:nvSpPr>
          <p:spPr>
            <a:xfrm rot="5400000">
              <a:off x="3177720" y="2536560"/>
              <a:ext cx="761760" cy="8701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962520" y="290988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114800" y="2971800"/>
              <a:ext cx="2184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6985080" y="312408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2362320" y="297180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53716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689440" y="4038480"/>
              <a:ext cx="304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 flipV="1">
              <a:off x="5994360" y="3276720"/>
              <a:ext cx="0" cy="761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5994360" y="3276720"/>
              <a:ext cx="304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 flipH="1">
              <a:off x="4266720" y="3886200"/>
              <a:ext cx="584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 flipV="1">
              <a:off x="4267080" y="2971800"/>
              <a:ext cx="0" cy="9144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 flipH="1">
              <a:off x="2437920" y="4191120"/>
              <a:ext cx="2413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144080" y="281952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IN : 1-&gt;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1906920" y="396252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5221440" y="25146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7425000" y="26668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602320" y="35812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6A02B-4444-49B8-8725-D720C1F8B97A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elta Delay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An Example with Delta Dela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85440" y="38858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ing delta delay schedul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1260360" y="4419720"/>
            <a:ext cx="6255360" cy="314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Time           Delta                                         Ev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0 ns               1                                        IN : 1-&gt; 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eval INVERTER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2                                         A :  0-&gt;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eval NAND, 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3                                         B : 1-&gt;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                    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C : 0-&gt;1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eval  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4                                        C : 1-&gt;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</a:rPr>
              <a:t>1 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1371600" y="4724280"/>
            <a:ext cx="5335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590920" y="4724280"/>
            <a:ext cx="76176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43600" y="4724280"/>
            <a:ext cx="990720" cy="0"/>
          </a:xfrm>
          <a:prstGeom prst="line">
            <a:avLst/>
          </a:prstGeom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1295280" y="5334120"/>
            <a:ext cx="609624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1295280" y="5943600"/>
            <a:ext cx="609624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 flipH="1">
            <a:off x="1295280" y="6934320"/>
            <a:ext cx="609624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295280" y="7543800"/>
            <a:ext cx="6096240" cy="0"/>
          </a:xfrm>
          <a:prstGeom prst="line">
            <a:avLst/>
          </a:prstGeom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574" name=""/>
          <p:cNvGrpSpPr/>
          <p:nvPr/>
        </p:nvGrpSpPr>
        <p:grpSpPr>
          <a:xfrm>
            <a:off x="1601280" y="1752480"/>
            <a:ext cx="6626160" cy="1857240"/>
            <a:chOff x="1601280" y="1752480"/>
            <a:chExt cx="6626160" cy="1857240"/>
          </a:xfrm>
        </p:grpSpPr>
        <p:graphicFrame>
          <p:nvGraphicFramePr>
            <p:cNvPr id="575" name=""/>
            <p:cNvGraphicFramePr/>
            <p:nvPr/>
          </p:nvGraphicFramePr>
          <p:xfrm>
            <a:off x="5308560" y="2971800"/>
            <a:ext cx="696960" cy="6379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7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5308560" y="2971800"/>
                      <a:ext cx="696960" cy="63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577" name=""/>
            <p:cNvGraphicFramePr/>
            <p:nvPr/>
          </p:nvGraphicFramePr>
          <p:xfrm>
            <a:off x="6756480" y="2028600"/>
            <a:ext cx="696960" cy="6382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78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56480" y="2028600"/>
                      <a:ext cx="696960" cy="6382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579" name=""/>
            <p:cNvSpPr/>
            <p:nvPr/>
          </p:nvSpPr>
          <p:spPr>
            <a:xfrm rot="5400000">
              <a:off x="3634920" y="1774440"/>
              <a:ext cx="761760" cy="870120"/>
            </a:xfrm>
            <a:prstGeom prst="triangle">
              <a:avLst>
                <a:gd name="adj" fmla="val 50000"/>
              </a:avLst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419720" y="214776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572000" y="2209680"/>
              <a:ext cx="21844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7442280" y="236196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819520" y="2209680"/>
              <a:ext cx="76176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94360" y="320040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46640" y="3276360"/>
              <a:ext cx="304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 flipV="1">
              <a:off x="6451560" y="2514600"/>
              <a:ext cx="0" cy="76176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6451560" y="2514600"/>
              <a:ext cx="30492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>
              <a:off x="4723920" y="3124080"/>
              <a:ext cx="5842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4724280" y="2209680"/>
              <a:ext cx="0" cy="91440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flipH="1">
              <a:off x="2895120" y="3429000"/>
              <a:ext cx="2413080" cy="0"/>
            </a:xfrm>
            <a:prstGeom prst="line">
              <a:avLst/>
            </a:prstGeom>
            <a:ln w="12600">
              <a:solidFill>
                <a:srgbClr val="ff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1601280" y="2057400"/>
              <a:ext cx="1064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IN : 1-&gt;0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2364120" y="320040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5678640" y="175248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A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7882200" y="19047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C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6059520" y="281916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cc"/>
                  </a:solidFill>
                  <a:latin typeface="Arial"/>
                </a:rPr>
                <a:t>B</a:t>
              </a:r>
              <a:endParaRPr b="0" lang="en-US" sz="18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43A1-EC5B-4AF1-8365-2BD8CFBC61F6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ata Typ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declarations VHDL ports, signals, and variables must specify corresponding type or sub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809880" y="297180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Typ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1295280" y="3886200"/>
            <a:ext cx="152424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200" spc="-1" strike="noStrike">
                <a:solidFill>
                  <a:srgbClr val="cc00cc"/>
                </a:solidFill>
                <a:latin typeface="Arial"/>
              </a:rPr>
              <a:t>Aces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6248520" y="38862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Composit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39152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Recor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257800" y="472428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Array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62520" y="54864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Scala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1447920" y="64008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Integ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276720" y="64008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Rea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257800" y="64008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Enumerate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7162920" y="6400800"/>
            <a:ext cx="1523880" cy="533520"/>
          </a:xfrm>
          <a:prstGeom prst="roundRect">
            <a:avLst>
              <a:gd name="adj" fmla="val 16667"/>
            </a:avLst>
          </a:prstGeom>
          <a:solidFill>
            <a:srgbClr val="ff9933"/>
          </a:soli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cc00cc"/>
                </a:solidFill>
                <a:latin typeface="Arial"/>
              </a:rPr>
              <a:t>Physica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 flipH="1">
            <a:off x="2895480" y="3581280"/>
            <a:ext cx="1447920" cy="4572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4419720" y="3581280"/>
            <a:ext cx="457200" cy="198144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419720" y="3581280"/>
            <a:ext cx="1752480" cy="5335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 flipH="1">
            <a:off x="6095520" y="4419720"/>
            <a:ext cx="838440" cy="30456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34320" y="4419720"/>
            <a:ext cx="914400" cy="22860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 flipH="1">
            <a:off x="2286000" y="6019920"/>
            <a:ext cx="2362320" cy="380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648320" y="6019920"/>
            <a:ext cx="3200400" cy="380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 flipH="1">
            <a:off x="4114800" y="6019920"/>
            <a:ext cx="533520" cy="38088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648320" y="6095880"/>
            <a:ext cx="1295280" cy="304920"/>
          </a:xfrm>
          <a:prstGeom prst="line">
            <a:avLst/>
          </a:prstGeom>
          <a:ln w="2844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6BA94-4FB9-495A-9F1F-C06E51C6CA3B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"/>
          <p:cNvSpPr/>
          <p:nvPr/>
        </p:nvSpPr>
        <p:spPr>
          <a:xfrm>
            <a:off x="615240" y="1862280"/>
            <a:ext cx="9037800" cy="1776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3200"/>
              </a:gs>
            </a:gsLst>
            <a:lin ang="81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Scalar Typ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Enumeration Typ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BIT, BOOLEAN, CHARACT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Integer Typ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INTEGER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Floating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REAL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Physical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UNIT : TIME, DISTANC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>
            <a:off x="660240" y="4064040"/>
            <a:ext cx="8915400" cy="177696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3200"/>
              </a:gs>
            </a:gsLst>
            <a:lin ang="81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Composition Typ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Array Typ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Constraint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TO, DOWNTO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Unconstraint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BIT_VECTOR, STRING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Record Typ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RECOR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660240" y="6350040"/>
            <a:ext cx="8915400" cy="771480"/>
          </a:xfrm>
          <a:prstGeom prst="rect">
            <a:avLst/>
          </a:prstGeom>
          <a:gradFill rotWithShape="0">
            <a:gsLst>
              <a:gs pos="0">
                <a:srgbClr val="006600"/>
              </a:gs>
              <a:gs pos="100000">
                <a:srgbClr val="003200"/>
              </a:gs>
            </a:gsLst>
            <a:lin ang="8100000"/>
          </a:gradFill>
          <a:ln w="12600">
            <a:solidFill>
              <a:srgbClr val="ffcc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File Type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: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FI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4304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Data Typ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7642-3FDD-49BF-B98B-27E0ED11D75C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calar Typ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teg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Minimum range for any implementation as defined by standard :     </a:t>
            </a:r>
            <a:r>
              <a:rPr b="1" lang="ko-KR" sz="2400" spc="-1" strike="noStrike">
                <a:solidFill>
                  <a:srgbClr val="00ffff"/>
                </a:solidFill>
                <a:latin typeface="Arial Narrow"/>
              </a:rPr>
              <a:t>-2,147,483,647 to 2,147,483,647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Example assignments to a variable of type integer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3" name=""/>
          <p:cNvSpPr/>
          <p:nvPr/>
        </p:nvSpPr>
        <p:spPr>
          <a:xfrm>
            <a:off x="1809720" y="3857760"/>
            <a:ext cx="6191280" cy="31431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test_int OF test_int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 (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a : INTEG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1; 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-1;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1.0;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illeg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test_int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6E4BF-9955-4AFF-9D3B-9BCEEF63D1D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Scalar Types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182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Minimum range for any implementation as defined by standard :     </a:t>
            </a:r>
            <a:r>
              <a:rPr b="1" lang="en-US" sz="2400" spc="-1" strike="noStrike">
                <a:solidFill>
                  <a:srgbClr val="00ffff"/>
                </a:solidFill>
                <a:latin typeface="Arial Narrow"/>
              </a:rPr>
              <a:t>-1.0E38 to 1.0E38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 assignments to a variable of type integer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6" name=""/>
          <p:cNvSpPr/>
          <p:nvPr/>
        </p:nvSpPr>
        <p:spPr>
          <a:xfrm>
            <a:off x="1809720" y="3733920"/>
            <a:ext cx="6191280" cy="37530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test_int OF test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 (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a : REA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1.3;   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-7.5;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1;     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illeg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1.7E13;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5.3 ns;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illeg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test_int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5848-5C8E-4A7A-98DA-D6BE8D8EEB4E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Scalar Types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numera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use specifies list of possible valu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 declaration and usage of enumerated data typ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29" name=""/>
          <p:cNvSpPr/>
          <p:nvPr/>
        </p:nvSpPr>
        <p:spPr>
          <a:xfrm>
            <a:off x="1752480" y="3276720"/>
            <a:ext cx="7182000" cy="405792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TYPE binary IS ( ON, OFF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……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. Some statements .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test_enum OF test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 (X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a : binar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ON;   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………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 := OFF;    --</a:t>
            </a:r>
            <a:r>
              <a:rPr b="0" lang="ko-KR" sz="2000" spc="-1" strike="noStrike">
                <a:solidFill>
                  <a:srgbClr val="ffff00"/>
                </a:solidFill>
                <a:latin typeface="돋움"/>
                <a:ea typeface="돋움"/>
              </a:rPr>
              <a:t>OK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………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test_enum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A56DF-F84B-4247-9F69-35B013697F86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Scalar Types 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hysica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require associated uni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range must be specifi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 of physical type declaration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2" name=""/>
          <p:cNvSpPr/>
          <p:nvPr/>
        </p:nvSpPr>
        <p:spPr>
          <a:xfrm>
            <a:off x="1523880" y="3933720"/>
            <a:ext cx="7182000" cy="22284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TYPE resistance IS RANGE 0 TO 10000000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UNIT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ohm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--ohm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Kohm = 1000 ohm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Mhom = 1000 Kohm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UNITS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762120" y="6324480"/>
            <a:ext cx="84200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ime is the only physical type predefined in VHDL standard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1F96-97A6-405F-AD75-E097E3A2BBBC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Composite Typ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rr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Used to group elements of the same type into a single VHDL objec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Range may be unconstrained in declara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Range would be then be constrained when array is used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 declaration for one-dimensional array (vector)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36" name=""/>
          <p:cNvSpPr/>
          <p:nvPr/>
        </p:nvSpPr>
        <p:spPr>
          <a:xfrm>
            <a:off x="1523880" y="4238640"/>
            <a:ext cx="579132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TYPE data_bus IS ARRAY( 0 TO 31) OF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1600200" y="5105520"/>
            <a:ext cx="45720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2057400" y="5105520"/>
            <a:ext cx="350532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rray values 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5562720" y="5105520"/>
            <a:ext cx="45720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600200" y="5915160"/>
            <a:ext cx="6781680" cy="13136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 X   : data_bu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 Y   :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Y := X(12);    --Y gets value of element at index 12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598760" y="4724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501160" y="472428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66628-E351-4F29-83C5-16DDAA079809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742680" y="1642680"/>
            <a:ext cx="8420040" cy="4986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 a survey of 71 US universiti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44% have no training on or use of VHDL in any undergraduate EE cours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45% have no faculty members who can teach VHD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14% of the graduating seniors have a working knowledge of VHDL and only 8% know Verilog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However , 1994 survey, 85% of the engineers surveyed were designed and report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55% were familiar with EDIF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55% were familiar VHD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33% were familiar with Verilog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FCEE-A657-4206-9907-0E8F974FF0F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Composite Types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762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 one-dimensional array using DOWNTO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523880" y="2590920"/>
            <a:ext cx="670572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TYPE reg_type  IS  ARRAY( 15 DOWNTO 0) OF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1600200" y="3457440"/>
            <a:ext cx="45720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057400" y="3457440"/>
            <a:ext cx="350532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… </a:t>
            </a: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array values …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5562720" y="3457440"/>
            <a:ext cx="457200" cy="45720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1600200" y="4267080"/>
            <a:ext cx="6781680" cy="13136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 X   : reg_typ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 Y   :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Y := X(4);    --Y gets value of element at index 4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1602360" y="30481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5627880" y="30481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762120" y="5715000"/>
            <a:ext cx="84200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8000"/>
          </a:bodyPr>
          <a:p>
            <a:pPr marL="233280" indent="-2332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DOWNTO keyword must be used if leftmost index is grater than rightmost index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505080" indent="-1940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‘</a:t>
            </a: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Big-endian” bit ordering, for example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E0E4-F2C1-4FC2-ABA1-DFA0502CC5AD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ko-KR" sz="4000" spc="-1" strike="noStrike">
                <a:solidFill>
                  <a:srgbClr val="00ffff"/>
                </a:solidFill>
                <a:latin typeface="Times New Roman"/>
              </a:rPr>
              <a:t>Composite Types(Cont.)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2362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cord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Used to group elements of possibly different types into a single VHDL objec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lements are indexed via field nam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xamples of record declarations and usage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55" name=""/>
          <p:cNvSpPr/>
          <p:nvPr/>
        </p:nvSpPr>
        <p:spPr>
          <a:xfrm>
            <a:off x="1447920" y="4238640"/>
            <a:ext cx="7924680" cy="28382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TYPE binary IS ( ON, OFF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TYPE switch_info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RECORD  : binar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IDnumber :INTEG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RECORD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switch : swtich_info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witch.status := ON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--status of the swit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witch.IDnumber := 30;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--e.g. number of the switch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AA68C-1DB2-4D32-9784-74BC8385A36A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Access Type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Ac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Analogous to pointers in other langu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Allows for dynamic allocation of stor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Useful for implementing queues, fifos, etc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EB5DC-D1E1-486D-B7CC-225B169FBFAE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ubtyp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505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ub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llows for user defined constrains on a data typ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e.g. a subtype based on an unconstrained VHDL type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May include entire range off base typ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ssignments that are out of the subtype range are illega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143000" indent="-22860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Range violation detected at run time rather than compile time because only base type is checked at compile time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btype declaration syntax :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660" name=""/>
          <p:cNvSpPr/>
          <p:nvPr/>
        </p:nvSpPr>
        <p:spPr>
          <a:xfrm>
            <a:off x="1523880" y="5457960"/>
            <a:ext cx="7086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SUBTYPE name  IS 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base_typ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RANGE &lt;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user rang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&gt;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838080" y="5867280"/>
            <a:ext cx="8420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btype example :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600200" y="6524640"/>
            <a:ext cx="7086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SUBTYPE first_ten  IS  INTEGER RANGE 0 TO 9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9FC85-67EF-4A3C-A1C4-E3962403B0A9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Data Types</a:t>
            </a:r>
            <a:br>
              <a:rPr sz="4000"/>
            </a:br>
            <a:r>
              <a:rPr b="0" i="1" lang="en-US" sz="4000" spc="-1" strike="noStrike">
                <a:solidFill>
                  <a:srgbClr val="00ffff"/>
                </a:solidFill>
                <a:latin typeface="Times New Roman"/>
              </a:rPr>
              <a:t>Summary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declarations of VHDL ports, signals, and variables must included their associated type or sub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ree forms of VHDL data types are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ccess -- pointers for dynamic storage alloca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calar -- included integer, Real, Enumerated, and Physical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set of built-in data types are defined in VHDL standar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user can also define own data types and subtyp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9433A-F9A3-4029-A3EA-68FBCA030759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761760" y="1752480"/>
            <a:ext cx="8420040" cy="55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re are four types of objects in VHD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onstan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ariabl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gnal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il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35880" indent="-3358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scope of an object is as follow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s declared in a package are available to all VHDL descriptions that use pack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s declared in an entity are available to all architecture associated with that entit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s declared in an architecture are available to all statements in that  architectur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7920" indent="-28008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Objects declared in a process are available only within that proces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F229-5CB8-4D06-BA3F-E48AAA0C8006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Consta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ame assigned to a specific value of a typ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ow for easy update and readabilit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of constant may omit value so that the value assignment may be defer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acilitates reconfigura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syntax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1523880" y="4952880"/>
            <a:ext cx="7086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ONSTANT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onstant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: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type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[ :=value]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762120" y="5638680"/>
            <a:ext cx="84200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example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23880" y="6372360"/>
            <a:ext cx="708660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ONSTANT PI : REAL := 3.14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CONSTANT SPEED : INTEG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BB1B0-756C-4F2C-8459-86E539C7B781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Variab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809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rovide convenient mechanism for local stor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.g. loop counters, intermediate values, etc.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cope is process in which they are declar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HDL ‘93 provides for global variables, to be discussed in the advanced concepts in VHDL modul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variable assignments take place immediate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No delta or user specified delay incurr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syntax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1295280" y="5762520"/>
            <a:ext cx="7086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: 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type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[ :=value]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762120" y="6172200"/>
            <a:ext cx="842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example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1295280" y="6705720"/>
            <a:ext cx="777240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opcode</a:t>
            </a:r>
            <a:r>
              <a:rPr b="0" i="1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: BIT_VECTOR(3 DOWNTO 0) := “0000”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</a:t>
            </a:r>
            <a:r>
              <a:rPr b="0" i="1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freq :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INTEG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550E6-9DAD-4F9E-9580-FB3C2A18E2D3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Signal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3429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d for communication between VHD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Real, Physical signals in system often mapped to VHDL signal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ll VHDL signal assignments require either delta cycle or user-specified delay before new value is assum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syntax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1219320" y="5305320"/>
            <a:ext cx="7086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signal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:  </a:t>
            </a:r>
            <a:r>
              <a:rPr b="0" i="1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type_name</a:t>
            </a:r>
            <a:r>
              <a:rPr b="0" lang="en-US" sz="2000" spc="-1" strike="noStrike">
                <a:solidFill>
                  <a:srgbClr val="ffffcc"/>
                </a:solidFill>
                <a:latin typeface="돋움"/>
                <a:ea typeface="돋움"/>
              </a:rPr>
              <a:t> [ :=value]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800280" y="5791320"/>
            <a:ext cx="842004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Declaration and assignment example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295280" y="6400800"/>
            <a:ext cx="7772400" cy="7038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brdy</a:t>
            </a:r>
            <a:r>
              <a:rPr b="0" i="1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: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rdy &lt;=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‘0’ AFTER 5 ns, ‘1’ AFTER 10 n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0BCDD-3766-4E84-B73F-C97BC93BB861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Signals and Variab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is example highlights the difference between signals and variab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228600" y="2971800"/>
            <a:ext cx="4495680" cy="31431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test1 OF mux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x : BIT := ‘1’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y : BIT := ‘0’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(in_sig, x, y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x &lt;= in_sig XOR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y &lt;= in_sig XOR x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test1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5181480" y="2971800"/>
            <a:ext cx="4496040" cy="31431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ARCHITECTURE test2 OF mux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SIGNAL y : BIT := ‘0’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PROCESS(in_sig,  y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VARIABLE x : BIT := ‘1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x := in_sig XOR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y &lt;= in_sig XOR x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돋움"/>
                <a:ea typeface="돋움"/>
              </a:rPr>
              <a:t>END test2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762120" y="6172200"/>
            <a:ext cx="8420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Assuming a 1 to 0 transition on </a:t>
            </a:r>
            <a:r>
              <a:rPr b="0" i="1" lang="ko-KR" sz="2800" spc="-1" strike="noStrike">
                <a:solidFill>
                  <a:srgbClr val="ffffcc"/>
                </a:solidFill>
                <a:latin typeface="Times New Roman"/>
              </a:rPr>
              <a:t>in_sig, </a:t>
            </a: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what are the resulting values for y in the both cases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0AC92-888E-426B-88E5-FF257A579A63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742680" y="2031840"/>
            <a:ext cx="8420040" cy="4910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is an international IEEE standard specification language for describing digital hardware used by industry worldwid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HDL is an acronym for VHSIC( Very High Speed Integrated Circuit) Hardware Description Langu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enables hardware modeling from the gate to system leve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provides a mechanism for digital design and reusable design document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CBD4-8E97-48FA-9FFA-6CC7CC7EECA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PlaceHolder 1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key difference between variables and signals is the assignment dela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ko-KR" sz="4000" spc="-1" strike="noStrike">
                <a:solidFill>
                  <a:srgbClr val="00ff00"/>
                </a:solidFill>
                <a:latin typeface="Times New Roman"/>
              </a:rPr>
              <a:t>Signals vs Variab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1295280" y="2971800"/>
            <a:ext cx="7010640" cy="28382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sig_ex OF test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IGNAL a, b, c, out_1, out_2 : BIT 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ROCESS(a, b, c, out_1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ut_1 &lt;= a AND b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ut_2 &lt;= out_1 XOR c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sig_ex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0" name=""/>
          <p:cNvSpPr/>
          <p:nvPr/>
        </p:nvSpPr>
        <p:spPr>
          <a:xfrm>
            <a:off x="2438280" y="6324480"/>
            <a:ext cx="4724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2514600" y="6324480"/>
            <a:ext cx="4876920" cy="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3962520" y="6019920"/>
            <a:ext cx="0" cy="160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5562720" y="6019920"/>
            <a:ext cx="0" cy="1600200"/>
          </a:xfrm>
          <a:prstGeom prst="line">
            <a:avLst/>
          </a:prstGeom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2943720" y="5979960"/>
            <a:ext cx="507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ff66"/>
                </a:solidFill>
                <a:latin typeface="Arial"/>
              </a:rPr>
              <a:t>Time          a     b      c       out_1       out_2      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640240" y="6361200"/>
            <a:ext cx="4670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0              0      1       1           1            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       </a:t>
            </a: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1              1      1       1           1            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1+d             1      1       1           0             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1" lang="ko-KR" sz="1800" spc="-1" strike="noStrike">
                <a:solidFill>
                  <a:srgbClr val="ffffcc"/>
                </a:solidFill>
                <a:latin typeface="Arial"/>
              </a:rPr>
              <a:t>1+2d           1      1       1           0             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C052D-EBA4-4034-B5C3-75457657FAB0}" type="slidenum">
              <a:t>6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VHDL Objects</a:t>
            </a:r>
            <a:br>
              <a:rPr sz="4000"/>
            </a:b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Fi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s provide a way for a VHDL design to communicate with host environmen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 declarations make a file available for use to a desig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iles can be opened for reading and writing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 VHDL87, files are opened and closed when their associated objects come into and out of scop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20720" indent="-2772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n VHDL93 explicit FILE_OPEN() and FILE_CLOSE() procedures were add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32640" indent="-33264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ackage TEXTIO defines more powerful routines handling IO of text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0B641-D7DC-4B73-9580-A38018E0AFE5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Simulation Cycle Revisited</a:t>
            </a:r>
            <a:br>
              <a:rPr sz="4000"/>
            </a:br>
            <a:r>
              <a:rPr b="0" i="1" lang="ko-KR" sz="4000" spc="-1" strike="noStrike">
                <a:solidFill>
                  <a:srgbClr val="00ff00"/>
                </a:solidFill>
                <a:latin typeface="Times New Roman"/>
              </a:rPr>
              <a:t>Sequential vs Concurrent Stat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is inherently a concurrent languag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All VHDL processes execute concurrentl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oncurrent signal assignment statements are actually one-line process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statements execute sequentially within a 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pports various levels of abstrac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pports modeling of concurrent and sequential events as observed  in real system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3894D-64B7-49D5-AE75-0CA04C6A7BAC}" type="slidenum">
              <a:t>6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Concurrent Stat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Basic granularity of concurrency is the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proces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rocesses are executed concurrentl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oncurrent signal assignment statements are one-line process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284400" indent="-2844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echanism for achieving concurrency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rocesses communicate with other via signal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gnal assignments require delay before new value is assum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imulation time advances when all active processes complet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ffect is concurrent processing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948600" indent="-18972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I.e. order in which processes are actually executed by simulator does not affect behavior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marL="284400" indent="-2844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Concurrent VHDL statements include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16680" indent="-2372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lock, process, assert, signal assignment, procedure call, component instantia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60607-F275-4BAE-B967-72B5D76EAEBA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Sequential Statement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tatements inside a PROCESS execute sequentiall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95280" y="2514600"/>
            <a:ext cx="7010640" cy="46677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sequential  OF test_mux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elect_proc : process(x,y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select_sig = ‘0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z &lt;= x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SLEIF (select_sig = ‘1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z &lt;= 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z &lt;= “xxxx”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ut_1 &lt;= a AND b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ut_2 &lt;= out_1 XOR c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PROCESS select_proc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sequentia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E35A1-9976-4256-96EF-AAABC3CFE4D1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Package and Libra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User defined constructs declared inside architectures and entities are not visible to other VHDL compon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cope of subprograms, user defined data types, constructs, and signals is limited to the VHDL components in  which they are declared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ckages and libraries provide the ability to reuse constructs in multiple entities and architectur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Items declared in packages can be used (I.e. included) in other VHDL componen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638BA-2F45-453D-AC63-6E266BA2FE10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ff00"/>
                </a:solidFill>
                <a:latin typeface="Times New Roman"/>
              </a:rPr>
              <a:t>Packag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ckages consist of two par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ackage declaration -  contains declarations of objects defined in the pack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Package body - contains necessary definitions for objects in package declaration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074240" indent="-21456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e.g. subprogram descriptions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  <a:p>
            <a:pPr marL="322200" indent="-32220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Examples of VHDL items included in package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asic declarations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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Single declara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onstants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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Attribute declara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bprogram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	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</a:t>
            </a:r>
            <a:r>
              <a:rPr b="0" lang="en-US" sz="2400" spc="-1" strike="noStrike">
                <a:solidFill>
                  <a:srgbClr val="ffffcc"/>
                </a:solidFill>
                <a:latin typeface="Monotype Sorts"/>
                <a:ea typeface="Monotype Sorts"/>
              </a:rPr>
              <a:t>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Component declaratio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98400" indent="-26856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Use claus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6DC9B-51EC-40A4-BBF1-7367564F8E03}" type="slidenum">
              <a:t>6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ackages</a:t>
            </a:r>
            <a:br>
              <a:rPr sz="4000"/>
            </a:b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Declaration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 example of a package declaration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1295280" y="2562120"/>
            <a:ext cx="7772400" cy="22284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PACKAGE  my_stuff  I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TYPE binary  IS  (ON, OFF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CONSTANT PI : REAL := 3.14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CONSTANT My_ID : INTEGE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PROCEDURE  add_bits3 (SIGNAL a, b, en : IN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IGNAL temp_result, temp_carry : OUT BIT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END my_stuf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762120" y="4800600"/>
            <a:ext cx="8420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Note some items only require declaration while others need further detail provide in subsequent package bod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for type and subtype definitions, declaration is sufficient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subprograms require declarations and descriptions</a:t>
            </a: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342E-7D75-440E-9A22-4AFB9FD719DE}" type="slidenum">
              <a:t>6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ackages</a:t>
            </a:r>
            <a:br>
              <a:rPr sz="4000"/>
            </a:b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package body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2057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package body includes the necessary functional descriptions for objects declared in the package declaration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.g. subprogram descriptions, assignments to constan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5" name=""/>
          <p:cNvSpPr/>
          <p:nvPr/>
        </p:nvSpPr>
        <p:spPr>
          <a:xfrm>
            <a:off x="1219320" y="3857760"/>
            <a:ext cx="7772400" cy="28382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PACKAGE  BODY my_stuff  IS 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CONSTANT My_ID : INTEGER := 2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PROCEDURE  add_bits3 (SIGNAL a, b, en : IN BI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IGNAL temp_result, temp_carry : OUT BIT)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temp_result &lt;= ( a XOR b) AND en;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temp_carry &lt;=  a AND b  AND en;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END my_stuf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86ECE-0A39-4432-B308-23C3DF56A050}" type="slidenum">
              <a:t>6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Packages</a:t>
            </a:r>
            <a:br>
              <a:rPr sz="4000"/>
            </a:b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Use claus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Packages must be made visible before their contents can be us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he USE clause makes packages visible to entities, architectures, and other packag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18" name=""/>
          <p:cNvSpPr/>
          <p:nvPr/>
        </p:nvSpPr>
        <p:spPr>
          <a:xfrm>
            <a:off x="1219320" y="3809880"/>
            <a:ext cx="7772400" cy="16185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-- use only the binary and add_bits3 declaration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USE  my_stuff.binary, my_stuff.add_bits3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..  ENTITY declaration …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..  ARCHITECTURE declaration …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1219320" y="5638680"/>
            <a:ext cx="7772400" cy="16185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-- use all of the declarations in package my_stuff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USE  my_stuff.AL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..  ENTITY declaration …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…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..  ARCHITECTURE declaration …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A4D24-13A2-4AEB-9109-0F8BF3918D14}" type="slidenum">
              <a:t>6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591840" y="2174760"/>
            <a:ext cx="38264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돋움"/>
              </a:rPr>
              <a:t>Gate-Level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Design in the 1980’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743040" y="3475080"/>
            <a:ext cx="8502120" cy="1942200"/>
            <a:chOff x="743040" y="3475080"/>
            <a:chExt cx="8502120" cy="1942200"/>
          </a:xfrm>
        </p:grpSpPr>
        <p:grpSp>
          <p:nvGrpSpPr>
            <p:cNvPr id="100" name=""/>
            <p:cNvGrpSpPr/>
            <p:nvPr/>
          </p:nvGrpSpPr>
          <p:grpSpPr>
            <a:xfrm>
              <a:off x="743040" y="3475080"/>
              <a:ext cx="8501760" cy="165240"/>
              <a:chOff x="743040" y="3475080"/>
              <a:chExt cx="8501760" cy="165240"/>
            </a:xfrm>
          </p:grpSpPr>
          <p:sp>
            <p:nvSpPr>
              <p:cNvPr id="101" name=""/>
              <p:cNvSpPr/>
              <p:nvPr/>
            </p:nvSpPr>
            <p:spPr>
              <a:xfrm>
                <a:off x="743040" y="3475080"/>
                <a:ext cx="0" cy="1652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7841520" y="3475080"/>
                <a:ext cx="0" cy="1652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5200200" y="3475080"/>
                <a:ext cx="0" cy="1652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1898280" y="3475080"/>
                <a:ext cx="0" cy="1652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>
                <a:off x="9244800" y="3475080"/>
                <a:ext cx="0" cy="16524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746280" y="3555720"/>
                <a:ext cx="115164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900440" y="3555720"/>
                <a:ext cx="3299760" cy="0"/>
              </a:xfrm>
              <a:prstGeom prst="line">
                <a:avLst/>
              </a:prstGeom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5201640" y="3555720"/>
                <a:ext cx="2639520" cy="0"/>
              </a:xfrm>
              <a:prstGeom prst="line">
                <a:avLst/>
              </a:prstGeom>
              <a:ln w="507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7843320" y="3555720"/>
                <a:ext cx="1401480" cy="0"/>
              </a:xfrm>
              <a:prstGeom prst="line">
                <a:avLst/>
              </a:prstGeom>
              <a:ln w="507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grpSp>
          <p:nvGrpSpPr>
            <p:cNvPr id="110" name=""/>
            <p:cNvGrpSpPr/>
            <p:nvPr/>
          </p:nvGrpSpPr>
          <p:grpSpPr>
            <a:xfrm>
              <a:off x="743040" y="4744080"/>
              <a:ext cx="5282640" cy="673200"/>
              <a:chOff x="743040" y="4744080"/>
              <a:chExt cx="5282640" cy="673200"/>
            </a:xfrm>
          </p:grpSpPr>
          <p:sp>
            <p:nvSpPr>
              <p:cNvPr id="111" name=""/>
              <p:cNvSpPr/>
              <p:nvPr/>
            </p:nvSpPr>
            <p:spPr>
              <a:xfrm>
                <a:off x="746280" y="5332680"/>
                <a:ext cx="1399320" cy="0"/>
              </a:xfrm>
              <a:prstGeom prst="line">
                <a:avLst/>
              </a:prstGeom>
              <a:ln w="50760">
                <a:solidFill>
                  <a:srgbClr val="ffcc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743040" y="52516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4622400" y="52516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3962160" y="52516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2145960" y="52516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6025680" y="52516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3305160" y="4825080"/>
                <a:ext cx="1317240" cy="0"/>
              </a:xfrm>
              <a:prstGeom prst="line">
                <a:avLst/>
              </a:prstGeom>
              <a:ln w="50760">
                <a:solidFill>
                  <a:srgbClr val="ff99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3301920" y="47440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4622400" y="4744080"/>
                <a:ext cx="0" cy="165600"/>
              </a:xfrm>
              <a:prstGeom prst="line">
                <a:avLst/>
              </a:prstGeom>
              <a:ln w="507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626000" y="5332680"/>
                <a:ext cx="1399680" cy="0"/>
              </a:xfrm>
              <a:prstGeom prst="line">
                <a:avLst/>
              </a:prstGeom>
              <a:ln w="50760">
                <a:solidFill>
                  <a:srgbClr val="66ff3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147760" y="5332680"/>
                <a:ext cx="1814040" cy="0"/>
              </a:xfrm>
              <a:prstGeom prst="line">
                <a:avLst/>
              </a:prstGeom>
              <a:ln w="50760">
                <a:solidFill>
                  <a:srgbClr val="cc00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cc"/>
                  </a:solidFill>
                  <a:latin typeface="Times New Roman"/>
                </a:endParaRPr>
              </a:p>
            </p:txBody>
          </p:sp>
        </p:grpSp>
        <p:sp>
          <p:nvSpPr>
            <p:cNvPr id="122" name=""/>
            <p:cNvSpPr/>
            <p:nvPr/>
          </p:nvSpPr>
          <p:spPr>
            <a:xfrm>
              <a:off x="743040" y="3559680"/>
              <a:ext cx="0" cy="177336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901880" y="3559680"/>
              <a:ext cx="244080" cy="177336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3966840" y="3559680"/>
              <a:ext cx="1233000" cy="177336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 flipH="1">
              <a:off x="3303000" y="3559680"/>
              <a:ext cx="1896840" cy="126540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 flipH="1">
              <a:off x="4623840" y="3559680"/>
              <a:ext cx="3217320" cy="126540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 flipH="1">
              <a:off x="4623840" y="3559680"/>
              <a:ext cx="3217320" cy="177336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6027480" y="3517200"/>
              <a:ext cx="3217680" cy="1773360"/>
            </a:xfrm>
            <a:prstGeom prst="line">
              <a:avLst/>
            </a:prstGeom>
            <a:ln w="25560">
              <a:solidFill>
                <a:srgbClr val="ffffcc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129" name=""/>
          <p:cNvSpPr/>
          <p:nvPr/>
        </p:nvSpPr>
        <p:spPr>
          <a:xfrm>
            <a:off x="591480" y="6068880"/>
            <a:ext cx="379908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000" spc="-1" strike="noStrike">
                <a:solidFill>
                  <a:srgbClr val="cc00cc"/>
                </a:solidFill>
                <a:latin typeface="Arial"/>
                <a:ea typeface="돋움"/>
              </a:rPr>
              <a:t>High-Level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 Design in the 1990’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5160" y="2708280"/>
            <a:ext cx="96444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  <a:ea typeface="돋움"/>
              </a:rPr>
              <a:t>Arch.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cc66"/>
                </a:solidFill>
                <a:latin typeface="Arial"/>
                <a:ea typeface="돋움"/>
              </a:rPr>
              <a:t>Desig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575800" y="2708280"/>
            <a:ext cx="18925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  <a:ea typeface="돋움"/>
              </a:rPr>
              <a:t>Gate-Level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cc00cc"/>
                </a:solidFill>
                <a:latin typeface="Arial"/>
                <a:ea typeface="돋움"/>
              </a:rPr>
              <a:t>Implement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712480" y="2708280"/>
            <a:ext cx="189252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돋움"/>
              </a:rPr>
              <a:t>Test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ff9933"/>
                </a:solidFill>
                <a:latin typeface="Arial"/>
                <a:ea typeface="돋움"/>
              </a:rPr>
              <a:t>Implementatio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7993800" y="2708280"/>
            <a:ext cx="1128960" cy="64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돋움"/>
              </a:rPr>
              <a:t>Physical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1800" spc="-1" strike="noStrike">
                <a:solidFill>
                  <a:srgbClr val="66ff33"/>
                </a:solidFill>
                <a:latin typeface="Arial"/>
                <a:ea typeface="돋움"/>
              </a:rPr>
              <a:t>Desig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74304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9532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Comparing ASIC Design Cycles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Librari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nalogous to directories of fil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VHDL libraries contain analyzed (I.e. compiled ) VHDL entities, architectures, and package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15360" indent="-31536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Facilitate administration of configuration and revision contr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e,g. libraries of previous design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15360" indent="-31536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ies accessed via an assigned logical name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83280" indent="-2628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Current design unit is compiled into the </a:t>
            </a:r>
            <a:r>
              <a:rPr b="0" i="1" lang="en-US" sz="2400" spc="-1" strike="noStrike">
                <a:solidFill>
                  <a:srgbClr val="ffffcc"/>
                </a:solidFill>
                <a:latin typeface="Arial Narrow"/>
              </a:rPr>
              <a:t>Work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librar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Both </a:t>
            </a:r>
            <a:r>
              <a:rPr b="0" i="1" lang="en-US" sz="2400" spc="-1" strike="noStrike">
                <a:solidFill>
                  <a:srgbClr val="ffffcc"/>
                </a:solidFill>
                <a:latin typeface="Arial Narrow"/>
              </a:rPr>
              <a:t>Work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and </a:t>
            </a:r>
            <a:r>
              <a:rPr b="0" i="1" lang="en-US" sz="2400" spc="-1" strike="noStrike">
                <a:solidFill>
                  <a:srgbClr val="ffffcc"/>
                </a:solidFill>
                <a:latin typeface="Arial Narrow"/>
              </a:rPr>
              <a:t>STD</a:t>
            </a: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 libraries are always availabl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83280" indent="-26280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Many other libraries usually supplied by VHDL simulator vendor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2" marL="1051560" indent="-210240">
              <a:spcBef>
                <a:spcPts val="550"/>
              </a:spcBef>
              <a:buClr>
                <a:srgbClr val="ffcc66"/>
              </a:buClr>
              <a:buFont typeface="Arial Narrow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 Narrow"/>
              </a:rPr>
              <a:t>e.g. proprietary libraries and IEEE standard libraries</a:t>
            </a:r>
            <a:endParaRPr b="0" lang="en-US" sz="22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5517B-9CDB-454C-87B4-4A82DB0C8D4A}" type="slidenum">
              <a:t>7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85440" y="380880"/>
            <a:ext cx="8420040" cy="719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ttribut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761760" y="1143000"/>
            <a:ext cx="8420040" cy="6477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ttributes provide information about certain items in VHDL, e.g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ypes, subtypes, procedures, functions, signals, variables, constants, entities, architectures, configurations, packages, component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General form of use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HDL has several predefined, e.g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X’EVENT -- TRUE when there is an event on signal X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X’LAST_VALUE -- returns the previous value of signal X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Y’HIGH -- returns the highest value in the range of 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X’STABLE(t) -- TRUE when no event has occurred on signal X in the past ‘t’ tim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4" name=""/>
          <p:cNvSpPr/>
          <p:nvPr/>
        </p:nvSpPr>
        <p:spPr>
          <a:xfrm>
            <a:off x="1219320" y="4010040"/>
            <a:ext cx="5943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Name’s attribute_identifier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-- read as “tick”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2E87A-64EF-41EE-84E8-8C6A8DF1231B}" type="slidenum">
              <a:t>7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761760" y="1447560"/>
            <a:ext cx="8420040" cy="3352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ollowing example shows hoe attributes can be used to make an 8-bit regi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Specifications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Triggers on rising clock ed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Latches only on enable high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Has a data setup time of x_setup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Arial Narrow"/>
              </a:rPr>
              <a:t>Has propagation delay of prop_delay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Attributes</a:t>
            </a:r>
            <a:br>
              <a:rPr sz="4000"/>
            </a:b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Register Exampl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27" name=""/>
          <p:cNvSpPr/>
          <p:nvPr/>
        </p:nvSpPr>
        <p:spPr>
          <a:xfrm>
            <a:off x="1143000" y="4848120"/>
            <a:ext cx="7391520" cy="19234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TITY  8_bit_reg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GENERIC (x_setup, prop_delay : TIME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ORT (enable, clk : IN qsim_stat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 : IN qsim_state_vector( 7 DOWNTO 0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 : OUT qsim_state_vector( 7 DOWNTO 0)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8_bit_reg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762120" y="6705720"/>
            <a:ext cx="8420040" cy="99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qsim_state type is being used-includes logic values 0, 1, X, and Z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7C8F8-6681-48BE-82F7-F334D79C3FB4}" type="slidenum">
              <a:t>7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Attributes</a:t>
            </a:r>
            <a:br>
              <a:rPr sz="4000"/>
            </a:br>
            <a:r>
              <a:rPr b="0" i="1" lang="ko-KR" sz="3800" spc="-1" strike="noStrike">
                <a:solidFill>
                  <a:srgbClr val="00ff00"/>
                </a:solidFill>
                <a:latin typeface="Times New Roman"/>
              </a:rPr>
              <a:t>Register Example (Cont.)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following architecture is a first attempt at the regis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use of ‘STABLE’ is to used to detect setup violations in the data input 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1143000" y="3809880"/>
            <a:ext cx="7924680" cy="28382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 first_attempt  OF  8_bit_reg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ROCESS (clk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enable = ‘1’) AND a’STABLE(x_setup) AND (clk = ‘1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 &lt;= a   AFTER  dela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first_attempt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762120" y="6629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What happens if a does not satisfy its setup time requirement of </a:t>
            </a:r>
            <a:r>
              <a:rPr b="0" i="1" lang="en-US" sz="2800" spc="-1" strike="noStrike">
                <a:solidFill>
                  <a:srgbClr val="ffffcc"/>
                </a:solidFill>
                <a:latin typeface="Times New Roman"/>
              </a:rPr>
              <a:t>x_setup</a:t>
            </a: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 ?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999E7-E4B2-49DA-8942-165A12CBFB18}" type="slidenum">
              <a:t>7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4000" spc="-1" strike="noStrike">
                <a:solidFill>
                  <a:srgbClr val="ffcc66"/>
                </a:solidFill>
                <a:latin typeface="Times New Roman"/>
              </a:rPr>
              <a:t>Attributes</a:t>
            </a:r>
            <a:br>
              <a:rPr sz="4000"/>
            </a:br>
            <a:r>
              <a:rPr b="0" i="1" lang="ko-KR" sz="3800" spc="-1" strike="noStrike">
                <a:solidFill>
                  <a:srgbClr val="00ff00"/>
                </a:solidFill>
                <a:latin typeface="Times New Roman"/>
              </a:rPr>
              <a:t>Register Example (Cont.)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4" name="PlaceHolder 2"/>
          <p:cNvSpPr>
            <a:spLocks noGrp="1"/>
          </p:cNvSpPr>
          <p:nvPr>
            <p:ph/>
          </p:nvPr>
        </p:nvSpPr>
        <p:spPr>
          <a:xfrm>
            <a:off x="304920" y="1828440"/>
            <a:ext cx="9524880" cy="1981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The following architecture is a second or more robust attempt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The use of ‘LAST_VALUE’ ensures the clcok is rising from a value of ‘0’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1143000" y="3505320"/>
            <a:ext cx="7924680" cy="31431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 behavior  OF  8_bit_reg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ROCESS (clk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enable = ‘1’) AND a’STABLE(x_setup) AND (clk = ‘1’) AND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(clk’LAST_VALUE = ‘0’ 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 &lt;= a   AFTER  delay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 PROCES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behavior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762120" y="6629400"/>
            <a:ext cx="842004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A THEN clause could be added to define the behavior when the requirements are not satisfied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B794F-72BD-4FC5-AC10-C76F183A9084}" type="slidenum">
              <a:t>7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perator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38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Operators can be chained to from complex expressions, e.g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121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Can use parentheses for readability and to control the association of operators and operands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12120" indent="-31212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Defined precedence levels in decreasing order :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Miscellaneous operators -- **, abs, not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Multiplication operators -- *, /, mod, rem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Sign operator -- +,-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Addition operators -- sll, srl, sla, sra, rol, ror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Relational operators -- =, /=, &lt;, &lt;=, &gt;, &gt;=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676080" indent="-25992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Logical operators -- AND, OR, NAND, NOR, XOR, XNOR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739" name=""/>
          <p:cNvSpPr/>
          <p:nvPr/>
        </p:nvSpPr>
        <p:spPr>
          <a:xfrm>
            <a:off x="1219320" y="2819520"/>
            <a:ext cx="5943600" cy="39888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res &lt;= a  AND  NOT(B)   OR  NOT(a)   AND b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838C8-3845-4180-94CB-72DCC16734D7}" type="slidenum">
              <a:t>7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</a:rPr>
              <a:t>Operators</a:t>
            </a:r>
            <a:br>
              <a:rPr sz="4000"/>
            </a:b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Examples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761760" y="1828440"/>
            <a:ext cx="8420040" cy="685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The concatenation operator  &amp;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2" name=""/>
          <p:cNvSpPr/>
          <p:nvPr/>
        </p:nvSpPr>
        <p:spPr>
          <a:xfrm>
            <a:off x="1219320" y="2438280"/>
            <a:ext cx="7924680" cy="100872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VARIABLE  shifted, shiftin : BIT_VECTOR( 0  TO  3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……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..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hifted := shiftin ( 1  TO  3)   &amp;  ‘0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3" name=""/>
          <p:cNvSpPr/>
          <p:nvPr/>
        </p:nvSpPr>
        <p:spPr>
          <a:xfrm>
            <a:off x="3200400" y="4191120"/>
            <a:ext cx="38088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4" name=""/>
          <p:cNvSpPr/>
          <p:nvPr/>
        </p:nvSpPr>
        <p:spPr>
          <a:xfrm>
            <a:off x="3581280" y="4191120"/>
            <a:ext cx="38124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5" name=""/>
          <p:cNvSpPr/>
          <p:nvPr/>
        </p:nvSpPr>
        <p:spPr>
          <a:xfrm>
            <a:off x="3962520" y="4191120"/>
            <a:ext cx="38088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4343400" y="4191120"/>
            <a:ext cx="38088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3581280" y="5029200"/>
            <a:ext cx="38124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3962520" y="5029200"/>
            <a:ext cx="38088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4343400" y="5029200"/>
            <a:ext cx="38088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0" name=""/>
          <p:cNvSpPr/>
          <p:nvPr/>
        </p:nvSpPr>
        <p:spPr>
          <a:xfrm>
            <a:off x="4724280" y="5029200"/>
            <a:ext cx="381240" cy="380880"/>
          </a:xfrm>
          <a:prstGeom prst="rect">
            <a:avLst/>
          </a:prstGeom>
          <a:noFill/>
          <a:ln w="1260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ff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1" name=""/>
          <p:cNvSpPr/>
          <p:nvPr/>
        </p:nvSpPr>
        <p:spPr>
          <a:xfrm>
            <a:off x="3733920" y="45720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4114800" y="45720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4495680" y="4572000"/>
            <a:ext cx="0" cy="380880"/>
          </a:xfrm>
          <a:prstGeom prst="line">
            <a:avLst/>
          </a:prstGeom>
          <a:ln w="1260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3256920" y="3846600"/>
            <a:ext cx="151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0   1     2   3  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1887480" y="420516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IFTEN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2192040" y="5043600"/>
            <a:ext cx="115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SHIFTED</a:t>
            </a:r>
            <a:endParaRPr b="0" lang="en-US" sz="1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62120" y="5457960"/>
            <a:ext cx="842004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The exponentiation operator  **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1219320" y="6143760"/>
            <a:ext cx="5105160" cy="13136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x := 5 ** 5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5^5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y := 0.5 ** 3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x := 4 ** 0.5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illegal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y := 0.5 ** (-2)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3C95-C647-41E2-B17F-23AB67C9C3A8}" type="slidenum">
              <a:t>7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ffcc"/>
                </a:solidFill>
                <a:latin typeface="Times New Roman"/>
              </a:rPr>
              <a:t>VHDL Examples</a:t>
            </a:r>
            <a:endParaRPr b="0" i="1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761760" y="1828800"/>
            <a:ext cx="842004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Build a library of logic gat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AND, OR, NAND, NOR, INV, etc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clude sequential element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DFF, Register, etc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Include tri-state devices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ff00"/>
              </a:buClr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cc"/>
                </a:solidFill>
                <a:latin typeface="Times New Roman"/>
              </a:rPr>
              <a:t>Use 4-valued logic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‘</a:t>
            </a: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X’,  ‘0’,  ‘1’,  ‘Z’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  <a:p>
            <a:pPr lvl="1" marL="743040" indent="-285840">
              <a:spcBef>
                <a:spcPts val="601"/>
              </a:spcBef>
              <a:buClr>
                <a:srgbClr val="99ff66"/>
              </a:buClr>
              <a:buSzPct val="90000"/>
              <a:buFont typeface="Monotype Sort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ffffcc"/>
                </a:solidFill>
                <a:latin typeface="Arial Narrow"/>
              </a:rPr>
              <a:t>Encapsulate global declarations in apackage</a:t>
            </a:r>
            <a:endParaRPr b="0" lang="en-US" sz="2400" spc="-1" strike="noStrike">
              <a:solidFill>
                <a:srgbClr val="ffffcc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7255A-D081-4253-975F-F13D7C3388D7}" type="slidenum">
              <a:t>7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Global Packag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685800" y="1905120"/>
            <a:ext cx="8686800" cy="28382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ACKAGE  resourcees 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TYPE  level  IS (‘X’,  ‘0’,  ‘1’,  ‘Z’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TYPE  level_vector  IS  ARRAY (NATURAL RANGE &lt;&gt; ) OF leve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type for vectors (buses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SUBTYPE  delay  IS  TIME;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subtype  for gate delay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Functional and procedure declarations go her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resource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2781E-CD0C-4592-9D81-C09BC49782DD}" type="slidenum">
              <a:t>7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Two Input AND Gate Exampl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152280" y="1905120"/>
            <a:ext cx="4267440" cy="253332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USE work.resources.al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TITY  and2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GENERIC (trise : delay := 10 ns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tfall : delay :=8 ns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PORT( a, b : IN leve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c : OUT level)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 and2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4648320" y="2438280"/>
            <a:ext cx="5257800" cy="375300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 behav  OF  and2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ne : process (a,b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a=‘1’ AND b=‘1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c &lt;= ‘1’ AFTER tris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IF (a=‘0’ OR b=‘0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c &lt;= ‘0’ AFTER tfall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E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c &lt;= ‘X’ AFTER (trise + tfall)/2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process on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53F3E-698E-44C7-A353-5BAD670BBD6B}" type="slidenum">
              <a:t>7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1002600" y="2319480"/>
            <a:ext cx="6621120" cy="231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Reduce prototype turn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Less time in the Lab.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Design before silicon availab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Verify design before board layout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Verify ASICs and programmable before fabricatio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Development of software before PCB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61120" y="1509840"/>
            <a:ext cx="7191360" cy="497160"/>
          </a:xfrm>
          <a:prstGeom prst="rect">
            <a:avLst/>
          </a:prstGeom>
          <a:gradFill rotWithShape="0">
            <a:gsLst>
              <a:gs pos="0">
                <a:srgbClr val="6a6ab1"/>
              </a:gs>
              <a:gs pos="50000">
                <a:srgbClr val="9999ff"/>
              </a:gs>
              <a:gs pos="100000">
                <a:srgbClr val="6a6ab1"/>
              </a:gs>
            </a:gsLst>
            <a:lin ang="5400000"/>
          </a:gradFill>
          <a:ln w="255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2600" spc="-1" strike="noStrike">
                <a:solidFill>
                  <a:srgbClr val="ffcc66"/>
                </a:solidFill>
                <a:latin typeface="Arial"/>
                <a:ea typeface="돋움"/>
              </a:rPr>
              <a:t>Faster time-to-market ( concurrent Engineering)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815760" y="4730760"/>
            <a:ext cx="3827880" cy="497160"/>
          </a:xfrm>
          <a:prstGeom prst="rect">
            <a:avLst/>
          </a:prstGeom>
          <a:gradFill rotWithShape="0">
            <a:gsLst>
              <a:gs pos="0">
                <a:srgbClr val="6a6ab1"/>
              </a:gs>
              <a:gs pos="50000">
                <a:srgbClr val="9999ff"/>
              </a:gs>
              <a:gs pos="100000">
                <a:srgbClr val="6a6ab1"/>
              </a:gs>
            </a:gsLst>
            <a:lin ang="5400000"/>
          </a:gradFill>
          <a:ln w="1260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i="1" lang="en-US" sz="2600" spc="-1" strike="noStrike">
                <a:solidFill>
                  <a:srgbClr val="ffcc66"/>
                </a:solidFill>
                <a:latin typeface="Arial"/>
                <a:ea typeface="돋움"/>
              </a:rPr>
              <a:t>Improved product quality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930960" y="5367240"/>
            <a:ext cx="4962960" cy="19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Fewer cuts and jumps on boar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Discover error in Lab - not in the field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etter price/performanc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Higher clock rate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ffffcc"/>
              </a:buClr>
              <a:buFont typeface="Arial"/>
              <a:buChar char="•"/>
              <a:tabLst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ASIC Complexity increasing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62120" y="22860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ffcc66"/>
                </a:solidFill>
                <a:latin typeface="Times New Roman"/>
                <a:ea typeface="돋움"/>
              </a:rPr>
              <a:t>Why is High-Level Simulation Required ?</a:t>
            </a:r>
            <a:endParaRPr b="0" lang="en-US" sz="3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800" spc="-1" strike="noStrike">
                <a:solidFill>
                  <a:srgbClr val="00ff00"/>
                </a:solidFill>
                <a:latin typeface="Times New Roman"/>
              </a:rPr>
              <a:t>Tri-State Buffer Exampl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914400" y="2031840"/>
            <a:ext cx="8077320" cy="34455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USE work.resources.al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TITY  tri_state  I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GENERIC (trise : delay := 6 ns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tfall : delay :=5 ns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this : delay := 8 ns)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PORT( a  : IN leve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c : IN leve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 : OUT level)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D  tri_state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F25A5-52C5-45C6-9767-0B0B893F8F4C}" type="slidenum">
              <a:t>8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o-KR" sz="3800" spc="-1" strike="noStrike">
                <a:solidFill>
                  <a:srgbClr val="00ff00"/>
                </a:solidFill>
                <a:latin typeface="Times New Roman"/>
              </a:rPr>
              <a:t>Tri-State Buffer Example (Cont.)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914400" y="2031840"/>
            <a:ext cx="8077320" cy="512136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ARCHITECTURE  behav  OF  tri_state  I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one : process (a,c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IF (c=‘1’ AND a=‘1’) THEN --enable and valid data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 &lt;= ‘1’ AFTER trise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LSIF (c=‘1’ AND  a=‘0’) THE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 &lt;= ‘0’ AFTER tfal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LSIF (c=‘0’) THEN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 &lt;= ‘Z’ AFTER this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LSE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-- invalid data or enable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b &lt;= ‘X’  AFTER (trise + tfall)/2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D process one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D behav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DFEFF-329C-41E8-8142-0AFCB5DDDCFF}" type="slidenum">
              <a:t>8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74268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800" spc="-1" strike="noStrike">
                <a:solidFill>
                  <a:srgbClr val="00ff00"/>
                </a:solidFill>
                <a:latin typeface="Times New Roman"/>
              </a:rPr>
              <a:t>D Flip-flop Example</a:t>
            </a:r>
            <a:endParaRPr b="0" i="1" lang="en-US" sz="3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71" name=""/>
          <p:cNvSpPr/>
          <p:nvPr/>
        </p:nvSpPr>
        <p:spPr>
          <a:xfrm>
            <a:off x="914400" y="2031840"/>
            <a:ext cx="8077320" cy="44510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USE work.resources.al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TITY  dff  I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GENERIC (tprop : delay := 8 ns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tsu    : delay := 2 ns)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PORT( d  : IN leve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clk : IN leve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q : OUT level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</a:t>
            </a: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qn : OUT level)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200" spc="-1" strike="noStrike">
                <a:solidFill>
                  <a:srgbClr val="ffffcc"/>
                </a:solidFill>
                <a:latin typeface="Arial"/>
                <a:ea typeface="돋움"/>
              </a:rPr>
              <a:t>END  dff;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E0FDE-FDF0-4DCE-8611-8A849656304C}" type="slidenum">
              <a:t>8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"/>
          <p:cNvSpPr/>
          <p:nvPr/>
        </p:nvSpPr>
        <p:spPr>
          <a:xfrm>
            <a:off x="457200" y="152280"/>
            <a:ext cx="8991720" cy="7412040"/>
          </a:xfrm>
          <a:prstGeom prst="rect">
            <a:avLst/>
          </a:prstGeom>
          <a:solidFill>
            <a:srgbClr val="990099"/>
          </a:solidFill>
          <a:ln w="1260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RCHITECTURE  behav  OF  dff  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one : process (clk)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BEGI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 (clk=‘1’ AND clk’LAST_VALUE=‘0’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ND enable = ‘1’ ) THEN        --ff enable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 (d’STABLE (tsu)) THEN      -- check valid input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IF( d=‘0’ 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 &lt;= ‘0’  AFTER tpro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n &lt;= ‘1’ AFTER tpro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IF (d=‘1’) THEN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  &lt;= ‘1’   AFTER tpro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n &lt;= ‘0’  AFTER tprop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E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else invalid data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 &lt;= ‘X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an &lt;= ‘X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LSE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-- else violated setup time requiremen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 &lt;= ‘X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qn &lt;= ‘X’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	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      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IF: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     </a:t>
            </a: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process one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cc"/>
                </a:solidFill>
                <a:latin typeface="Arial"/>
                <a:ea typeface="돋움"/>
              </a:rPr>
              <a:t>END behav;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7D995-07E6-42D7-8629-B8B6BBCEE065}" type="slidenum">
              <a:t>8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215000" y="2235240"/>
            <a:ext cx="1612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1990’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(10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돋움"/>
              </a:rPr>
              <a:t>6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 Gate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132560" y="4181400"/>
            <a:ext cx="1612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1980’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(10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돋움"/>
              </a:rPr>
              <a:t>5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 Gate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215000" y="6213600"/>
            <a:ext cx="1612080" cy="77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1970’s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(10</a:t>
            </a:r>
            <a:r>
              <a:rPr b="1" lang="en-US" sz="2200" spc="-1" strike="noStrike" baseline="30000">
                <a:solidFill>
                  <a:srgbClr val="ffffcc"/>
                </a:solidFill>
                <a:latin typeface="Arial"/>
                <a:ea typeface="돋움"/>
              </a:rPr>
              <a:t>3</a:t>
            </a:r>
            <a:r>
              <a:rPr b="0" lang="en-US" sz="2200" spc="-1" strike="noStrike">
                <a:solidFill>
                  <a:srgbClr val="ffffcc"/>
                </a:solidFill>
                <a:latin typeface="Arial"/>
                <a:ea typeface="돋움"/>
              </a:rPr>
              <a:t> Gates)</a:t>
            </a:r>
            <a:endParaRPr b="0" lang="en-US" sz="2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25960" y="6102360"/>
            <a:ext cx="4362120" cy="1087560"/>
          </a:xfrm>
          <a:prstGeom prst="ellipse">
            <a:avLst/>
          </a:prstGeom>
          <a:gradFill rotWithShape="0">
            <a:gsLst>
              <a:gs pos="0">
                <a:srgbClr val="6e6e6e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225960" y="4070520"/>
            <a:ext cx="4362120" cy="1087200"/>
          </a:xfrm>
          <a:prstGeom prst="ellipse">
            <a:avLst/>
          </a:prstGeom>
          <a:gradFill rotWithShape="0">
            <a:gsLst>
              <a:gs pos="0">
                <a:srgbClr val="6e6e6e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225960" y="2038320"/>
            <a:ext cx="4362120" cy="1087560"/>
          </a:xfrm>
          <a:prstGeom prst="ellipse">
            <a:avLst/>
          </a:prstGeom>
          <a:gradFill rotWithShape="0">
            <a:gsLst>
              <a:gs pos="0">
                <a:srgbClr val="6e6e6e"/>
              </a:gs>
              <a:gs pos="100000">
                <a:srgbClr val="5f5f5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641680" y="3556080"/>
            <a:ext cx="5448240" cy="296640"/>
          </a:xfrm>
          <a:prstGeom prst="rect">
            <a:avLst/>
          </a:prstGeom>
          <a:gradFill rotWithShape="0">
            <a:gsLst>
              <a:gs pos="0">
                <a:srgbClr val="b65be4"/>
              </a:gs>
              <a:gs pos="50000">
                <a:srgbClr val="cc66ff"/>
              </a:gs>
              <a:gs pos="100000">
                <a:srgbClr val="b65b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992760" y="2352600"/>
            <a:ext cx="289080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돋움"/>
              </a:rPr>
              <a:t>HDL-Level Desig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10680" y="4384800"/>
            <a:ext cx="294552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돋움"/>
              </a:rPr>
              <a:t>Gate-Level Desig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241160" y="6416640"/>
            <a:ext cx="23205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0" lang="en-US" sz="2600" spc="-1" strike="noStrike">
                <a:solidFill>
                  <a:srgbClr val="ffcc66"/>
                </a:solidFill>
                <a:latin typeface="Arial"/>
                <a:ea typeface="돋움"/>
              </a:rPr>
              <a:t>Layout Design</a:t>
            </a:r>
            <a:endParaRPr b="0" lang="en-US" sz="26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724120" y="5504040"/>
            <a:ext cx="5365800" cy="295200"/>
          </a:xfrm>
          <a:prstGeom prst="rect">
            <a:avLst/>
          </a:prstGeom>
          <a:gradFill rotWithShape="0">
            <a:gsLst>
              <a:gs pos="0">
                <a:srgbClr val="b65be4"/>
              </a:gs>
              <a:gs pos="50000">
                <a:srgbClr val="cc66ff"/>
              </a:gs>
              <a:gs pos="100000">
                <a:srgbClr val="b65be4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207040" y="3351240"/>
            <a:ext cx="317520" cy="579240"/>
          </a:xfrm>
          <a:prstGeom prst="upArrow">
            <a:avLst>
              <a:gd name="adj1" fmla="val 50000"/>
              <a:gd name="adj2" fmla="val 91171"/>
            </a:avLst>
          </a:prstGeom>
          <a:gradFill rotWithShape="0">
            <a:gsLst>
              <a:gs pos="0">
                <a:srgbClr val="cc00cc"/>
              </a:gs>
              <a:gs pos="100000">
                <a:srgbClr val="790079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207040" y="5383080"/>
            <a:ext cx="317520" cy="579600"/>
          </a:xfrm>
          <a:prstGeom prst="upArrow">
            <a:avLst>
              <a:gd name="adj1" fmla="val 50000"/>
              <a:gd name="adj2" fmla="val 91227"/>
            </a:avLst>
          </a:prstGeom>
          <a:gradFill rotWithShape="0">
            <a:gsLst>
              <a:gs pos="0">
                <a:srgbClr val="cc00cc"/>
              </a:gs>
              <a:gs pos="100000">
                <a:srgbClr val="790079"/>
              </a:gs>
            </a:gsLst>
            <a:lin ang="5400000"/>
          </a:gradFill>
          <a:ln w="1260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735520" y="5477040"/>
            <a:ext cx="202644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Place &amp; Layout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991480" y="3529080"/>
            <a:ext cx="1404720" cy="40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0800" rIns="100800" tIns="50400" bIns="504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01880"/>
                <a:tab algn="l" pos="2003400"/>
                <a:tab algn="l" pos="3005280"/>
                <a:tab algn="l" pos="4006800"/>
                <a:tab algn="l" pos="5008680"/>
                <a:tab algn="l" pos="6010200"/>
                <a:tab algn="l" pos="7012080"/>
                <a:tab algn="l" pos="8013600"/>
                <a:tab algn="l" pos="9015480"/>
                <a:tab algn="l" pos="10017000"/>
              </a:tabLst>
            </a:pPr>
            <a:r>
              <a:rPr b="1" lang="en-US" sz="2000" spc="-1" strike="noStrike">
                <a:solidFill>
                  <a:srgbClr val="ffffcc"/>
                </a:solidFill>
                <a:latin typeface="Arial"/>
                <a:ea typeface="돋움"/>
              </a:rPr>
              <a:t>Synthesis</a:t>
            </a:r>
            <a:endParaRPr b="0" lang="en-US" sz="2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895320" y="380880"/>
            <a:ext cx="8420040" cy="11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ffcc66"/>
                </a:solidFill>
                <a:latin typeface="Times New Roman"/>
                <a:ea typeface="돋움"/>
              </a:rPr>
              <a:t>Synthesis Technology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8-14T02:16:16Z</dcterms:created>
  <dc:creator>mmx2</dc:creator>
  <dc:description/>
  <dc:language>en-US</dc:language>
  <cp:lastModifiedBy>magic</cp:lastModifiedBy>
  <cp:lastPrinted>1998-09-02T13:49:00Z</cp:lastPrinted>
  <dcterms:modified xsi:type="dcterms:W3CDTF">1998-09-02T14:58:10Z</dcterms:modified>
  <cp:revision>127</cp:revision>
  <dc:subject/>
  <dc:title>VHDL 의 기초</dc:title>
</cp:coreProperties>
</file>