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93B2-A1F4-48BE-822F-C88BFA14C79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roep: Jaring Boersma, Pascal Beaujean, Ruud Holtkamp en Sjoerd van Fes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ntwerp van een huis, welke geheel in zijn eigen energiebehoefte voorziet, zonder dat bewoners last hebben van het systeem, dwz de bewoners moeten altijd energie tot hun beschikking hebb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bruik maken van duurzame energiebronnen in plaats van oprakende fosiele brandstoff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lvra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probleemstell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elke mate kan een Nederlands huis voorzien in zijn eigen energiebehoefte met behulp van duurzame energiebronnen en met het oog op de energiebehoefte van de gebruik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Technologisch: Kernfu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Geo-grafisch: Waterkracht, oceaanenergie, getijdenen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Maatschappelijk: Bio-massa, windenerg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nne-energie: Zonneboilers en photovoltaische ce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randstofcellen in combinatie met H2-ops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rdwarmte zorgt voor de huisverwarming en levert elktricit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Photovoltaische cellen leveren elektricit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oiler levert warm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lektriciteit wordt via regelaar in brandstofcel-unit op het huisnet geze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overschotten aan elektriciteit worden via elektrolyse omgezet in waterstof, tekorten worden via brandstofcel omgezet in elektricite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Eventuele naverwarming door elektrische boiler, geplaatst na zonne-bo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rie systemen gekopp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nne-collectoren en cellen op het da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rdwarmte en Brandstofcel-unit onder de gr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impele, eenvoudige berekening, waarbij de aardwarmte buiten beschouwing is gelaten ivm complexite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Zonne-panelen oppervlak van 24 vierkante meter ruimschoots voldoende voor de elektricite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Aardwarmte zorgt voor de ver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Bij grotere besparingen van energie is 10,7 vierkante meter voldo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0FD-8AE6-4ABE-9727-A57428F7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4C2C-53C5-41F8-9618-BEF9433C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60F-D36F-4307-A315-6EACC7F26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C84-9BAB-4020-9881-D6309258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5D52-BE67-40D8-A949-65FF67FB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4431-8882-48C2-AF8A-B6123144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A61-B117-4234-AC20-0BA4A5CB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0DF-DFC0-44F2-96BF-49DA9A0F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5792-9445-4075-A19A-4A2DC97D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5265-7D21-43F3-8D9C-9B7C9316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2E84-0BF6-4DA4-81E7-2BFB8ED7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388-B8C1-4433-9CB6-CBD436C2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6E8C-5AE8-42AA-904C-04421401E5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2C4E-31E2-4E7D-BE4A-FDB63D348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urzame energie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n gebruiksgericht ontwer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n een huis in Neder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254-D554-4397-B3E3-96047B45CD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E17FF-D05B-487F-A57A-26301EA6E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anbeveli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sche studie naar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ledige doorrekening van het sy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D437-1CAF-4071-951E-ECA7E500BE3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7BB41-4CBB-4B53-B646-435D9C44BC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ls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twikkeling van een huis dat gebruikt maakt van alternatieve energiebronnen, waarbij volledig in de behoeften van de gebruiker wordt voorz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D174-E224-4F5C-B247-6B74FCD3D3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730A4-58EA-4754-98A4-B78A04CEB3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emstel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ke duurzame energiebronnen zijn het meest geschikt voor toepassing in en rond het huis in Neder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 welke manier moeten deze energiebronnen met het oog op de gebruiker geïmplementeerd wo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de duurzame energiecapaciteit van een huis toereikend om in zijn eigen energiebehoefte te voorzi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CA03-1426-47E1-83FA-B9F3B0B5F8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037A0-AC2B-48AE-914B-46816C23AE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uzecrite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ch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fisch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atschappelijk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I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sche haalbaarhe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2971-7674-4648-A691-685B8AFAFD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59E38-E73B-4E44-B61F-CF7A5817EC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epasbare duurzame energiebronn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onne-ener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ardwarm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randstofc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72C-2F7F-4BF4-A556-0B1525EDC69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3C92A-146A-4EE0-819F-2151C137AC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owcha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295280" y="2057400"/>
            <a:ext cx="6476760" cy="3885840"/>
            <a:chOff x="1295280" y="2057400"/>
            <a:chExt cx="6476760" cy="3885840"/>
          </a:xfrm>
        </p:grpSpPr>
        <p:sp>
          <p:nvSpPr>
            <p:cNvPr id="61" name=""/>
            <p:cNvSpPr/>
            <p:nvPr/>
          </p:nvSpPr>
          <p:spPr>
            <a:xfrm>
              <a:off x="5967360" y="5139360"/>
              <a:ext cx="318240" cy="26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92160" y="4603320"/>
              <a:ext cx="3182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1720" y="339732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lektricit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1720" y="272736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Elektricite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9320" y="2459160"/>
              <a:ext cx="477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295280" y="2325240"/>
              <a:ext cx="1486440" cy="937800"/>
              <a:chOff x="1295280" y="2325240"/>
              <a:chExt cx="1486440" cy="9378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5280" y="2325240"/>
                <a:ext cx="1486440" cy="93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401120" y="2593080"/>
                <a:ext cx="1167840" cy="40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ardwarm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2569320" y="3129480"/>
              <a:ext cx="13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43720" y="205740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Huisverwar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1295280" y="3665520"/>
              <a:ext cx="1486440" cy="937800"/>
              <a:chOff x="1295280" y="3665520"/>
              <a:chExt cx="1486440" cy="937800"/>
            </a:xfrm>
          </p:grpSpPr>
          <p:sp>
            <p:nvSpPr>
              <p:cNvPr id="72" name=""/>
              <p:cNvSpPr/>
              <p:nvPr/>
            </p:nvSpPr>
            <p:spPr>
              <a:xfrm>
                <a:off x="1295280" y="3665520"/>
                <a:ext cx="1486440" cy="93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120" y="3933360"/>
                <a:ext cx="1380240" cy="51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Photovoltaïsch celle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2569320" y="3799440"/>
              <a:ext cx="138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3737520" y="2995200"/>
              <a:ext cx="1486440" cy="937800"/>
              <a:chOff x="3737520" y="2995200"/>
              <a:chExt cx="1486440" cy="937800"/>
            </a:xfrm>
          </p:grpSpPr>
          <p:sp>
            <p:nvSpPr>
              <p:cNvPr id="76" name=""/>
              <p:cNvSpPr/>
              <p:nvPr/>
            </p:nvSpPr>
            <p:spPr>
              <a:xfrm>
                <a:off x="3737520" y="2995200"/>
                <a:ext cx="1486440" cy="937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843360" y="3263040"/>
                <a:ext cx="127404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randstofce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+ opslag 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5223960" y="3397320"/>
              <a:ext cx="6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295280" y="5005440"/>
              <a:ext cx="1486440" cy="93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5280" y="5139360"/>
              <a:ext cx="13802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oiler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Zonnecell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49560" y="4737600"/>
              <a:ext cx="12740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armwa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69320" y="5139360"/>
              <a:ext cx="371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5400000">
              <a:off x="4412880" y="3469320"/>
              <a:ext cx="133920" cy="1061640"/>
            </a:xfrm>
            <a:custGeom>
              <a:avLst/>
              <a:gdLst>
                <a:gd name="textAreaLeft" fmla="*/ 0 w 133920"/>
                <a:gd name="textAreaRight" fmla="*/ 48240 w 133920"/>
                <a:gd name="textAreaTop" fmla="*/ 27360 h 1061640"/>
                <a:gd name="textAreaBottom" fmla="*/ 1034280 h 106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31320" y="4067280"/>
              <a:ext cx="1805040" cy="669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gelt de elektriciteitsvoorzie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61160" y="3129480"/>
              <a:ext cx="127404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utonoom elektriciteits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85960" y="5005440"/>
              <a:ext cx="212040" cy="267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392160" y="3665520"/>
              <a:ext cx="0" cy="13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54960" y="4067280"/>
              <a:ext cx="116784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Naverwarm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98360" y="51393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347600" y="2191320"/>
              <a:ext cx="424440" cy="321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35200" y="3397320"/>
              <a:ext cx="21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8C83-1583-4C9C-A1FF-D7EE998D6E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A0432-0F9C-4201-858F-A8EA994458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e gaat dit er uitzi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0" y="1600200"/>
          <a:ext cx="46483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600200"/>
                    <a:ext cx="4648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5338080" y="500544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rdwarm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8B26-0121-4376-9363-C8E236675C9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35D1F-2766-40A4-980D-2CF53763CC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ehoefte vs. Capacite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ehoefte van gemiddeld nieuwbouw hu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as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38,0 G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lektriciteit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 7,2 G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paciteit van gemiddeld nieuwbouw hu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rdwarmte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Verw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nne-panelen (25 m</a:t>
            </a:r>
            <a:r>
              <a:rPr b="0" lang="nl-NL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):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33,0 G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461-21F2-4F12-85ED-C88F3C0EC74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D1DE72-D76E-415E-B897-2E89D052E7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indconclus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et is mogelijk om een huis te ontwerpen dat volledig in zijn eigen energiebehoefte voorziet, terwijl de behoefte van de bewoners bevredigd blij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dit huis wordt gebruik gemaakt va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ardwarm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Zonne-ener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Brandstofcel en H</a:t>
            </a:r>
            <a:r>
              <a:rPr b="0" lang="nl-NL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-ops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GO-presentati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3AE-29CA-4C0A-A95F-A9C5850F18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6E8DD-087F-48D4-BD56-D39F688738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09:43:37Z</dcterms:created>
  <dc:creator>Valentijn</dc:creator>
  <dc:description/>
  <dc:language>en-US</dc:language>
  <cp:lastModifiedBy>Valentijn</cp:lastModifiedBy>
  <cp:lastPrinted>1999-02-25T11:08:10Z</cp:lastPrinted>
  <dcterms:modified xsi:type="dcterms:W3CDTF">1999-02-25T11:26:39Z</dcterms:modified>
  <cp:revision>2</cp:revision>
  <dc:subject/>
  <dc:title>Duurzame energiebronnen</dc:title>
</cp:coreProperties>
</file>