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F5F-C001-4231-B3C1-BF198F2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018-AF9B-4BD8-A3D1-8430E6D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1C5-4934-4F1F-9780-7839ECD8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6BD-02DA-40FE-ADB2-4970E484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BBD-707D-437A-845C-FA2CD10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A24-A5F7-42CF-B997-0FB6FAC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7C6-E94C-4C45-B30E-4E63F0E3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ADC-415F-436E-B474-3675030C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606-8307-4B05-916A-4DAD6A47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9E6-89B7-48B1-82DC-3A7F0E4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811-FA3A-4020-9FBC-C02FCDCA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0D4-EA4A-4724-AF1B-3B4B1246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541-CA64-4AAA-BDCE-1C7CD5C51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990720"/>
            <a:ext cx="8305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Oswaldo, Carlos, Ruben &amp; Javier sont 4 frères d’origine colombienne qui ont souffert l’incroyable, suite aux différents problèmes qui ont touché leur p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Ils se sont retrouvés sans rien, ils ont perdu leur famille, leur maison et tous leurs vêtements; tout est par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3 organisations mondiales et l’ACNUR ont informé la terre entière, et ont demandé si quelqu’un voulait les adopter pour leur redonner un toit, une famil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Vous trouverez ci-après une photo de ces 4 orphelins qui vous fera peut-être considérer la possibilité de les ado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tant sur votre générosité fémin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ombia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2:57:40Z</dcterms:created>
  <dc:creator>Cornelia Herrmann</dc:creator>
  <dc:description/>
  <dc:language>en-US</dc:language>
  <cp:lastModifiedBy>TELEBEC</cp:lastModifiedBy>
  <dcterms:modified xsi:type="dcterms:W3CDTF">2001-10-21T21:06:07Z</dcterms:modified>
  <cp:revision>3</cp:revision>
  <dc:subject/>
  <dc:title>No Slide Title</dc:title>
</cp:coreProperties>
</file>