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457-C6B1-4B06-B63A-231B9124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69C-844E-4B78-AEB1-928333F3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069-8AD4-4153-AF0D-90B09528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B8A-E5EB-4342-BECC-EB7DCE10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DDC-625A-4AE8-B004-09F50D2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875-C920-4203-97B2-26479D7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79C-7A84-4AAC-8B08-1595F6F5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0E6-140D-47A3-843C-7EEA60AE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D44-3B48-411A-92A2-1528D6A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E33-7563-4505-90E1-0F6A202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F2A-031B-4E35-862E-DE80EF9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C75-F2F3-43D3-89E2-84A0392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FA04-0482-494F-84C9-342C26CD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10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2.xml"/><Relationship Id="rId13" Type="http://schemas.openxmlformats.org/officeDocument/2006/relationships/slide" Target="slide14.xml"/><Relationship Id="rId14" Type="http://schemas.openxmlformats.org/officeDocument/2006/relationships/slide" Target="slide24.xml"/><Relationship Id="rId15" Type="http://schemas.openxmlformats.org/officeDocument/2006/relationships/slide" Target="slide13.xml"/><Relationship Id="rId16" Type="http://schemas.openxmlformats.org/officeDocument/2006/relationships/slide" Target="slide7.xml"/><Relationship Id="rId17" Type="http://schemas.openxmlformats.org/officeDocument/2006/relationships/slide" Target="slide16.xml"/><Relationship Id="rId18" Type="http://schemas.openxmlformats.org/officeDocument/2006/relationships/slide" Target="slide15.xml"/><Relationship Id="rId19" Type="http://schemas.openxmlformats.org/officeDocument/2006/relationships/slide" Target="slide23.xml"/><Relationship Id="rId20" Type="http://schemas.openxmlformats.org/officeDocument/2006/relationships/slide" Target="slide18.xml"/><Relationship Id="rId21" Type="http://schemas.openxmlformats.org/officeDocument/2006/relationships/slide" Target="slide9.xml"/><Relationship Id="rId22" Type="http://schemas.openxmlformats.org/officeDocument/2006/relationships/slide" Target="slide8.xml"/><Relationship Id="rId23" Type="http://schemas.openxmlformats.org/officeDocument/2006/relationships/slide" Target="slide21.xml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62856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68560" y="7192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494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50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94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38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38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2856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50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94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782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50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782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638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782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782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50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068560" y="28782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4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38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2068560" y="17985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62856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2068560" y="395748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56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5105520"/>
            <a:ext cx="6934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99"/>
                </a:solidFill>
                <a:latin typeface="Copperplate Gothic Bold"/>
              </a:rPr>
              <a:t>Adventkalender 2001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99"/>
                </a:solidFill>
                <a:latin typeface="Copperplate Gothic Bold"/>
              </a:rPr>
              <a:t>... für brave Mäd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590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820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3124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590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943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791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05920" y="1981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572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mage00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5768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200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3733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53280" y="1600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572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image002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56200" cy="62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4876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2895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990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81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age00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62940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609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age00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657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2960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age006" descr=""/>
          <p:cNvPicPr/>
          <p:nvPr/>
        </p:nvPicPr>
        <p:blipFill>
          <a:blip r:embed="rId1"/>
          <a:stretch/>
        </p:blipFill>
        <p:spPr>
          <a:xfrm>
            <a:off x="1523880" y="901800"/>
            <a:ext cx="65534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80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191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mage007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0048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429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1981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1219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image008" descr=""/>
          <p:cNvPicPr/>
          <p:nvPr/>
        </p:nvPicPr>
        <p:blipFill>
          <a:blip r:embed="rId1"/>
          <a:stretch/>
        </p:blipFill>
        <p:spPr>
          <a:xfrm>
            <a:off x="2703600" y="628560"/>
            <a:ext cx="3736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5867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image009" descr=""/>
          <p:cNvPicPr/>
          <p:nvPr/>
        </p:nvPicPr>
        <p:blipFill>
          <a:blip r:embed="rId1"/>
          <a:stretch/>
        </p:blipFill>
        <p:spPr>
          <a:xfrm>
            <a:off x="2629080" y="304920"/>
            <a:ext cx="411156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05920" y="5410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685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762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562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image010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1984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791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3352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296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1676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image013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46256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914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638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oys%207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.12.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4419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33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image014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4029120" cy="62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104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2895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762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image016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600880" cy="54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3452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4724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oboy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60888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3452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114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ooltoy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3581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yeahmen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6324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wow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48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4267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oys%2072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26564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6324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oys%2073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0930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92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oys%2074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34844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58200" y="4419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685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257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oys%2075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2666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oys%2076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388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468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oys%2077" descr=""/>
          <p:cNvPicPr/>
          <p:nvPr/>
        </p:nvPicPr>
        <p:blipFill>
          <a:blip r:embed="rId1"/>
          <a:stretch/>
        </p:blipFill>
        <p:spPr>
          <a:xfrm>
            <a:off x="2502000" y="571680"/>
            <a:ext cx="4140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1447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648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oys%2078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995640" cy="628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54:28Z</dcterms:created>
  <dc:creator>Huber Johannes</dc:creator>
  <dc:description/>
  <dc:language>en-US</dc:language>
  <cp:lastModifiedBy>TELEBEC</cp:lastModifiedBy>
  <dcterms:modified xsi:type="dcterms:W3CDTF">2002-02-15T03:15:51Z</dcterms:modified>
  <cp:revision>6</cp:revision>
  <dc:subject/>
  <dc:title>PowerPoint-Präsentation</dc:title>
</cp:coreProperties>
</file>