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04F-B234-4C99-83EC-8D6D736A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E16-2535-4641-924A-292238A8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298-3BAD-414C-B9C0-D6D6CD7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A2E-8EDD-41E7-8C29-E2123374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E83-299D-47B1-8703-BA4E7ECE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D23-C106-41F1-AFBC-3DDDF33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72D-E6B2-49AB-9E87-44CC1E42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EC7-A0E5-4891-8097-F89FF41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D34-591F-4596-98B1-A0403C2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2AB-7BBB-48BF-B556-6F21FC4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0D4-8217-4232-9CED-B12DAD8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616-D11E-4213-A6D4-5892F04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56F-D879-40E5-B3F8-2EEB4C92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ASSOON.WAV" TargetMode="External"/><Relationship Id="rId2" Type="http://schemas.microsoft.com/office/2007/relationships/media" Target="file:///tmp/home/.config/libreoffice/4/user/gallery/BASSOO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Tahoma"/>
              </a:rPr>
              <a:t>Le cauchemar de toute fem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Vous rencontrez un beau gars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5410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us avez un souper romantique à votre restaurant fa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handelles, mus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n’a de yeux que pour 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e parfait gentl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icky.martin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166920" cy="426744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et en plu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est riche et intellig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danse merveilleusement 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Il embrasse de manière enflamm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PLEHUG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139860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CPLEWLTZ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1860840" cy="321948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En somme: l’homme de vos rê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s copines sont envi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s parents l’ado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UNCH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1898640" cy="1741320"/>
          </a:xfrm>
          <a:prstGeom prst="rect">
            <a:avLst/>
          </a:prstGeom>
          <a:ln w="0">
            <a:noFill/>
          </a:ln>
        </p:spPr>
      </p:pic>
      <p:pic>
        <p:nvPicPr>
          <p:cNvPr id="53" name="910" descr=""/>
          <p:cNvPicPr/>
          <p:nvPr/>
        </p:nvPicPr>
        <p:blipFill>
          <a:blip r:embed="rId2"/>
          <a:stretch/>
        </p:blipFill>
        <p:spPr>
          <a:xfrm>
            <a:off x="5029200" y="4724280"/>
            <a:ext cx="205740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Un homme de princi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Pas de sexe avant le mariage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vemaking" descr=""/>
          <p:cNvPicPr/>
          <p:nvPr/>
        </p:nvPicPr>
        <p:blipFill>
          <a:blip r:embed="rId1"/>
          <a:stretch/>
        </p:blipFill>
        <p:spPr>
          <a:xfrm>
            <a:off x="2514600" y="313848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2666880"/>
            <a:ext cx="3809880" cy="3886200"/>
          </a:xfrm>
          <a:prstGeom prst="noSmoking">
            <a:avLst>
              <a:gd name="adj" fmla="val 37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edding" descr=""/>
          <p:cNvPicPr/>
          <p:nvPr/>
        </p:nvPicPr>
        <p:blipFill>
          <a:blip r:embed="rId1"/>
          <a:stretch/>
        </p:blipFill>
        <p:spPr>
          <a:xfrm>
            <a:off x="5769000" y="1752480"/>
            <a:ext cx="322272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Parlons-en du mariag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6781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Vous avez une superbe 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e gâteau est délici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la réception est l’évenement      de l’ann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ous partez pour votre      lune de mie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2ea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t c’est alors que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%20womans%20nightmare%20pic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897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40" y="601992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ire que les filles affirment que la grandeur n’a pas d’importanc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0:02:38Z</dcterms:created>
  <dc:creator/>
  <dc:description/>
  <dc:language>en-US</dc:language>
  <cp:lastModifiedBy>TELEBEC</cp:lastModifiedBy>
  <dcterms:modified xsi:type="dcterms:W3CDTF">2002-02-06T21:30:17Z</dcterms:modified>
  <cp:revision>23</cp:revision>
  <dc:subject/>
  <dc:title>Le cauchemar de toute femme</dc:title>
</cp:coreProperties>
</file>