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7B5-8280-48A6-B170-B926262F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CCA-B7FA-4D54-B833-71F81B82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CC5-9FA3-49E9-8445-8158BD44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5B3-48B1-4DE0-B16F-4F5C08CB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522-3A28-4E45-910A-80C59694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2C8-F711-4AB2-9F53-0977DE8D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A9F-C13F-4CD9-81C0-8F3DE0C8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F96-25B1-4E07-B9E8-FF8CEABC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25B-BCAC-4BA2-97EB-09274B96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4DD-2649-44A8-8645-5BFFCF22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AEB-DE11-472E-820A-851A5589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B6E-C79C-41FE-A169-9C4D127C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C580-BEE3-494F-8D8C-5D73BA6BA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ush Script MT"/>
              </a:rPr>
              <a:t>Contes &amp; Légendes du pass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Par Jean Heym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que homme doit apporter un objet qui ne fond pas entre les doigts de la princesse…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ui qui détient cet objet la guérira, l’épouser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t héritera du Royaum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ois jeunes princes relevèrent le défi: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Le premier prince apporta une énorme barre de titanium. 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Mais hélas, lorsque la princesse la toucha, la barre se mit à fondre comme de la cire.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Le prince reparti sidér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 deuxième prince apporta un énorme diamant, Pensant que le diamant était la matière la plus solide dans le monde, il proposa à la princesse de le toucher. Mais hélas, lorsque la princesse le toucha, il se mît à fond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 prince reparti décourag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 troisième prince approcha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l demanda à la princess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"Plonge ta main dans la poche de mon pantalon et touche ce qu’il y a au fond.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La princesse s’exécuta et mit la main dans son pantal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Alors qu’elle rougissait de plus belle.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Elle sentit quelque chose de très dur. 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Elle le prit dans sa main.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    Et rien ne fondit!!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 Roi était heureux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ut le Royaume éclatait de joi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t le troisième Prince épousa la Princess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ls vécurent heureux et eurent beaucoup d’enfant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Jolie Histoire non ??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Et vous ne vous posez pas la question, quelle question 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Qu’est-ce que la princesse a touché dans son pantalon 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962520" y="4419720"/>
          <a:ext cx="1143000" cy="114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4419720"/>
                    <a:ext cx="114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l était une fois, dans un lointain pay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e très belle princesse, célibatair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l y avait un “M&amp;M's” bien-sûr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l fond dans la bouche, pas dans la mai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QUOI PENSIEZ-VOUS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505320" y="685800"/>
          <a:ext cx="222552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685800"/>
                    <a:ext cx="22255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743200" y="5410080"/>
          <a:ext cx="3801960" cy="571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5410080"/>
                    <a:ext cx="38019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lle avait un problèm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que chose que la princesse touchait se mettait à fondre… Que se fut du métal, du bois ou du plastiqu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cause de ce handicap, les hommes avaient peur d’ell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rsonne ne voulait l’épouser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 Roi était désespéré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Que pouvait-il faire pour l’aider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l consulta alors ses scientifiques et ses magicien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 scientifique lui conseil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"Quand ta fille  trouvera quelque chose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qui ne fond pas entre ses doigts,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elle sera guérie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."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 Roi avait trouvé une solution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 lendemain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l organisa une compétition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5:02:26Z</dcterms:created>
  <dc:creator/>
  <dc:description/>
  <dc:language>en-US</dc:language>
  <cp:lastModifiedBy>TELEBEC</cp:lastModifiedBy>
  <dcterms:modified xsi:type="dcterms:W3CDTF">2001-11-27T20:35:36Z</dcterms:modified>
  <cp:revision>26</cp:revision>
  <dc:subject/>
  <dc:title>Contes &amp; histoires du passé</dc:title>
</cp:coreProperties>
</file>