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Le tour" id="0">
      <p:sldLst>
        <p:sld r:id="rId3"/>
        <p:sld r:id="rId9"/>
        <p:sld r:id="rId12"/>
      </p:sldLst>
    </p:custShow>
    <p:custShow name="Copie de Le tour" id="1">
      <p:sldLst>
        <p:sld r:id="rId3"/>
        <p:sld r:id="rId9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92F-CE10-4504-B9DE-75F09234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1D3-5C6E-46E6-B214-88020572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F36-5773-4C80-8A60-05D85488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9AA-FF73-49D2-8A2F-D01C5EE0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C5C-AD13-468A-B020-3402F4FA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483-10C3-47EE-8E1A-90030789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3BB-8A49-49B7-9DAD-19155115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101-F3CD-44C9-8FD5-8F5AE74B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DC5-AADF-4562-8AB1-58810B17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CFC-6AE0-4E56-9D22-3BF6E0C4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DED-D92B-4F22-8C89-B59C9EAC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BAC-9AA3-414F-AC70-9FF3CEC6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9C58-EFCD-408C-A836-982C37004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ffffff"/>
                </a:solidFill>
                <a:latin typeface="Times New Roman"/>
              </a:rPr>
              <a:t>After a moment you will enter the world of magic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ards2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1000" y="24382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Look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I to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your card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6960" y="2787480"/>
            <a:ext cx="429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I knew the choice you would be making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you will witness the unbelievab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You are part of an illusion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ap13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Copperfield’s illu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In this simple programme you will se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That I can tell what you think, through your computer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ards1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31436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You can see 6 cards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Think one of them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Just think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Do not ”click” it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Think now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267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Press the space ba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1000" y="2438280"/>
            <a:ext cx="42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Look into my eyes.  Just think about your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1000" y="2438280"/>
            <a:ext cx="429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I do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know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I can not see you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But I know what you th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DC</dc:creator>
  <dc:description/>
  <dc:language>en-US</dc:language>
  <cp:lastModifiedBy>TELEBEC</cp:lastModifiedBy>
  <dcterms:modified xsi:type="dcterms:W3CDTF">2002-02-26T04:50:16Z</dcterms:modified>
  <cp:revision>41</cp:revision>
  <dc:subject/>
  <dc:title>DC</dc:title>
</cp:coreProperties>
</file>