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96C-78AB-420D-AE84-6B2A35A7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3D3-8ED8-4FB6-BD36-CE8EAA17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667-A42F-44E7-A04A-4C10986D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397-2E2D-43B7-B1BE-FE937866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CBF2-4D34-4B69-9921-784B0DF4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C2B8-F545-4636-8F06-DD080E27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9B21-2190-42CF-919F-8F02DBFE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5615-1147-46F5-9478-0DBB8C22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A993-6994-4C2B-A571-E8770DF5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989F-18AB-41C3-9E2D-8440D4D5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CABC-5F77-45E3-8FCA-378D201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F4D-0D01-48E1-A1AC-087FBA3A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8CA3-8584-4ACE-86EF-EE65A0C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70EB-CFC1-47EB-BB1E-4F08EE14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5D48-8CDC-41EC-B1D2-E7E05DDE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31FF-F351-4E79-8B85-EB67A7E2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554C-AFEE-4349-8721-4606415D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1CA-EF8B-4222-BBC1-0DE97366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545-16C3-4821-A7DF-BBC352CE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B8E-FA0B-4C4E-BA92-ECC70768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847-F6C8-4957-9B35-84B0A907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956-D7C8-4346-81E7-82349291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A98-67F6-4609-B837-0A28211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23B-C444-43BC-807C-227A3A1A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E37-5801-4982-8BFA-28C4BE91C66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CE65-0C37-4C93-AFC8-A782844A2A2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Comic Sans MS"/>
              </a:rPr>
              <a:t>Je vais vous présenter aujourd’hui mes employés de maison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On peut rêver !!!!</a:t>
            </a:r>
            <a:br>
              <a:rPr sz="4400"/>
            </a:b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Où bien 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991080" y="0"/>
            <a:ext cx="937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 homme de ménag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Fotoart3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46640" cy="5140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 homme de chamb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4" name="Descansa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n plombi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manintub" descr=""/>
          <p:cNvPicPr/>
          <p:nvPr/>
        </p:nvPicPr>
        <p:blipFill>
          <a:blip r:embed="rId1"/>
          <a:stretch/>
        </p:blipFill>
        <p:spPr>
          <a:xfrm>
            <a:off x="2536920" y="838080"/>
            <a:ext cx="3952800" cy="58676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n entraîneur de spor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o59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078080" cy="54864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 poseur de moquet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antonio%20sabato%20jr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81920" cy="55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rtsy117" descr=""/>
          <p:cNvPicPr/>
          <p:nvPr/>
        </p:nvPicPr>
        <p:blipFill>
          <a:blip r:embed="rId1"/>
          <a:stretch/>
        </p:blipFill>
        <p:spPr>
          <a:xfrm>
            <a:off x="2541600" y="914400"/>
            <a:ext cx="382428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 boy qui chauffe l’eau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 b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ffcc00"/>
                </a:solidFill>
                <a:latin typeface="Times New Roman"/>
              </a:rPr>
              <a:t>Mon médecin et masseu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21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73560" cy="56386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ffcc00"/>
                </a:solidFill>
                <a:latin typeface="Times New Roman"/>
              </a:rPr>
              <a:t>Et celui qui m‘entreti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7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LEBEC</cp:lastModifiedBy>
  <dcterms:modified xsi:type="dcterms:W3CDTF">2002-02-28T02:36:56Z</dcterms:modified>
  <cp:revision>10</cp:revision>
  <dc:subject/>
  <dc:title>PowerPoint Presentation</dc:title>
</cp:coreProperties>
</file>