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8108-6FE1-4DCC-B518-30D92317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9D79-1540-4133-9B97-D369C9AD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EC40-E830-44D0-AB71-D931DB84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50BE-8902-422E-9618-BA21827D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EB40-37B5-4B79-BB7E-8B86E004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C37A-DBC1-42C7-954A-84E3598A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9786-7A57-4EA6-88DB-5EF78E64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DA36-446A-4623-BB9E-D6C69BF8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998E-ADEE-4CCD-9F6D-D2C6047A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CDF0-43E6-4237-9B43-961CF55F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A664-3E17-457F-938D-ADE81AEC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1E54-37B8-4346-9272-37F05FA3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E71F-6CD1-44CA-A7E1-32E973253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jumeirah" descr=""/>
          <p:cNvPicPr/>
          <p:nvPr/>
        </p:nvPicPr>
        <p:blipFill>
          <a:blip r:embed="rId1"/>
          <a:stretch/>
        </p:blipFill>
        <p:spPr>
          <a:xfrm>
            <a:off x="7086600" y="3809880"/>
            <a:ext cx="1574640" cy="3048120"/>
          </a:xfrm>
          <a:prstGeom prst="rect">
            <a:avLst/>
          </a:prstGeom>
          <a:ln w="0">
            <a:noFill/>
          </a:ln>
        </p:spPr>
      </p:pic>
      <p:pic>
        <p:nvPicPr>
          <p:cNvPr id="42" name="jumeirah" descr=""/>
          <p:cNvPicPr/>
          <p:nvPr/>
        </p:nvPicPr>
        <p:blipFill>
          <a:blip r:embed="rId2"/>
          <a:stretch/>
        </p:blipFill>
        <p:spPr>
          <a:xfrm>
            <a:off x="533520" y="3809880"/>
            <a:ext cx="1574640" cy="3048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" y="0"/>
            <a:ext cx="83059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Je vous invite à la visite du plus bel hôtel du monde, 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mic"/>
              </a:rPr>
              <a:t>Burj El Arab</a:t>
            </a: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de Duba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5326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Faites défiler les diapos et … rêvez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lub%20suite" descr=""/>
          <p:cNvPicPr/>
          <p:nvPr/>
        </p:nvPicPr>
        <p:blipFill>
          <a:blip r:embed="rId1"/>
          <a:stretch/>
        </p:blipFill>
        <p:spPr>
          <a:xfrm>
            <a:off x="0" y="1257480"/>
            <a:ext cx="7467480" cy="5600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hambre à coucher de la  “CLUB SUITE” 330 M2 &amp; 1726 US $/j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304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alon de la “CLUB SUITE” (1726 US $/jou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543800" y="3124080"/>
            <a:ext cx="1600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club%20suite2" descr=""/>
          <p:cNvPicPr/>
          <p:nvPr/>
        </p:nvPicPr>
        <p:blipFill>
          <a:blip r:embed="rId1"/>
          <a:stretch/>
        </p:blipFill>
        <p:spPr>
          <a:xfrm>
            <a:off x="0" y="125748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304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alle à manger de la “CLUB SUITE” 1726 US $/jo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43800" y="3124080"/>
            <a:ext cx="1600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club%20suite3" descr=""/>
          <p:cNvPicPr/>
          <p:nvPr/>
        </p:nvPicPr>
        <p:blipFill>
          <a:blip r:embed="rId1"/>
          <a:stretch/>
        </p:blipFill>
        <p:spPr>
          <a:xfrm>
            <a:off x="0" y="120024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alon de la “Presidential Suite” 667 M2 &amp; 5480 US$/j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residential" descr=""/>
          <p:cNvPicPr/>
          <p:nvPr/>
        </p:nvPicPr>
        <p:blipFill>
          <a:blip r:embed="rId1"/>
          <a:stretch/>
        </p:blipFill>
        <p:spPr>
          <a:xfrm>
            <a:off x="0" y="120024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hambre double de la  “Presidential Suite” 5480 US $/j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96080" y="251460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residential2" descr=""/>
          <p:cNvPicPr/>
          <p:nvPr/>
        </p:nvPicPr>
        <p:blipFill>
          <a:blip r:embed="rId1"/>
          <a:stretch/>
        </p:blipFill>
        <p:spPr>
          <a:xfrm>
            <a:off x="0" y="120024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alle à manger de la “Presidential Suite” 5480 US $/j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96080" y="251460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residential3" descr=""/>
          <p:cNvPicPr/>
          <p:nvPr/>
        </p:nvPicPr>
        <p:blipFill>
          <a:blip r:embed="rId1"/>
          <a:stretch/>
        </p:blipFill>
        <p:spPr>
          <a:xfrm>
            <a:off x="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alle de bain de la “Presidential Suite” (5480 US $/jou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96080" y="251460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residential4" descr=""/>
          <p:cNvPicPr/>
          <p:nvPr/>
        </p:nvPicPr>
        <p:blipFill>
          <a:blip r:embed="rId1"/>
          <a:stretch/>
        </p:blipFill>
        <p:spPr>
          <a:xfrm>
            <a:off x="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hambre des parents de la “Royal Suite” (880 M2 &amp; 7880 US $ /jou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royalsuite" descr=""/>
          <p:cNvPicPr/>
          <p:nvPr/>
        </p:nvPicPr>
        <p:blipFill>
          <a:blip r:embed="rId1"/>
          <a:stretch/>
        </p:blipFill>
        <p:spPr>
          <a:xfrm>
            <a:off x="0" y="1085760"/>
            <a:ext cx="769608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éjour de la “Royal Suite” (7880 US $/jou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96080" y="251460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royalsuite2" descr=""/>
          <p:cNvPicPr/>
          <p:nvPr/>
        </p:nvPicPr>
        <p:blipFill>
          <a:blip r:embed="rId1"/>
          <a:stretch/>
        </p:blipFill>
        <p:spPr>
          <a:xfrm>
            <a:off x="0" y="1085760"/>
            <a:ext cx="769608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alle à manger de la “Royal Suite”7880 US $/j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96080" y="251460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royalsuite3" descr=""/>
          <p:cNvPicPr/>
          <p:nvPr/>
        </p:nvPicPr>
        <p:blipFill>
          <a:blip r:embed="rId1"/>
          <a:stretch/>
        </p:blipFill>
        <p:spPr>
          <a:xfrm>
            <a:off x="0" y="1085760"/>
            <a:ext cx="769608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burj%20arab%20noite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8153280" cy="6114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ue externe du très bel hôtel, de n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Situé à 280m de la côte sur une île artificielle, le  Burj Al Arab a une hauteur de  321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alle de bain de la “Royal Suite” 7880 US $ /j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96080" y="251460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royalsuite4" descr=""/>
          <p:cNvPicPr/>
          <p:nvPr/>
        </p:nvPicPr>
        <p:blipFill>
          <a:blip r:embed="rId1"/>
          <a:stretch/>
        </p:blipFill>
        <p:spPr>
          <a:xfrm>
            <a:off x="0" y="1085760"/>
            <a:ext cx="769608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alon télé de la “Royal Suite” (7.880 US $ /jou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96080" y="251460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royalsuite5" descr=""/>
          <p:cNvPicPr/>
          <p:nvPr/>
        </p:nvPicPr>
        <p:blipFill>
          <a:blip r:embed="rId1"/>
          <a:stretch/>
        </p:blipFill>
        <p:spPr>
          <a:xfrm>
            <a:off x="0" y="1028880"/>
            <a:ext cx="77724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09480"/>
            <a:ext cx="914400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C’est ainsi. Il existe des fortunes difficiles à imaginer en ce bas-monde. Si vous êtes intéressés  par un séjour, donnez-vous seulement la peine d’appeler  (00**971) 4 301 7777 et un Jet Gulfstream V, avion de service de l’hôtel, viendra vous chercher, vous et votre petite famille, ou que vous soyez dans le mon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P.S. : Cette petite chaumière est la propriété de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Monsieur Ousama Ben La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hotel" descr=""/>
          <p:cNvPicPr/>
          <p:nvPr/>
        </p:nvPicPr>
        <p:blipFill>
          <a:blip r:embed="rId1"/>
          <a:stretch/>
        </p:blipFill>
        <p:spPr>
          <a:xfrm>
            <a:off x="4800600" y="228600"/>
            <a:ext cx="4626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3048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Jets français faisant un Show Aérien à Dubai en 1999 au dessus de l’Hôtel Burj Al Ar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ront%20desk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305920" cy="6229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90720" y="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Re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ference" descr=""/>
          <p:cNvPicPr/>
          <p:nvPr/>
        </p:nvPicPr>
        <p:blipFill>
          <a:blip r:embed="rId1"/>
          <a:stretch/>
        </p:blipFill>
        <p:spPr>
          <a:xfrm>
            <a:off x="533520" y="571680"/>
            <a:ext cx="8381880" cy="6286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9480" y="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alle  de conférenc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anoramicsuite" descr=""/>
          <p:cNvPicPr/>
          <p:nvPr/>
        </p:nvPicPr>
        <p:blipFill>
          <a:blip r:embed="rId1"/>
          <a:stretch/>
        </p:blipFill>
        <p:spPr>
          <a:xfrm>
            <a:off x="0" y="990720"/>
            <a:ext cx="7467480" cy="5600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alon de la Suite “PANORAMIC” 225 M2 &amp; 1.315 US $/j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808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alle de bain de la  Suite “PANORAMIC” 1.315 US $/j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anoramicsuite2" descr=""/>
          <p:cNvPicPr/>
          <p:nvPr/>
        </p:nvPicPr>
        <p:blipFill>
          <a:blip r:embed="rId1"/>
          <a:stretch/>
        </p:blipFill>
        <p:spPr>
          <a:xfrm>
            <a:off x="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uite%20dexule" descr=""/>
          <p:cNvPicPr/>
          <p:nvPr/>
        </p:nvPicPr>
        <p:blipFill>
          <a:blip r:embed="rId1"/>
          <a:stretch/>
        </p:blipFill>
        <p:spPr>
          <a:xfrm>
            <a:off x="0" y="1257480"/>
            <a:ext cx="7467480" cy="5600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2286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alon de la  “Suite Deluxe” 170 M2 &amp; 1042 US $/j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Escalier menant à la chambre à coucher de la “Suite Delux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29400" y="2514600"/>
            <a:ext cx="1600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suite%20dexule2" descr=""/>
          <p:cNvPicPr/>
          <p:nvPr/>
        </p:nvPicPr>
        <p:blipFill>
          <a:blip r:embed="rId1"/>
          <a:stretch/>
        </p:blipFill>
        <p:spPr>
          <a:xfrm>
            <a:off x="0" y="171468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3T13:31:03Z</dcterms:created>
  <dc:creator>2º Ofício de Registro de Imóveis</dc:creator>
  <dc:description/>
  <dc:language>en-US</dc:language>
  <cp:lastModifiedBy>TELEBEC</cp:lastModifiedBy>
  <dcterms:modified xsi:type="dcterms:W3CDTF">2002-04-15T18:39:03Z</dcterms:modified>
  <cp:revision>8</cp:revision>
  <dc:subject/>
  <dc:title>Slide sem título </dc:title>
</cp:coreProperties>
</file>