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6D4-BD5C-4014-8147-022E71D7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7D6-9B41-4C85-B5B1-0C750C7F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E05-D797-45B4-ADB1-EB762EB3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08A-13B6-41BF-A144-39C822B1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9B9-2102-4E3A-AA6D-23F39CBE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9DA-038E-4E0C-AE3D-13AEB40A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59F-241F-4F2F-9B3C-1BDBBBD9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39E-066F-437B-B705-3DBDA13C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897-21BA-4476-BCFB-A760F614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EDC-7BED-4218-9689-A50E7FB2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546-1D28-4BD2-AFFE-7E712A29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C10-F793-4471-9319-07D66C01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93CE-A26A-46CA-B647-DEA27D4D5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48200" cy="394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1080" y="380880"/>
            <a:ext cx="784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 tournée des pubs avec les copains........................................60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s mal de téquilas ....................................................................50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petit joint avec tes amis ........................................................12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5680" y="5715000"/>
            <a:ext cx="73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 rendre compte que t‘as perdu conscience dans la rue et p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s ton lit .................................. ça n‘a pas de prix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57680" y="380880"/>
            <a:ext cx="750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joli costume noir ............................................................ 125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 cocktails pour tes copines  ...........................................  45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petit appareil photo jetable  ............................................  15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5400" y="5715000"/>
            <a:ext cx="687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 rendre compte que l‘on peut voir sur la photo que tu n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rtes pas de slip............................ Ça n‘a pas de prix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4100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9920" y="304920"/>
            <a:ext cx="750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repas chez McDo ...........................................................   6$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taxi pour aller au bal ....................…...............................  11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e bouteille de vin super bon marché ...............................  $5,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67880" y="5715000"/>
            <a:ext cx="731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 rendre compte qu‘ils t‘ont pris la photo avec la main dans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lip de ta copine.......................... Ça n‘a pas de prix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4057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4960" y="380880"/>
            <a:ext cx="803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Livre ‚‘‘1001 méthodes pour draguer une nana“ .................   $12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e entrée dans une boite .........................................................    $8,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 boissons pour toi et ta nouvelle connaissance ...................  $35,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0640" y="5715000"/>
            <a:ext cx="707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 rendre compte qu‘ils ont pris la photo pendant que t`é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 train de tester la méthode 356 ..........…ça n‘a pas de prix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19520" y="1447920"/>
            <a:ext cx="3673440" cy="407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3160" y="380880"/>
            <a:ext cx="833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 fleurs pour l‘anniversaire de ta copine...................................   20$,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bon parfum pour elle  ...............................................................  40$,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e nouvelle serrure pour sa chambre à coucher.........................    2$,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8120" y="5867280"/>
            <a:ext cx="711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 rendre compte que cette maudite serrure ne sert à rien .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ça n‘a pas de prix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477120" cy="43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24680" y="167652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l y a des choses que l‘on ne peut pas acheter. Pour tout le res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l y a MASTERCA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21495" r="0" b="0"/>
          <a:stretch/>
        </p:blipFill>
        <p:spPr>
          <a:xfrm>
            <a:off x="3995640" y="3284640"/>
            <a:ext cx="1411560" cy="81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9:28:31Z</dcterms:created>
  <dc:creator>Chaos 4711</dc:creator>
  <dc:description/>
  <dc:language>en-US</dc:language>
  <cp:lastModifiedBy>TELEBEC</cp:lastModifiedBy>
  <dcterms:modified xsi:type="dcterms:W3CDTF">2002-03-26T05:27:11Z</dcterms:modified>
  <cp:revision>13</cp:revision>
  <dc:subject/>
  <dc:title>Kein Folientitel</dc:title>
</cp:coreProperties>
</file>