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20C-A2A9-485F-B802-08EFE756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8DA-9F52-4B4A-BC14-310C44BC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3C0-91B2-46CF-92C7-C8449292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B64-285E-4175-A5B9-FB8B85F6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9E9-6995-4F0E-AD47-B8DCAC3F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628-01CA-4157-B0A9-25ADCCC3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252-5EDE-4AB2-8845-E21E23E4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FB5-D191-44CE-9A77-3948BBF7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A68-3DFB-4A33-95F6-9529CE42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C4AA-C388-43E0-9387-4E4A7109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192-8FE7-43B8-B3EF-1BB95200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07D-52FE-430F-9685-43181723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0F9A-0A4F-4A22-A066-E2F00A537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INTER GALLAC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ONJOUR CHER ETRE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19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JE ME PRESENTE : JE SUIS UN EXTRAT TERRESTRE VENANT DE LA CONSTELLATION QUE VOUS APPELEZ O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09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OUR PASSER INAPERCU, JE ME SUIS DEGUISE EN E-MAIL ET ACTUELLEMENT J’AI UNE RELATION SEXUELLE AVEC TES GLOBES OCUL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JE SAIS QUE TU AIMES CA PUISQUE TU ME SOU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11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INTENANT TU RIS, C’EST DONC QUE TU AS EU UN ORGA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2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ALORS, PASSE MOI VITE A TON VOISIN CAR JE SUIS ENCORE TOUT EX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867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 BIENT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CE FUT UN PLAISIR POUR MOI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6400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CI-JOINT MA PH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4:00:02Z</dcterms:created>
  <dc:creator/>
  <dc:description/>
  <dc:language>en-US</dc:language>
  <cp:lastModifiedBy>TELEBEC</cp:lastModifiedBy>
  <dcterms:modified xsi:type="dcterms:W3CDTF">2001-11-29T17:45:21Z</dcterms:modified>
  <cp:revision>3</cp:revision>
  <dc:subject/>
  <dc:title>Présentation PowerPoint</dc:title>
</cp:coreProperties>
</file>