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914A-9A3A-4CA9-8017-010E4F1E7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AB9B-E848-4A73-B9F9-03DD32B8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A5E3-800D-4A43-BCF2-5FCA73EB8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C7C2-E489-4128-8DB6-B227A16DB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939F-618B-4C7C-8B6C-F1CFD1C6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DF36-96E0-43D5-9C14-67760365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2D02-88D9-4CFF-A857-FE91B7C1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1168-FFCC-49A2-9792-FDC86657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5BE9-F2D8-4F31-AAA2-02DD33F7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D3D9-1B4A-4692-A543-509839C5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5F56-26F5-46CE-89FA-21FD2070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CCBB-E1C7-4406-BE8B-F7F8D32D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D4E7-8339-4B75-8690-2EE417048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ÉTRANGE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7521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ici un petit exerci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thématique qui e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étonnera plu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'un(e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 premier de ces trois chiffres devrait être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 nombre de fois par semaine où vous aimeriez aller au resto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 plus cool est a venir !!!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s deux derniers chiff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              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rrespondent à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ff00"/>
                </a:solidFill>
                <a:latin typeface="Times New Roman"/>
              </a:rPr>
              <a:t>Votre âge !!!!!!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Cette année (200</a:t>
            </a:r>
            <a:r>
              <a:rPr b="0" lang="fr-CH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) est la seule année où ça</a:t>
            </a:r>
            <a:br>
              <a:rPr sz="3200"/>
            </a:b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fonctionne</a:t>
            </a:r>
            <a:r>
              <a:rPr b="0" lang="fr-CH" sz="32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 alors envoyez-le à vos am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0" lang="fr-FR" sz="3200" spc="-1" strike="noStrike">
                <a:solidFill>
                  <a:srgbClr val="3333cc"/>
                </a:solidFill>
                <a:latin typeface="Times New Roman"/>
              </a:rPr>
              <a:t>(ça prend seulement 30 secondes, vo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0" lang="fr-FR" sz="3200" spc="-1" strike="noStrike">
                <a:solidFill>
                  <a:srgbClr val="3333cc"/>
                </a:solidFill>
                <a:latin typeface="Times New Roman"/>
              </a:rPr>
              <a:t>n'avez qu‘à suivre les instructions au</a:t>
            </a:r>
            <a:br>
              <a:rPr sz="3200"/>
            </a:br>
            <a:r>
              <a:rPr b="0" lang="fr-FR" sz="3200" spc="-1" strike="noStrike">
                <a:solidFill>
                  <a:srgbClr val="3333cc"/>
                </a:solidFill>
                <a:latin typeface="Times New Roman"/>
              </a:rPr>
              <a:t>                     fur et à mesure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Times New Roman"/>
              </a:rPr>
              <a:t>                 </a:t>
            </a:r>
            <a:r>
              <a:rPr b="0" lang="fr-FR" sz="3200" spc="-1" strike="noStrike">
                <a:solidFill>
                  <a:srgbClr val="3333cc"/>
                </a:solidFill>
                <a:latin typeface="Times New Roman"/>
              </a:rPr>
              <a:t>Ne lisez surtout pas la f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Times New Roman"/>
              </a:rPr>
              <a:t>                 </a:t>
            </a:r>
            <a:r>
              <a:rPr b="0" lang="fr-FR" sz="3200" spc="-1" strike="noStrike">
                <a:solidFill>
                  <a:srgbClr val="3333cc"/>
                </a:solidFill>
                <a:latin typeface="Times New Roman"/>
              </a:rPr>
              <a:t>avant d'avoir tout calculé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oisissez d'abord le nombre de soirs p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maine où vous aimeriez aller au resto.!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ultipliez ce chiffre par deux (2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              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joutez cinq (5)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62120" y="9144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ultipliez par cinquante (50)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fr-FR" sz="3200" spc="-1" strike="noStrike">
                <a:solidFill>
                  <a:srgbClr val="3333cc"/>
                </a:solidFill>
                <a:latin typeface="Times New Roman"/>
              </a:rPr>
              <a:t>Si vous avez déjà passé votre anniversai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Times New Roman"/>
              </a:rPr>
              <a:t>                           </a:t>
            </a:r>
            <a:r>
              <a:rPr b="0" lang="fr-FR" sz="3200" spc="-1" strike="noStrike">
                <a:solidFill>
                  <a:srgbClr val="3333cc"/>
                </a:solidFill>
                <a:latin typeface="Times New Roman"/>
              </a:rPr>
              <a:t>cette année,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Times New Roman"/>
              </a:rPr>
              <a:t>Ajoutez 175</a:t>
            </a:r>
            <a:r>
              <a:rPr b="0" lang="fr-CH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fr-FR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Times New Roman"/>
              </a:rPr>
              <a:t>Sinon, Ajoutez 175</a:t>
            </a:r>
            <a:r>
              <a:rPr b="0" lang="fr-CH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fr-FR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62120" y="838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            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ernière étap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oustrayez le chiffre corresponda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à votre année de naiss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         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(ex.: 1941, 1973, etc.).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us devriez maintenant avoi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n nombre à trois chiffre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2T19:33:59Z</dcterms:created>
  <dc:creator/>
  <dc:description/>
  <dc:language>en-US</dc:language>
  <cp:lastModifiedBy>TELEBEC</cp:lastModifiedBy>
  <dcterms:modified xsi:type="dcterms:W3CDTF">2002-04-27T03:20:58Z</dcterms:modified>
  <cp:revision>14</cp:revision>
  <dc:subject/>
  <dc:title>Petit jeu</dc:title>
</cp:coreProperties>
</file>