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E80A-F47F-479C-BA30-57DFAE9E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63F-A7A0-4133-8DB4-693D5AB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7C1-77BF-4359-B7BD-7B51E0D7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56C-68E2-42CB-849E-454012BE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B9A-3F94-4B3E-BF69-6E53B528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E4F-71B4-4F90-AFBF-E7691C0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465-B067-417C-AE43-78F56C12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B57-8713-433A-A75F-D5515B04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D12-1FE9-43E4-AFAA-2F871A4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997-D80D-45E7-861C-BB93E6AF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E6D-A660-42F8-84DF-1A144E8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D0BA-B890-484B-A6AD-D43614C8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E9E-A3B5-46E0-BC9A-2B499DAF1B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uminos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8840" y="5334120"/>
            <a:ext cx="68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ff"/>
                </a:solidFill>
                <a:latin typeface="Times New Roman"/>
              </a:rPr>
              <a:t>Te souviens-tu de ton premier bais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ff"/>
                </a:solidFill>
                <a:latin typeface="Times New Roman"/>
              </a:rPr>
              <a:t>Avec la langue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522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ff"/>
                </a:solidFill>
                <a:latin typeface="Times New Roman"/>
              </a:rPr>
              <a:t>Il y a des choses dans la vie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ff"/>
                </a:solidFill>
                <a:latin typeface="Times New Roman"/>
              </a:rPr>
              <a:t>nous n’oublions jamai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2556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rstki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Je parie que tu 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t’en souvenais pas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53280" y="1641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2:14:51Z</dcterms:created>
  <dc:creator>JOAO HENRIQUE CARVALHO</dc:creator>
  <dc:description/>
  <dc:language>en-US</dc:language>
  <cp:lastModifiedBy>TELEBEC</cp:lastModifiedBy>
  <dcterms:modified xsi:type="dcterms:W3CDTF">2001-10-09T01:49:39Z</dcterms:modified>
  <cp:revision>9</cp:revision>
  <dc:subject/>
  <dc:title>Apresentação do PowerPoint</dc:title>
</cp:coreProperties>
</file>