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F15-5C66-4493-9753-24DB2061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F2A-136B-499C-BD6B-C823878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8FB-C941-4135-9008-8F3F52AF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912-057A-41C8-9A32-3B0D2242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A5F-C95B-4090-B122-4B7CD25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A9F-AEAE-4BC5-B4A6-8DDBDE1D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5E0-2C69-49C9-808D-FE526575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EB5-88FC-44C8-9BF3-5E1DA5A7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205-759C-4AED-B5A3-6265A25D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6BE-C061-4F58-8B7C-B2EC5AD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1A3-224E-4C00-81F7-E3EBABD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AC0-2B90-44F5-9600-069B0A8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C088-42C2-40D2-B6CC-BCFFAD4ED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42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7880" y="31240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0 secondes pour répondre…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ntion… top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45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4440" y="2666880"/>
            <a:ext cx="740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Une chose très utile qui mesure en géné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dans les 15 centimètr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n temps normal, je suis là, inerte, attendant l'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 trouve à l'une de mes extrémi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un buisson de poils que je porte avec arrog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48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2040" y="2743200"/>
            <a:ext cx="79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Lorsqu'on m'utilise, c'est en m'introduisant prompt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t souvent vigoureusemen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Mais il y a les adeptes d'une utilisation rapi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comme ceux d'une utilisation lent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tout dépend du tempér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t de la condition phys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51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3680" y="2666880"/>
            <a:ext cx="822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Cependant la méthode d'emploi est toujours la mêm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Des va-et-vient répétés dans une cavité chaude et humi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qui créent une très forte excitation de la zone concer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Lorsque j'ai finalement terminé mon offi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e laisse dans la cavité humide une substance blanch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moussante, collante et un peu sucr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54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2133720"/>
            <a:ext cx="7826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 retrouvera également cette sécrétion sur moi mê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t dans mes poils. Il faudra me nettoyer pour que je s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à nouveau propre en attendant mon prochain emplo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Une fois de retour a l'état de rep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'attends sagement ma prochaine utilisation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 pourrait m'utiliser 2 a 3 fois par j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mais c'est un rythme d'utilisation que pe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de personnes sont capables de soutenir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57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35800" y="320040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60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97160" y="2911320"/>
            <a:ext cx="3413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50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 …?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63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7600" y="2666880"/>
            <a:ext cx="5491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 …?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66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95280" y="2362320"/>
            <a:ext cx="71629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rush" descr=""/>
          <p:cNvPicPr/>
          <p:nvPr/>
        </p:nvPicPr>
        <p:blipFill>
          <a:blip r:embed="rId4"/>
          <a:stretch/>
        </p:blipFill>
        <p:spPr>
          <a:xfrm>
            <a:off x="2438280" y="2438280"/>
            <a:ext cx="903240" cy="3124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08200" y="2971800"/>
            <a:ext cx="45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la brosse à 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800" y="449424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( bande d’obsédés !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12:00Z</dcterms:created>
  <dc:creator>Julien Lepers</dc:creator>
  <dc:description/>
  <dc:language>en-US</dc:language>
  <cp:lastModifiedBy>TELEBEC</cp:lastModifiedBy>
  <dcterms:modified xsi:type="dcterms:W3CDTF">2001-11-20T01:31:21Z</dcterms:modified>
  <cp:revision>5</cp:revision>
  <dc:subject/>
  <dc:title>Question pour des champions</dc:title>
</cp:coreProperties>
</file>