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958-1209-4099-952B-278D1A4B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274-9CDE-441A-81A3-75AE7382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DB8-062B-42D5-8460-96FDA314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9A5-2C31-4651-8EE0-B799DF72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6DF-0C78-4FC7-AC76-1C0013A9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5B9-262A-4FA8-92D6-A733F6C1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381-D447-40D8-9EAA-42CE801D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F4C-47A0-4C01-B439-9A1089E3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E8F-0767-407C-9BEB-C271D705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4CA-72C8-4566-AAFA-5F3FBB3E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835-39A9-45AC-8479-A343B81F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35E-B640-4A6D-B888-CE5FCE3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4DB8-B299-4B7E-B22E-5EF8A49CA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762120"/>
            <a:ext cx="2819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TEST</a:t>
            </a: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057400"/>
            <a:ext cx="50292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REVELAT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05320"/>
            <a:ext cx="8153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FAITES-LE DES QUE VOUS AVEZ UN MOMENT 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2743200"/>
            <a:ext cx="5790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66"/>
                </a:solidFill>
                <a:latin typeface="Times New Roman"/>
              </a:rPr>
              <a:t>C'est fait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09680"/>
            <a:ext cx="9144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Maintenant, regardez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correspondanc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Question 1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L'ordre de votre choix va définir vos priorités dans la v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43000" y="3057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7432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Vache 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: symbolise la carriè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Tigre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 : représente la fiert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26708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Loup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 : désigne l'am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87692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Cheval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: la famil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3868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Cochon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: c'est pour l'arg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Question 2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otre description du 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chien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représente votre propre personna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Votre description du 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chat</a:t>
            </a:r>
            <a:r>
              <a:rPr b="1" lang="fr-FR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représente votre conjoint(e) ou votre personnalité de cou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50532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Votre description du 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rat</a:t>
            </a: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 symbolise la personnalité de vos enne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720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Votre description du 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café </a:t>
            </a: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montre la manière dont vous interprétez le sex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Votre description de l'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océan</a:t>
            </a: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 représente votre v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Question 3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Jaune</a:t>
            </a:r>
            <a:r>
              <a:rPr b="1" lang="fr-FR" sz="3200" spc="-1" strike="noStrike">
                <a:solidFill>
                  <a:srgbClr val="ffff66"/>
                </a:solidFill>
                <a:latin typeface="Times New Roman"/>
              </a:rPr>
              <a:t> : Une personne que vous n'oublierez jam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3623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9900"/>
                </a:solidFill>
                <a:uFillTx/>
                <a:latin typeface="Times New Roman"/>
              </a:rPr>
              <a:t>Orange</a:t>
            </a:r>
            <a:r>
              <a:rPr b="1" lang="fr-FR" sz="3200" spc="-1" strike="noStrike">
                <a:solidFill>
                  <a:srgbClr val="ff9900"/>
                </a:solidFill>
                <a:latin typeface="Times New Roman"/>
              </a:rPr>
              <a:t>: Quelqu'un que vous pouvez considérer comme un(e) très bon(ne) ami(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5812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e0000"/>
                </a:solidFill>
                <a:uFillTx/>
                <a:latin typeface="Times New Roman"/>
              </a:rPr>
              <a:t>Rouge</a:t>
            </a:r>
            <a:r>
              <a:rPr b="1" lang="fr-FR" sz="3200" spc="-1" strike="noStrike">
                <a:solidFill>
                  <a:srgbClr val="fe0000"/>
                </a:solidFill>
                <a:latin typeface="Times New Roman"/>
              </a:rPr>
              <a:t> : Quelqu'un que vous aimez réel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nc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: Votre âme 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486400"/>
            <a:ext cx="891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ff00"/>
                </a:solidFill>
                <a:uFillTx/>
                <a:latin typeface="Times New Roman"/>
              </a:rPr>
              <a:t>Vert </a:t>
            </a:r>
            <a:r>
              <a:rPr b="1" lang="fr-FR" sz="3200" spc="-1" strike="noStrike">
                <a:solidFill>
                  <a:srgbClr val="00ff00"/>
                </a:solidFill>
                <a:latin typeface="Times New Roman"/>
              </a:rPr>
              <a:t>: Quelqu'un dont vous vous rappellerez toute votre 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838080"/>
            <a:ext cx="83818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Envoyez ce mess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à autant de personn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que votre nombre favori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et votre souhait se réalisera lors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votre jour préfér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'est ce que le Dalaï Lama a dit pour le Millénaire, et ça ne prend que</a:t>
            </a:r>
            <a:br>
              <a:rPr sz="2400"/>
            </a:b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quelques minutes pour le lire et y pens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Ne gardez pas ce message, le"mantra" doit quitter vos mains. Vous aurez</a:t>
            </a:r>
            <a:br>
              <a:rPr sz="2400"/>
            </a:b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une belle surpris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Envoyez ce "mantra" e-mail, et votre vie va changer favorablement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0-4 personne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: Votre vie va tout doucement évoluer.</a:t>
            </a:r>
            <a:br>
              <a:rPr sz="2400"/>
            </a:b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5-9 personne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: La vie va changer selon vos propres besoins.</a:t>
            </a:r>
            <a:br>
              <a:rPr sz="2400"/>
            </a:b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9-14 personne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: Vous aurez au moins 5 bonnes surprises dans les 3</a:t>
            </a:r>
            <a:br>
              <a:rPr sz="2400"/>
            </a:b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semaines.</a:t>
            </a:r>
            <a:br>
              <a:rPr sz="2400"/>
            </a:b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15 ou plu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: Votre vie va complètement changer et tout ce dont vous rêvez va devenir réalité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"</a:t>
            </a:r>
            <a:r>
              <a:rPr b="1" i="1" lang="fr-FR" sz="2400" spc="-1" strike="noStrike">
                <a:solidFill>
                  <a:srgbClr val="ffff66"/>
                </a:solidFill>
                <a:latin typeface="Times New Roman"/>
              </a:rPr>
              <a:t>Si quelqu'un ne te sourit pas, sois généreux et offre ton sourire.</a:t>
            </a:r>
            <a:br>
              <a:rPr sz="2400"/>
            </a:br>
            <a:r>
              <a:rPr b="1" i="1" lang="fr-FR" sz="2400" spc="-1" strike="noStrike">
                <a:solidFill>
                  <a:srgbClr val="ffff66"/>
                </a:solidFill>
                <a:latin typeface="Times New Roman"/>
              </a:rPr>
              <a:t>Personne n'a plus besoin d'un sourire que celui qui ne peut sourire aux aut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Le test de personnalité du Dalaî Lama est un test très révélateur. Il n'a</a:t>
            </a:r>
            <a:br>
              <a:rPr sz="4400"/>
            </a:b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que 4 questions, mais vous serez surpris(e) par les résultats 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L'esprit d'un humain est comme 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parapluie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il travaille mie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lorsqu'il est ouvert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suivez les instructions et amusez-vous avec ces 4 questions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90512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66cc"/>
                </a:solidFill>
                <a:latin typeface="Times New Roman"/>
              </a:rPr>
              <a:t>TOUT D'ABORD, FAIT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66cc"/>
                </a:solidFill>
                <a:latin typeface="Times New Roman"/>
              </a:rPr>
              <a:t>UN VOE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66cc"/>
                </a:solidFill>
                <a:latin typeface="Times New Roman"/>
              </a:rPr>
              <a:t>AVANT DE COMMENCER CE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5720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cc"/>
                </a:solidFill>
                <a:latin typeface="Times New Roman"/>
              </a:rPr>
              <a:t>Attention, répondez aux questions une à une</a:t>
            </a:r>
            <a:r>
              <a:rPr b="0" lang="fr-FR" sz="2400" spc="-1" strike="noStrike">
                <a:solidFill>
                  <a:srgbClr val="ff66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67652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cc"/>
                </a:solidFill>
                <a:latin typeface="Times New Roman"/>
              </a:rPr>
              <a:t>Ne trichez pas, sinon cela ne marchera pas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17880"/>
            <a:ext cx="9144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cc"/>
                </a:solidFill>
                <a:latin typeface="Times New Roman"/>
              </a:rPr>
              <a:t>C'est un questionnaire sérieux qui vous en dira beaucoup sur votre</a:t>
            </a:r>
            <a:br>
              <a:rPr sz="3200"/>
            </a:br>
            <a:r>
              <a:rPr b="1" lang="fr-FR" sz="3200" spc="-1" strike="noStrike">
                <a:solidFill>
                  <a:srgbClr val="ff66cc"/>
                </a:solidFill>
                <a:latin typeface="Times New Roman"/>
              </a:rPr>
              <a:t>personna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100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Écrivez les réponses sur du papier au fur et à me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Premièrement, classez ces animaux par ordre croissant selon votre préférence</a:t>
            </a:r>
            <a:r>
              <a:rPr b="1" lang="fr-FR" sz="3200" spc="-1" strike="noStrike">
                <a:solidFill>
                  <a:srgbClr val="ff99cc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Va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97180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Tig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34340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L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44197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he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53341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och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"/>
            <a:ext cx="9144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Deuxièmement, écrivez un qualificatif correspondant à chacun des mots</a:t>
            </a:r>
            <a:br>
              <a:rPr sz="3200"/>
            </a:b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suiv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0481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hi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64832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h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297180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R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441972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af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6483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Océ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Troisièmement, pensez à quelqu'un                        (qui vous connaît aussi et qui est</a:t>
            </a:r>
            <a:br>
              <a:rPr sz="3200"/>
            </a:b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important à vos yeux)                                                et que vous pouvez lier avec les couleurs suivantes</a:t>
            </a:r>
            <a:br>
              <a:rPr sz="3200"/>
            </a:b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(Une personne par couleur)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426708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Jau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25780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25780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Times New Roman"/>
              </a:rPr>
              <a:t>Rou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11480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Blan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335268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00"/>
                </a:solidFill>
                <a:latin typeface="Times New Roman"/>
              </a:rPr>
              <a:t>V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438280"/>
            <a:ext cx="9144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37df1"/>
                </a:solidFill>
                <a:latin typeface="Times New Roman"/>
              </a:rPr>
              <a:t>Enfin, écrivez votre nombre favori, ainsi que votre jour préféré de la sema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9:04:56Z</dcterms:created>
  <dc:creator>Norby</dc:creator>
  <dc:description/>
  <dc:language>en-US</dc:language>
  <cp:lastModifiedBy>TELEBEC</cp:lastModifiedBy>
  <dcterms:modified xsi:type="dcterms:W3CDTF">2002-02-28T02:46:21Z</dcterms:modified>
  <cp:revision>4</cp:revision>
  <dc:subject/>
  <dc:title>Présentation PowerPoint</dc:title>
</cp:coreProperties>
</file>