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663-AE7E-4FB1-B431-0A23640F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499-5185-4D9B-9CF7-6F53219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233-FED7-4EA5-A1C3-785F8311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ED9-4FBC-45F3-952C-6E4A737F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461-C68E-45D6-A84D-74822391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334-A0D6-41FE-82FF-2D092B98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B6F-18C3-4FB8-85DD-2650B8C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239-7DBD-473B-A6AE-848427E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0F2-3699-40C7-B227-6EE423FC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BC7-4942-4F6F-8A93-F694AAD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DCE-4449-41CF-B8CD-A27A089B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140-5092-48F4-87CE-58773A3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837-E0AE-4332-B865-4807AF6A4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943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TRADUIT PA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IERRE CLÉR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rom "The Little Book of Calm" written by Paul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49860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N VRAI 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380880"/>
            <a:ext cx="5495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'IMPORTE QUI PEUT ETRE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VOS COTÉ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5867280"/>
            <a:ext cx="3848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AND CA VA BIE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038480" y="228600"/>
            <a:ext cx="36385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IS UN VRAI AM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A PRÉS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6019920"/>
            <a:ext cx="7581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RSQUE VOUS SEREZ TOUT CROCH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7400" y="5562720"/>
            <a:ext cx="6858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L AGIT COMME UN INVIT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228600"/>
            <a:ext cx="6667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RSQU'UN SIMPLE AM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OUS VISIT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76840" y="0"/>
            <a:ext cx="526716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 VÉRITABLE AMI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RA À L'AISE CHEZ VOUS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724280"/>
            <a:ext cx="53337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T SE SERVIRA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UI MEME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228600"/>
            <a:ext cx="51055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 SIMPLE AMI VOUDRA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5410080"/>
            <a:ext cx="5981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VOUS SOYEZ TOUJOUR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À POUR LUI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0" y="380880"/>
            <a:ext cx="4191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UN VÉRITABLE AMI SER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791320"/>
            <a:ext cx="4905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OUJOURS LÀ POUR VO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67080" y="22860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ORS POURQUOI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 PAS DIRE A VOS AMIS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76520" y="48006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BIEN VOUS LES AIMÉ ET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'ILS VOUS MANQUENT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76720" y="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 GRO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ALIN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Image1" descr=""/>
          <p:cNvPicPr/>
          <p:nvPr/>
        </p:nvPicPr>
        <p:blipFill>
          <a:blip r:embed="rId2"/>
          <a:stretch/>
        </p:blipFill>
        <p:spPr>
          <a:xfrm>
            <a:off x="7467480" y="53593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09:53:33Z</dcterms:created>
  <dc:creator>Ronald @ Prontot</dc:creator>
  <dc:description/>
  <dc:language>en-US</dc:language>
  <cp:lastModifiedBy>TELEBEC</cp:lastModifiedBy>
  <dcterms:modified xsi:type="dcterms:W3CDTF">2001-11-20T01:22:50Z</dcterms:modified>
  <cp:revision>6</cp:revision>
  <dc:subject/>
  <dc:title>No Slide Title</dc:title>
</cp:coreProperties>
</file>