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7545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B43-273E-4A02-975E-486A0C57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332-7B51-4B42-93CE-C520E62B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A27-FD0E-46D2-9C7E-87B1A0F8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AE2-FA51-432F-BD05-BC628921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CB4-9D7E-48D6-BA0A-EB9D025D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56D-C501-4831-A8A1-459F27E7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F10-F1BF-478C-B365-F9B3CC8A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AD8-335B-414A-A399-8871E187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412-6343-4ADB-859F-6BB389F1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2DB-92B2-454D-8949-2BE8DE0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2A9-FFDC-4487-AFD8-7C157C98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996-BADD-4AF7-939E-669DB8B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E059-9BF6-4171-8EF9-A6919CDFD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1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3629160" cy="4800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2" name="ESTERHAZ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3353040" cy="227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GEBHAUS1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3353040" cy="1904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105520" y="5410080"/>
            <a:ext cx="3352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aydns Geburtsha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3124080"/>
            <a:ext cx="3352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Schloss </a:t>
            </a:r>
            <a:r>
              <a:rPr b="1" lang="de-AT" sz="1500" spc="-1" strike="noStrike">
                <a:solidFill>
                  <a:srgbClr val="000000"/>
                </a:solidFill>
                <a:latin typeface="Times New Roman"/>
              </a:rPr>
              <a:t>Esterház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2T18:57:39Z</dcterms:created>
  <dc:creator>Andreas Lindinger</dc:creator>
  <dc:description/>
  <dc:language>en-US</dc:language>
  <cp:lastModifiedBy>Andreas Lindinger</cp:lastModifiedBy>
  <cp:lastPrinted>1999-01-22T19:04:28Z</cp:lastPrinted>
  <dcterms:modified xsi:type="dcterms:W3CDTF">1999-01-22T19:13:27Z</dcterms:modified>
  <cp:revision>2</cp:revision>
  <dc:subject/>
  <dc:title>Kein Folientitel</dc:title>
</cp:coreProperties>
</file>