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2D5-9087-439F-943B-0C7E3436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6AD-FD7F-4295-A674-2FBBB6D3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DF0-012A-4A45-89E4-8D6EB010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EB4-69FE-48EE-B628-9C57CACC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529-A597-4903-A74B-AA336531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0FA-5E47-4D5D-9D42-1A946CEE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010-8C23-4D05-88E1-6C5F5198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85C-62C9-4F3A-BD2C-8E1AFCB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E97-97D4-4D7F-941C-B082CAC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CC6-3812-4BF9-A154-DF71F2B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E16-9C6F-496C-B1C2-C0AFEE7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081-93BD-4580-880B-38606A2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F0C-0F1C-4B08-8E37-C79301D9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 H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y.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ed from Medical Ward to Psychiatric Ward 4 day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orbid 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tal State Exa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essed neatly, good 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o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d and A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depressed subj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lunted affec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Poverty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Rate and volume decr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Monoto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Relevant and 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No spontaneous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ic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ersecutory de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uditory hallucination (she refused to talk about the exper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ic symptoms: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gnitive Examination: could not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brain and LP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cute transient psychotic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ic fea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uditory halluc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elusion of pers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uration: 1 week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bsence of organic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epressive Psych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ve sympto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w m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somnia with early morning 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creased ap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unknown du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fore cannot make the dx of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days ago: conflict with family members on minor affai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away from home and stayed outside for 3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memories, couldn’t recor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ted to medical ward one week before because of diffused type of head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consciousness of unknown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istory of head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ert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ausea,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mu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mood ( unknown du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omnia with early morning wa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p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ed by and followed by g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voices of gh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 Psychiatric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mark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orensic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icidal attempt or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mark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ily H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with her husband, 2 children, mother and s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: 15y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ughter: 12y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Psychiatric History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and raised in Thai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 to Hong Kong in 19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: Primar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al History: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drinker non-smoker, no hx of 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H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er: quitted recently for unknown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job: textile factory wo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9:23:42Z</dcterms:created>
  <dc:creator>Faculty of Medicine</dc:creator>
  <dc:description/>
  <dc:language>en-US</dc:language>
  <cp:lastModifiedBy>student</cp:lastModifiedBy>
  <dcterms:modified xsi:type="dcterms:W3CDTF">2001-12-14T04:56:55Z</dcterms:modified>
  <cp:revision>22</cp:revision>
  <dc:subject/>
  <dc:title>PowerPoint Presentation</dc:title>
</cp:coreProperties>
</file>