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A4B-23D7-4531-9F14-66C00BDA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D33-E2BB-450E-A09D-F80493E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7E0-3EC1-4073-8CEE-EF4E1969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DCC-1F9A-47E2-87B3-71DDC127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084-72C5-472F-87A0-46370F7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E3B-C3E8-4BC1-869B-381351B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D1-9EDE-4C79-A7E9-9591CF6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B04-FD29-4227-AB95-F5CFEFC6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ED1-B66A-4CC3-A2EB-C704916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1E5-24C8-4AF2-8778-CD541BE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81A-B7B5-45A9-9488-E3A1C5F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862-3E55-41BA-86F3-28032B1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7F9-F31C-4EAF-8349-6FEF532A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leheet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 (XS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51F-6C71-4B43-B636-8B42B22949C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table shows the syntax that you will most commonly use i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@exchange='nyse'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number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ock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/stock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9480" y="3581280"/>
            <a:ext cx="7467480" cy="2133000"/>
            <a:chOff x="609480" y="3581280"/>
            <a:chExt cx="7467480" cy="2133000"/>
          </a:xfrm>
        </p:grpSpPr>
        <p:sp>
          <p:nvSpPr>
            <p:cNvPr id="110" name=""/>
            <p:cNvSpPr/>
            <p:nvPr/>
          </p:nvSpPr>
          <p:spPr>
            <a:xfrm>
              <a:off x="609480" y="3581280"/>
              <a:ext cx="746748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80" y="4008240"/>
              <a:ext cx="7467480" cy="42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4434480"/>
              <a:ext cx="7467480" cy="42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4861080"/>
              <a:ext cx="7467480" cy="42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5288040"/>
              <a:ext cx="7467480" cy="42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1FF-4FC3-4D30-8FEE-1BCFA41A77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Pattern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examples of patt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/section[last()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doc/chapter[0]/section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[@author="mw"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what these example repres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all last sections in ch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 3 in Chapter 1 in a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ctions authored by "mw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3A7-1890-4918-A6B5-DD7F5EFB8C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tree is constru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ying the template rule for the root node, and instantiating the 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usually triggers further template rules, which when instantiated trigge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ollowing transformation algorithm, the tree is cre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tera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622-EC8A-451D-B120-1F14483D20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ny given time, there is a lis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rce no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und by matching a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5029200"/>
            <a:ext cx="99072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029200"/>
            <a:ext cx="99072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029200"/>
            <a:ext cx="990720" cy="4572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3240" y="30481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5320" y="39625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74200" y="39625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71000" y="39625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6560" y="5029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5520" y="5029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57880" y="50133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90840" y="5029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2560" y="5029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47760" y="3505320"/>
            <a:ext cx="1523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505320"/>
            <a:ext cx="13716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61960" y="434340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34340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4343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62720" y="42670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26708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4880" y="5715000"/>
            <a:ext cx="27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: Root//Chil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5CB-7E45-40A7-A89A-91F2C5B155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ist of source nodes defines th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ich the template associated with the pattern is appl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node in the context, a fragment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ul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structed by instantiating the template associated with the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583-8C25-4C0F-A14D-9C0DCBA0E0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rse, new source nodes will be added to the list, usually by applying other templates (e.g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-templ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nsformation comes to an end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 furth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in the source document can be matched against any of the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B72-0CF5-4B64-BD56-B1B1E880BD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style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once for every XSL stylesheet and is the root node of every style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space URL refers to the actual XSL standard and cannot be pro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42120" y="3260880"/>
            <a:ext cx="43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stylesheet xmlns:xsl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"http://www.w3.org/TR/WD-xs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751-2F91-492F-9E63-17E49EC314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present a template in which transformation actions are specified. Each stylesheet contains at least one of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: defines the context of the template, ie, where the template should be applied. The value of this attribute is a path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8200" y="563868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template match= "portfolio/stock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F96C-DD30-4043-9777-9A38D7BE41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sert the text value of the node indicated by the path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: defines the path expression whose value is to be entered in the current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0400" y="468000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value-of select="symbo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242-EEF2-4049-BB56-A46C890AAE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for-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et up a loop in which the same template is applied against multiple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: defines the path expression whose value is to be run through the 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5920" y="4632480"/>
            <a:ext cx="63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for-each select= "stock[@exchange='nasdaq']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826-746E-46B9-B59D-8C77539904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tylesheet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sheets conta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mpl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describe how to present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tylesheets the same document can be presented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sheets are expressed in XML syntax,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a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efine formatt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AAC-0008-4B97-BBC6-6F5DD998DA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make part of the formatting optional, and instantiated only when a certain condition is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: condition to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8120" y="46483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if test="position() = 0"&gt; … &lt;/xsl:i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F15-2BDF-4CA4-9599-EC5FFC6F6E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apply-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voke the application of other templates as specified by the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: defines the template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63000" y="4403880"/>
            <a:ext cx="57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apply-templates select="portfolio/stock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51B-F3E6-4ECE-9485-739E832CFD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:element &amp; xsl: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s a new element (attribute) in the result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: name of the new element (attribu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69120" y="4251240"/>
            <a:ext cx="3632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element name="a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attribute name="href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&lt;xsl:value-of="@href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xsl:attribut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xsl: element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F99-EA25-4C39-B1BC-D058317AC4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 or Pull?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-dr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odel is referred to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is model if your data is ir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is a news clip where each element (e.g. author, title, date) is generally used only once and may need to be formatted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-pull.xsl, portfolio-pull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3C3-679F-413D-A33D-F2B752AEDF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 or Pull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late-driven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red to as 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this model if your data is 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is a phone directory where a repetitive structure (name, number etc.) is used to represent directory the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-push.xsl, portfolio-push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615-8F33-47F8-8A74-677DE15862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 stylesheets are used for two purpo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 XML documents into other formats (e.g. posting a document as HTML, RTF, or spe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e the information in XML documents (e.g. perform searches, apply filters, add in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1E6-992B-4F47-A216-0C70F32D3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-Side XS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ide XSL takes advantage of the computing power on the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ient performs processing separately from the server (even custom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 of the data can be created on the client without taxing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ttractive as this model is, the majority of browsers are not XML-en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48A-9AD5-41E9-AD0F-2C7D6C1852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-Side XS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69560" y="2590920"/>
            <a:ext cx="6923880" cy="2852280"/>
            <a:chOff x="1069560" y="2590920"/>
            <a:chExt cx="6923880" cy="2852280"/>
          </a:xfrm>
        </p:grpSpPr>
        <p:graphicFrame>
          <p:nvGraphicFramePr>
            <p:cNvPr id="51" name=""/>
            <p:cNvGraphicFramePr/>
            <p:nvPr/>
          </p:nvGraphicFramePr>
          <p:xfrm>
            <a:off x="1649880" y="2590920"/>
            <a:ext cx="961560" cy="157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49880" y="2590920"/>
                      <a:ext cx="961560" cy="157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3" name=""/>
            <p:cNvGrpSpPr/>
            <p:nvPr/>
          </p:nvGrpSpPr>
          <p:grpSpPr>
            <a:xfrm>
              <a:off x="6986160" y="2949120"/>
              <a:ext cx="762120" cy="1909800"/>
              <a:chOff x="6986160" y="2949120"/>
              <a:chExt cx="762120" cy="1909800"/>
            </a:xfrm>
          </p:grpSpPr>
          <p:sp>
            <p:nvSpPr>
              <p:cNvPr id="54" name=""/>
              <p:cNvSpPr/>
              <p:nvPr/>
            </p:nvSpPr>
            <p:spPr>
              <a:xfrm>
                <a:off x="6986160" y="2949120"/>
                <a:ext cx="762120" cy="1909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203600" y="3331080"/>
                <a:ext cx="32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9452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20360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1268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42140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3048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9560" y="4349520"/>
                <a:ext cx="0" cy="25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372200" y="4262400"/>
              <a:ext cx="1089000" cy="955080"/>
            </a:xfrm>
            <a:prstGeom prst="flowChartDocumen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72200" y="2709720"/>
              <a:ext cx="1089000" cy="955440"/>
            </a:xfrm>
            <a:prstGeom prst="flowChartDocumen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114600" y="3904200"/>
              <a:ext cx="87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14960" y="3067920"/>
              <a:ext cx="0" cy="83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114960" y="3904200"/>
              <a:ext cx="0" cy="83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5461200" y="4740480"/>
              <a:ext cx="6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461200" y="3067920"/>
              <a:ext cx="6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629800" y="3067920"/>
              <a:ext cx="174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718440" y="4740480"/>
              <a:ext cx="65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718800" y="3067560"/>
              <a:ext cx="0" cy="167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41360" y="51058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9560" y="3859560"/>
              <a:ext cx="21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-enabled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2A7-2183-4E5F-8BF6-745CBDEAC0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-Side XSL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model the conversion of XML to HTML takes place on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an average exchange between client and server will be smaller, the exchanges will likely be more fre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the client wants a different view of the data, the server needs to generate another Web page and send it to the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7B2-02BF-43BD-BAE5-D18736699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-Side XS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02680" y="2133720"/>
            <a:ext cx="8255160" cy="2971080"/>
            <a:chOff x="202680" y="2133720"/>
            <a:chExt cx="8255160" cy="2971080"/>
          </a:xfrm>
        </p:grpSpPr>
        <p:graphicFrame>
          <p:nvGraphicFramePr>
            <p:cNvPr id="78" name=""/>
            <p:cNvGraphicFramePr/>
            <p:nvPr/>
          </p:nvGraphicFramePr>
          <p:xfrm>
            <a:off x="697320" y="2381040"/>
            <a:ext cx="917280" cy="163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7320" y="2381040"/>
                      <a:ext cx="91728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0" name=""/>
            <p:cNvGrpSpPr/>
            <p:nvPr/>
          </p:nvGrpSpPr>
          <p:grpSpPr>
            <a:xfrm>
              <a:off x="4096440" y="2133720"/>
              <a:ext cx="726480" cy="1980000"/>
              <a:chOff x="4096440" y="2133720"/>
              <a:chExt cx="726480" cy="1980000"/>
            </a:xfrm>
          </p:grpSpPr>
          <p:sp>
            <p:nvSpPr>
              <p:cNvPr id="81" name=""/>
              <p:cNvSpPr/>
              <p:nvPr/>
            </p:nvSpPr>
            <p:spPr>
              <a:xfrm>
                <a:off x="4096440" y="2133720"/>
                <a:ext cx="726480" cy="19800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03800" y="2529720"/>
                <a:ext cx="311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19976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0380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0784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1152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1556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19600" y="3585240"/>
                <a:ext cx="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654160" y="4114080"/>
              <a:ext cx="1038600" cy="990720"/>
            </a:xfrm>
            <a:prstGeom prst="flowChartDocumen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19240" y="2504880"/>
              <a:ext cx="1038600" cy="990000"/>
            </a:xfrm>
            <a:prstGeom prst="flowChartDocumen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796080" y="2999880"/>
              <a:ext cx="62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23640" y="2999880"/>
              <a:ext cx="72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368880" y="299988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0040" y="419184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2680" y="36964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-only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50120" y="2504880"/>
              <a:ext cx="1245960" cy="86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S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173280" y="3371040"/>
              <a:ext cx="0" cy="74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31360" y="2504880"/>
              <a:ext cx="1037880" cy="990000"/>
            </a:xfrm>
            <a:prstGeom prst="flowChartDocumen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603800" y="2999880"/>
              <a:ext cx="726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4A2C-8D92-45E9-A4AA-2085435FCC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5920" y="1828800"/>
            <a:ext cx="72327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how to present the data contained in an XML docu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mplate has tw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are matched against nodes in the source documen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can be instantiated to form part of the result documen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E9E-B5F1-428F-B6E4-7111CCB472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template rule presents a portfolio element as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rule selects stocks on the NSYE and shows their content in a table 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533520"/>
            <a:ext cx="457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9360" y="2803680"/>
            <a:ext cx="48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template match="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rtfoli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&lt;table&gt;&lt;xsl:apply-templates/&gt;&lt;/table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8240" y="5013360"/>
            <a:ext cx="722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xsl:template match="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rtfolio/stock[@exchange='nyse'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&lt;tr&gt;&lt;xsl:apply-templates/&gt;&lt;/tr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xsl:template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S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DFA-4B1B-4638-9285-FFA2362BD7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5.205 Winter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5T01:05:50Z</dcterms:created>
  <dc:creator>Michael Weiss</dc:creator>
  <dc:description/>
  <dc:language>en-US</dc:language>
  <cp:lastModifiedBy>Michael Weiss</cp:lastModifiedBy>
  <dcterms:modified xsi:type="dcterms:W3CDTF">2001-03-28T19:07:34Z</dcterms:modified>
  <cp:revision>54</cp:revision>
  <dc:subject/>
  <dc:title>eXtensible Markup Language (XML)</dc:title>
</cp:coreProperties>
</file>