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862520" y="4573440"/>
            <a:ext cx="2913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2f342"/>
                </a:solidFill>
                <a:latin typeface="Arial"/>
              </a:rPr>
              <a:t>If your cow sounds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2f342"/>
                </a:solidFill>
                <a:latin typeface="Arial"/>
              </a:rPr>
              <a:t>may we suggest the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17280" y="4549680"/>
            <a:ext cx="2795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33"/>
                </a:solidFill>
                <a:latin typeface="Arial"/>
              </a:rPr>
              <a:t>If your cow soun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33"/>
                </a:solidFill>
                <a:latin typeface="Arial"/>
              </a:rPr>
              <a:t>then fire up the barbec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52680" y="2533680"/>
            <a:ext cx="1814400" cy="179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95880" y="2533680"/>
            <a:ext cx="182736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195720" y="5025960"/>
          <a:ext cx="293760" cy="2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5720" y="5025960"/>
                    <a:ext cx="2937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940360" y="5025960"/>
          <a:ext cx="293760" cy="29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5025960"/>
                    <a:ext cx="2937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205640" y="457200"/>
            <a:ext cx="65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33"/>
                </a:solidFill>
                <a:latin typeface="Comic Sans MS"/>
              </a:rPr>
              <a:t>Public Service Announ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120" y="1585800"/>
            <a:ext cx="742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How to identify if your cow has mad cows diseas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8T11:42:52Z</dcterms:created>
  <dc:creator>Steven M. Sokol</dc:creator>
  <dc:description/>
  <dc:language>en-US</dc:language>
  <cp:lastModifiedBy>STELLA VIGONI</cp:lastModifiedBy>
  <cp:lastPrinted>31138-05-05T23:48:42Z</cp:lastPrinted>
  <dcterms:modified xsi:type="dcterms:W3CDTF">1999-03-16T08:29:57Z</dcterms:modified>
  <cp:revision>3</cp:revision>
  <dc:subject/>
  <dc:title>No Slide Title</dc:title>
</cp:coreProperties>
</file>