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E53-0FA8-4BEC-A803-6D77A7E0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BD8-4210-4CA1-91A4-F333E73A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5BC-D190-454A-8BA8-0A7B09A6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C24-C54B-4463-BC38-70C94B29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ED4E-61C1-48AD-9503-FF6DA32D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A8CF-36D7-4B6C-9D5A-0D5B8ECE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BCA-8BEC-43E5-AC40-3D52A6F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7663-8B26-4FDC-8766-ACD2999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13F-A710-436C-BC25-715A62CB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93F1-7463-4A4B-8836-7402759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F8DA-77D7-479F-8750-2C135EF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6AD-24F3-4564-977B-D85EE6B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2F33-91D9-4285-BEB8-77ED58E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2D3-C437-4749-BA74-84BB81E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8A0-AC86-4ABD-92B9-E9099245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A72-6F19-4FE4-8C53-4380CDBF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26B4-6964-4873-B6F2-85E2D817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93C-8319-48D2-BB42-D699014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76F-8799-42C5-A36C-ECC1D98B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775-D0C5-4A29-818C-2ACE2C6C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4E5-6AE4-4245-9133-4E69CBDB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A84-C1AA-4805-92EF-6CB06A7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E74-0143-4767-B0A0-CC7C7A2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E5B-CA3F-4942-9FC7-31EDFCF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F5F-03D0-489E-AFEE-868492D19BA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58AE-3BF4-4F09-8185-75B0A97B6F6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Cha Ch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0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Riya, Shiine, Popy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heerful and loves to pla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fraid of mic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1905120"/>
          <a:ext cx="380988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38098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92280" y="1981080"/>
          <a:ext cx="32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32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 bal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uper strong bo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erewolf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04800" y="1981080"/>
          <a:ext cx="3389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981080"/>
                    <a:ext cx="3389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household chor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Good at materializing  firebal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28640" y="1981080"/>
          <a:ext cx="3141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981080"/>
                    <a:ext cx="3141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Ma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Yakk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Cha Cha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Mermai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22520"/>
          <a:ext cx="381024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22520"/>
                    <a:ext cx="381024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Yakk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Orin, Ma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Cha Ch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Good in making potion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133720"/>
          <a:ext cx="3810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3810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O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0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Yakko, Cha Cha, and more…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 people who also like Shiine ^_^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 ninja gir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89040" y="1981080"/>
          <a:ext cx="322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1981080"/>
                    <a:ext cx="322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golden-hair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pink-hair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orld’s greatest magicia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a doll named Elizabeth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71760" y="1981080"/>
          <a:ext cx="325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981080"/>
                    <a:ext cx="325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a temper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eally violent woma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anted to be the world’s greatest magician since she was a chil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50880" y="1981080"/>
          <a:ext cx="3297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981080"/>
                    <a:ext cx="329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Riya,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nrolled in Urara Gakuen when the gang were in grade 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ESP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ve lollipop-like markings at his cheek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2T04:04:40Z</dcterms:created>
  <dc:creator>Robert Roy</dc:creator>
  <dc:description/>
  <dc:language>en-US</dc:language>
  <cp:lastModifiedBy>Vincent Tan</cp:lastModifiedBy>
  <dcterms:modified xsi:type="dcterms:W3CDTF">1993-12-02T12:02:53Z</dcterms:modified>
  <cp:revision>6</cp:revision>
  <dc:subject/>
  <dc:title>Useless Inventions</dc:title>
</cp:coreProperties>
</file>